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notesSlide19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4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02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60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141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63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4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32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20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3.xml.rels" ContentType="application/vnd.openxmlformats-package.relationships+xml"/>
  <Override PartName="/ppt/slides/_rels/slide1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9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1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</p:sldIdLst>
  <p:sldSz cx="9144000" cy="6858000"/>
  <p:notesSz cx="91440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98D7-EE6B-4685-81B6-334993604CAD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8112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A9BA-1FD7-4559-A120-461E7D7FA4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4080" y="66056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396FC7-A12F-4C91-947D-DF363B07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4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2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2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3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7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4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2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4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6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9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0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0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2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3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3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8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4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4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5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7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7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8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8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8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9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1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9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0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AFB-8AE2-4DB1-9666-0201C16A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6C6-369B-49CF-9237-4C82129A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6BA-E361-4A1D-9889-F31E74B6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D79-C4FD-4FF7-ABCB-A9477D3D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25A-C025-43F5-A9B3-15167613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4D5-0BB8-4B7A-B4EE-EBD5C06E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2E5-E914-4F65-9A87-EAD937DA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246-91CA-4575-AF5D-28FE3969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76320"/>
            <a:ext cx="7086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452-8B49-45D6-8C4D-84124284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3BE-602A-4C1C-9C91-ED1FC6E3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244-9901-4A04-8514-A5FA4147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1F1-0583-4F4F-8A66-385662B3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180D-1B2E-4978-98D0-A5557B55AC9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581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C45B-E93A-4A8E-8452-9E161CD4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slideLayout" Target="../slideLayouts/slideLayout3.xml"/><Relationship Id="rId5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3.xml"/><Relationship Id="rId7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2.wmf"/><Relationship Id="rId85" Type="http://schemas.openxmlformats.org/officeDocument/2006/relationships/slideLayout" Target="../slideLayouts/slideLayout3.xml"/><Relationship Id="rId8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914400"/>
            <a:ext cx="72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71600" y="34909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3360" y="1128600"/>
          <a:ext cx="47124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1128600"/>
                    <a:ext cx="4712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343400" y="128124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AURO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9360" y="32767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1360" y="1371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0400" y="24382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438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99520" y="32544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672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1225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atter Produc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238880" y="234000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2340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341784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2438280"/>
            <a:ext cx="1904760" cy="5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306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il-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5800" y="22240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8880" y="344016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34401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238880" y="451800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518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81120" y="3962160"/>
            <a:ext cx="21337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3876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6160" y="321480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800" y="41911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387-9A69-4CC6-A0B4-8C7E942704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C96B7-E1C9-48BE-955E-3B8F66A39DFE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50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Corpor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4510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38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1600200"/>
            <a:ext cx="182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mbauersville, PA (Sul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81080" y="508320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83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921360" y="507528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1360" y="5075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2096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981080" y="545616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56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6934320" y="54561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4561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V="1">
            <a:off x="2209680" y="5333760"/>
            <a:ext cx="1676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4572000"/>
            <a:ext cx="15238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38320" y="3962520"/>
            <a:ext cx="12956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981080" y="167652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76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209680" y="358128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209680" y="4419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9720" y="4952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23880" y="4221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9360" y="5288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9600" y="44956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981080" y="4724280"/>
          <a:ext cx="24156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934320" y="38782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878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6310080" y="3763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152388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23880" y="3429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24600" y="4572000"/>
            <a:ext cx="53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9600" y="34290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505320" y="3124080"/>
          <a:ext cx="2286000" cy="29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1240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204080" y="4251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412920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808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te City, OR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457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54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ring River, NC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209680" y="5029200"/>
            <a:ext cx="16002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81680" y="4191120"/>
          <a:ext cx="470160" cy="17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41911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781680" y="4572000"/>
          <a:ext cx="470160" cy="17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457200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195960" y="4114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3280" y="121932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419720" y="1676520"/>
          <a:ext cx="469800" cy="17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6765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648320" y="1828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960" y="24526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18288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213372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is, France (CS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769080" y="213372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69080" y="21337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 flipH="1">
            <a:off x="2209320" y="1752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769080" y="1122480"/>
          <a:ext cx="46980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9080" y="1122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6164280" y="99072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24 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5181480" y="990720"/>
          <a:ext cx="1219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9907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5334480" y="10587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181480" y="1981080"/>
          <a:ext cx="1219320" cy="609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81480" y="19810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4480" y="2049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24480" y="2209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800600" y="1294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10666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 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92680" y="182880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 (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08440" y="1295280"/>
            <a:ext cx="5493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388620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886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921360" y="3110040"/>
          <a:ext cx="24156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21360" y="3110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7238880" y="30481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San Francisco, CA (As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84520" y="3078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32004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880" y="4967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662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396252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638320" y="42670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3062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320040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24240" y="3048120"/>
            <a:ext cx="55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968480" y="3103560"/>
          <a:ext cx="469800" cy="173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68480" y="310356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6934320" y="3535200"/>
          <a:ext cx="24120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35352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flipH="1">
            <a:off x="5562720" y="3581280"/>
            <a:ext cx="1371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333760" y="5257440"/>
            <a:ext cx="1600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9960" y="5211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4520" y="4906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562720" y="5029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81080" y="3484440"/>
          <a:ext cx="470160" cy="173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3484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981080" y="4267080"/>
          <a:ext cx="470160" cy="17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26708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76320" y="34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 (B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4205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 (Quartz Int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9720" y="38098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981080" y="5770440"/>
          <a:ext cx="47016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981080" y="5770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76320" y="57294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 (SGT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9720" y="55926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2320" y="5562720"/>
            <a:ext cx="16761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12C-8D7E-41F4-9113-FC4878DDC5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5773A-4D58-4DD8-9A04-B20E61CDC92E}" type="datetime1">
              <a:rPr lang="en-US"/>
              <a:t>07/29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0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29760" y="5113440"/>
            <a:ext cx="112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ANSAS_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44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7450920" y="6526080"/>
            <a:ext cx="139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0 NE Kimbal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issouri  6416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52-1896…Dwayne Fu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273-3861-4DFC-8815-C45B2F0D5B90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041B9-2F72-466C-A3CF-EF1CEC48CD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 Charles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6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Charles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82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 Char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0 Pete Manena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lake, Louisiana  70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882-1441…Rick Comeaux x-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692480" y="652608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 Char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65320" y="518940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CHAR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D7C-B639-46AF-A551-B0CFE64B962D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BD4C7-88D8-4DA1-969D-79AE21470A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52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2-7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North Loga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  62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7) 735-1511…Chris B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664848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844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267840" y="4037040"/>
            <a:ext cx="873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A3E-1BD6-4356-8B5D-07D5ED2E18C4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518F2-3E48-40AA-AFFD-273BA09BBB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t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7467480" y="65260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-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80 South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orth Carolina  28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735-0224…Eddie G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5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8116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224760" y="1781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78360" y="5113440"/>
            <a:ext cx="107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A36-9A15-49A1-898B-BD1E034B9FDB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99D89-A57A-48BF-9AD8-DC4EBDBA24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Rock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6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01 E. Roosevel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kansas  72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1) 375-9173…Marie Jord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2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B49-69D9-4247-BC55-D63EF309234D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77005-37CD-4F2E-B339-5BCA38DEA1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ton, New Hampsh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7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1240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1240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4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71360" y="190440"/>
            <a:ext cx="262908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265320" y="216000"/>
            <a:ext cx="253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0 Highland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  03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09…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977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570-BC11-4ED5-B640-4D874326F748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8AA04-B1A8-4C07-8F8E-840E1008B8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ings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8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6789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7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994-7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2484720" y="48150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3-422-1310 / 973--422-1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675360" y="51055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43.4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041920" y="280512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26676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T. Super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 Dors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ew Jersey  070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994-4344…Tom Benn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ing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C06-EFF8-426C-9C50-BCAF5C6A2B90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DD6CC-3FBC-428C-862B-2EB60017EB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land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85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ck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171360" y="171360"/>
            <a:ext cx="2876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90440" y="216000"/>
            <a:ext cx="29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 S. Wayn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io  45215-6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3) 948-2289…Micelle Kwiatkowsk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9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91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413-DFC3-4C21-A092-1EA0E8D04697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42EE9-5EFA-4839-A373-16F2413958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S-G Containers - Vaz Broth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91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3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629400" y="6507000"/>
            <a:ext cx="22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BFG - Vaz Br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z Brothers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0 South Guil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30…Charles Bardak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532800" y="5257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62D-2064-45A2-8756-1E82771EA023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D7295-CA7E-4D28-9035-CCFE28BE6C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97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4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2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5A6-A8FF-4A09-912C-DE0C5288112C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3FFB4-1C9E-4EE7-88CB-5815C44800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7080" y="80640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981080" y="297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981080" y="338292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82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2209680" y="3809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209680" y="41148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934320" y="413856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385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68480" y="416880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8480" y="4168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6934320" y="5319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6934320" y="493092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6934320" y="4549680"/>
          <a:ext cx="241200" cy="9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549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1981080" y="2239920"/>
          <a:ext cx="24156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2239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2209680" y="4343040"/>
            <a:ext cx="1981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09680" y="46483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09680" y="50288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5029200"/>
            <a:ext cx="1676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4197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486400" y="41148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3809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562720" y="3429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6934320" y="22176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217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934320" y="25988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2598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6934320" y="297972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297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81080" y="2620800"/>
          <a:ext cx="241560" cy="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2620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4419720" y="609480"/>
          <a:ext cx="469800" cy="17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19720" y="6094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76320" y="3276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nis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981080" y="147780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1477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1981080" y="1859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1859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981080" y="4551480"/>
          <a:ext cx="470160" cy="17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81080" y="455148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209680" y="3048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26971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29200" y="1523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52880" y="1905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3760" y="22860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520" y="266688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762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09680" y="3429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3400" y="43736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3520" y="3657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23520" y="47545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23880" y="50594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309720" y="5448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10080" y="3962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9720" y="4343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09720" y="32608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097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09720" y="178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2286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RP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981080" y="3763800"/>
          <a:ext cx="24156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1080" y="3763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209680" y="1905120"/>
            <a:ext cx="1752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981080" y="4952880"/>
          <a:ext cx="24156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4952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1981080" y="5342040"/>
          <a:ext cx="24156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342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6934320" y="1455840"/>
          <a:ext cx="24120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145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934320" y="336060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3360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6934320" y="3741840"/>
          <a:ext cx="24120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3741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6309720" y="364176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2163600"/>
            <a:ext cx="617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352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46480" y="178272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23520" y="2163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35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23520" y="3276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23520" y="4038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09720" y="50594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29960" y="927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32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an (Avery), OH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320" y="217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leston, SC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760" y="1405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C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320" y="1782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ue Bell, PA (Insulation/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1415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Lexington, OH (Ludiwic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534204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09720" y="4724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1774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wood, MA (Bi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0972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8880" y="2155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xford, NC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638320" y="3048120"/>
            <a:ext cx="1295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25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, P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3657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enwood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40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mond, IN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44355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320" y="4846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 Rock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2522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achtree City, G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291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edmont, M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329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3657600"/>
            <a:ext cx="2133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ncho Cordova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8880" y="56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238880" y="40449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opee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42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reveport, L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4815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gate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mington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934320" y="183672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1836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505320" y="1371600"/>
          <a:ext cx="2286000" cy="4724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05320" y="13716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4204080" y="34131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2556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1523880"/>
            <a:ext cx="1752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29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 (CertainTeed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9360" y="2895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E22-42BF-4AD0-9B86-9614C5372BB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4FC76-EA29-4728-B711-0B434BA07258}" type="datetime1">
              <a:rPr lang="en-US"/>
              <a:t>07/29/26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7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s Ange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171360" y="171360"/>
            <a:ext cx="2648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2 N. San Pablo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33-45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221-1101…Wayne Selway x-30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94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77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04F-C9E9-402B-9C9E-868E55A7A544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0A137-9265-4BF1-96BE-DD2C6CC359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3278160" y="1219320"/>
            <a:ext cx="2133000" cy="3275640"/>
            <a:chOff x="3278160" y="1219320"/>
            <a:chExt cx="2133000" cy="3275640"/>
          </a:xfrm>
        </p:grpSpPr>
        <p:sp>
          <p:nvSpPr>
            <p:cNvPr id="7084" name=""/>
            <p:cNvSpPr/>
            <p:nvPr/>
          </p:nvSpPr>
          <p:spPr>
            <a:xfrm>
              <a:off x="4404960" y="1428480"/>
              <a:ext cx="45540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278160" y="1483560"/>
              <a:ext cx="586440" cy="9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813120" y="1219320"/>
              <a:ext cx="590040" cy="9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303360" y="2355480"/>
              <a:ext cx="589320" cy="95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622680" y="3092040"/>
              <a:ext cx="587520" cy="9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35320" y="3545640"/>
              <a:ext cx="587160" cy="94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96200" y="3150720"/>
              <a:ext cx="586440" cy="9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762440" y="1851480"/>
              <a:ext cx="648720" cy="13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301760" y="2438280"/>
            <a:ext cx="596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1203120" y="2438280"/>
            <a:ext cx="79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n-SG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 flipV="1">
            <a:off x="1600200" y="32763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046960" y="3138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221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33412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99740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87600" y="29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4572000" y="32623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152280" y="190440"/>
            <a:ext cx="259092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52360" y="216000"/>
            <a:ext cx="25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00 West Le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 40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3…Garry Goetsch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9…Anthony Thomp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7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51…Pam Sheehan (Q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2…Nancy Heid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3432600" y="160020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392520" y="787320"/>
            <a:ext cx="95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648828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595728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V="1">
            <a:off x="6858000" y="1600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5626440" y="26956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( 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120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609480" y="388620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5720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7489800" y="78732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801936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58928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5640840" y="36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6342480" y="589284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9428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8580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ver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615640" y="24382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235( 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650560" y="2209680"/>
            <a:ext cx="10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5257800" y="3429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7637400" y="11430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5562720" y="32004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5410080" y="34434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505080" y="5265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831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37160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165480" y="44956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775-47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1905120" y="4648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161160" y="51814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391 / 502-775-8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 flipV="1"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H="1">
            <a:off x="525744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 flipH="1">
            <a:off x="5334120" y="28954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90512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1923480" y="2895480"/>
            <a:ext cx="1355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-SGC CIRCUIT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160020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1288080" y="1828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3150360" y="54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603 / 502-775-83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165480" y="47242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165480" y="49528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1905120" y="5334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828800" y="5562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90512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3D0-5C22-499E-8718-BD9E65219677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B1546-D56F-44E2-AF4F-38F7B56AA0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r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1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5-4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4-6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441 Avenue 12 and Road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lifornia  93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0) 675-4724…Mike Chmiele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231840" y="4159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9996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663264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de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385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D61-7938-4850-A015-143181360AF9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7737A-CB1C-41F3-B0EB-AABC308034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on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23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East Charle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diana  46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661-2442…Roger Gilli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ion - B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460440" y="521028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304560" y="4037040"/>
            <a:ext cx="842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r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AAC-9BF6-4C77-830C-E4CE000E2DEB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CBA25-28B6-4AF1-9F23-9E9819EBE9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ume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29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U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10 Briarfield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io  435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868-7813…Chris Daunha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CF9-EE59-4436-8A01-E4BC6507E2E5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724ED-C46A-43B8-9CB3-89D50034E1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woo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3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55 East 52nd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562-510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80160" y="5181480"/>
            <a:ext cx="97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YWO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6708240" y="3200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y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257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2EC-F912-4DF0-A329-A931ECFE64EC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99722-10E6-40CC-9890-E6EF68D278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Mol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6" name=""/>
          <p:cNvGrpSpPr/>
          <p:nvPr/>
        </p:nvGrpSpPr>
        <p:grpSpPr>
          <a:xfrm>
            <a:off x="3278160" y="1144440"/>
            <a:ext cx="2284200" cy="3732120"/>
            <a:chOff x="3278160" y="1144440"/>
            <a:chExt cx="2284200" cy="3732120"/>
          </a:xfrm>
        </p:grpSpPr>
        <p:sp>
          <p:nvSpPr>
            <p:cNvPr id="7407" name=""/>
            <p:cNvSpPr/>
            <p:nvPr/>
          </p:nvSpPr>
          <p:spPr>
            <a:xfrm>
              <a:off x="4485960" y="138276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278160" y="144468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852720" y="114444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305160" y="243900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49680" y="327744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197240" y="379512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798800" y="334548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4868280" y="186516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5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-12600" y="3990960"/>
            <a:ext cx="132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areho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5486400" y="3124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 flipV="1">
            <a:off x="7848720" y="31237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5635080" y="2909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5571720" y="31384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8038800" y="414324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7426440" y="558720"/>
            <a:ext cx="8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7848720" y="1447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7543440" y="1905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 flipV="1">
            <a:off x="7848720" y="14475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78296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556272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8002440" y="16286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30200" y="33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 flipH="1">
            <a:off x="159984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04516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5410080" y="37339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6478920" y="5816520"/>
            <a:ext cx="95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 flipV="1">
            <a:off x="6934320" y="3733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850760" y="368604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5625000" y="351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5603040" y="2529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Mol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346440" y="17049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5432040" y="42195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Moulde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3 North Hicko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8191…Andy Stout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5639760" y="23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D96-64A7-4A78-A981-2DE0EDDE5177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2460D-76B0-4B64-AE95-16B68EDEC8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Viny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7" name=""/>
          <p:cNvGrpSpPr/>
          <p:nvPr/>
        </p:nvGrpSpPr>
        <p:grpSpPr>
          <a:xfrm>
            <a:off x="3430440" y="1600200"/>
            <a:ext cx="2133360" cy="3503160"/>
            <a:chOff x="3430440" y="1600200"/>
            <a:chExt cx="2133360" cy="3503160"/>
          </a:xfrm>
        </p:grpSpPr>
        <p:sp>
          <p:nvSpPr>
            <p:cNvPr id="7488" name=""/>
            <p:cNvSpPr/>
            <p:nvPr/>
          </p:nvSpPr>
          <p:spPr>
            <a:xfrm>
              <a:off x="4557600" y="182412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3430440" y="188280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965400" y="160020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3456000" y="281556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3774960" y="360288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287960" y="408816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48480" y="366588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915080" y="227628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388440" y="350532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301760" y="26035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1375200" y="28036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053440" y="276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20120" y="3580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5939640" y="33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5876640" y="35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6551280" y="426708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540240" y="28400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782960" y="34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866040" y="211788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6521040" y="213192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76201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59313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78296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16797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West 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5511…Todd Smith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Viny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26080" y="299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556236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5409720" y="35812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9051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V="1">
            <a:off x="16002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1288080" y="1965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CAF-A32A-45AB-AF63-63F4873C9484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4E2CF-345E-4590-8CB1-B7CBB1EEA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55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97920" y="37623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6143400" y="467676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6143400" y="178128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59313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517680" y="511344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Distribu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337 West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0198…Lanny Co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820-EB9D-4383-95D1-0EBCC2E5F35B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D8643-E674-4489-B38A-1F03866B39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land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762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71360" y="171360"/>
            <a:ext cx="25718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 Huge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  L4R 4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5) 526-7867…Cathy Ladouc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4ON0005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3967560" y="504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B51-C2BA-4218-A817-87365DCD940C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D5423-2A9D-4E97-8AB3-72C28AE375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7240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8800" y="25909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es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467480" y="2743200"/>
          <a:ext cx="24156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27432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05200" y="1295280"/>
            <a:ext cx="53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 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07040" y="76212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7240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409720" y="2819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880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467480" y="3360600"/>
          <a:ext cx="24156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33606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H="1">
            <a:off x="563868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7467480" y="3956040"/>
          <a:ext cx="24156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395604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777384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467480" y="4572000"/>
          <a:ext cx="24156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45720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777384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7150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486040" y="464652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747252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7252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7778880" y="4997520"/>
            <a:ext cx="151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257800" y="5256360"/>
            <a:ext cx="220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0" y="38242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78800" y="443376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78800" y="50292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062-DFD4-4037-B9AA-960F34FA7F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6DF80-AF12-4D81-83C8-702E322AC49D}" type="datetime1">
              <a:rPr lang="en-US"/>
              <a:t>07/29/26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Massachusetts (S-G Contain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69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82-01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78-88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6400800" y="6507000"/>
            <a:ext cx="243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S-G Contai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239760" y="249120"/>
            <a:ext cx="273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ational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  017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478-2500…reception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34…Debra Pella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42…John Part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30492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90320" y="5256360"/>
            <a:ext cx="88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776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AB3-A92D-4A13-87E3-81C5AFD8AA0D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984E3-7972-4625-BAA1-9DE54FAC5E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Meadowbrook Ro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7755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3" name=""/>
          <p:cNvSpPr/>
          <p:nvPr/>
        </p:nvSpPr>
        <p:spPr>
          <a:xfrm>
            <a:off x="6836760" y="5892840"/>
            <a:ext cx="159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ord, MH (Powers S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519120" y="3886200"/>
            <a:ext cx="100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6084720" y="4495680"/>
            <a:ext cx="123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Meadowbroo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808440" y="1981080"/>
            <a:ext cx="150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3 DHZA 77796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982-5002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65-7800 (t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(Meadowbrook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2204640" y="513540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629400" y="650700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MeadowBrook R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52280" y="415800"/>
            <a:ext cx="2514600" cy="8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01600" y="441360"/>
            <a:ext cx="246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MeadowBroo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0263…Lori Vallaincourt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7FF-8C46-4A17-B6F8-E03F57ADDE8F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D4A41-A0A9-43A2-AF14-62BB8DB8A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Powers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4" name=""/>
          <p:cNvGrpSpPr/>
          <p:nvPr/>
        </p:nvGrpSpPr>
        <p:grpSpPr>
          <a:xfrm>
            <a:off x="3429000" y="914400"/>
            <a:ext cx="2208960" cy="3199680"/>
            <a:chOff x="3429000" y="914400"/>
            <a:chExt cx="2208960" cy="3199680"/>
          </a:xfrm>
        </p:grpSpPr>
        <p:sp>
          <p:nvSpPr>
            <p:cNvPr id="7805" name=""/>
            <p:cNvSpPr/>
            <p:nvPr/>
          </p:nvSpPr>
          <p:spPr>
            <a:xfrm>
              <a:off x="4596120" y="11188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429000" y="11725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82680" y="9144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455280" y="20242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5760" y="27435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4316760" y="31867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4897080" y="28015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4966560" y="15318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3" name=""/>
          <p:cNvSpPr/>
          <p:nvPr/>
        </p:nvSpPr>
        <p:spPr>
          <a:xfrm>
            <a:off x="7095960" y="587700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230480" y="4268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708840" y="342900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08160" y="502776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 flipV="1">
            <a:off x="5562360" y="21826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7250040" y="52434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H="1">
            <a:off x="1143000" y="47242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 flipV="1">
            <a:off x="160020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56272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 flipV="1">
            <a:off x="7620120" y="25142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550920" y="3505320"/>
            <a:ext cx="105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3487680" y="234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493560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3913560" y="182880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29680" y="4343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H="1">
            <a:off x="99036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520000" y="3886200"/>
            <a:ext cx="13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(603) 673-24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990720" y="592776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or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150280" y="227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184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113560" y="25020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99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820440" y="1920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14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7238880" y="6526080"/>
            <a:ext cx="163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Powers 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166680" y="139680"/>
            <a:ext cx="2023920" cy="83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219240" y="236520"/>
            <a:ext cx="188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 Power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7560...Ed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4497120" y="4876920"/>
            <a:ext cx="139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Meadowbrook R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5939640" y="2286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910840" y="2514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1828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2522160" y="41911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603-672-4790 / 603-672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2522160" y="44956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603-672-4795 / 603-672-47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18288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1828800" y="4038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828800" y="49528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H="1">
            <a:off x="28195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3048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3352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89548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35053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19051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 flipH="1">
            <a:off x="502884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2578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5627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V="1">
            <a:off x="51055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 flipV="1">
            <a:off x="57150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514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4800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1959120" y="5272200"/>
            <a:ext cx="93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3505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651120" y="5272200"/>
            <a:ext cx="130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&amp; Data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11620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497196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7622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FBA-F544-44FC-8536-A4E7666E5D54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99042-45FD-491A-87C7-CDA8EA6145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pita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8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7879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398844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48355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69108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182808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71360" y="171360"/>
            <a:ext cx="24955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39760" y="249120"/>
            <a:ext cx="235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81 Cadillac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lifornia  950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Rizaldi Celi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Lien Celi x 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8) 263-64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5486400" y="28954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flipH="1">
            <a:off x="5410080" y="36576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408-719-1058 / 408-719-12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59436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7913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48355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193400" y="247824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066680" y="2478240"/>
            <a:ext cx="138132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1433880" y="287820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265400" y="309240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V="1">
            <a:off x="1736640" y="2482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16765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9907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7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1371600" y="2141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2416320" y="24382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5451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249912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3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1066680" y="308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1066680" y="2859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p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114300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4360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579132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563-BF21-4E38-8D93-8BA907B8833E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6D0D0-55F2-4A19-B458-FD0A57136C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ro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2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7953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Co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North Bive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orth Carolina  28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289-5413…Bruce Mc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216900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E3D-9AD0-414D-8836-78998F5BB67D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E65FA-E1E7-422E-BEE3-E9646F9B82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side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9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020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8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39456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447920" y="2792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 flipV="1">
            <a:off x="76201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 flipH="1">
            <a:off x="1218960" y="3554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1828800" y="4191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6318360" y="441972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H="1">
            <a:off x="7162560" y="46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20976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13380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320976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313380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4516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3256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124040" y="596916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71360" y="19044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2360" y="216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22 Highway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  07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8) 654-0660…Lou Cha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98072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5933160" y="23493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2043360" y="234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BEF-CA46-4C55-B200-06113F9FE26E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B4B2C-3248-4BFE-AE57-2900B67826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top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0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-23400" y="51134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92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2207160" y="5362560"/>
            <a:ext cx="118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7774200" y="650700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89360" y="216000"/>
            <a:ext cx="224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20 Oak Hi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ennsylvania  18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474-6731…Joe Wayne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3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E80-1FC7-4A59-A121-945727D093DA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8264F-33B3-4635-9B9D-8541028805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(High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7620120" y="3352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6705720" y="6507000"/>
            <a:ext cx="21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High Stre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7169040" y="5851440"/>
            <a:ext cx="92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cedon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990720" y="585144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90440" y="28908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sher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South Hig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59…Greg Black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24920" y="4191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34720" y="5257800"/>
            <a:ext cx="113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85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662184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2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5" name=""/>
          <p:cNvGrpSpPr/>
          <p:nvPr/>
        </p:nvGrpSpPr>
        <p:grpSpPr>
          <a:xfrm>
            <a:off x="3429000" y="1828800"/>
            <a:ext cx="2056680" cy="1676160"/>
            <a:chOff x="3429000" y="1828800"/>
            <a:chExt cx="2056680" cy="1676160"/>
          </a:xfrm>
        </p:grpSpPr>
        <p:sp>
          <p:nvSpPr>
            <p:cNvPr id="8186" name=""/>
            <p:cNvSpPr/>
            <p:nvPr/>
          </p:nvSpPr>
          <p:spPr>
            <a:xfrm>
              <a:off x="4515480" y="1935720"/>
              <a:ext cx="4392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3429000" y="1963800"/>
              <a:ext cx="5655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3944520" y="1828800"/>
              <a:ext cx="5691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3453480" y="2410560"/>
              <a:ext cx="56808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3760920" y="2787120"/>
              <a:ext cx="5662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255560" y="3019320"/>
              <a:ext cx="565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795920" y="2817000"/>
              <a:ext cx="565920" cy="4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860360" y="2152080"/>
              <a:ext cx="62532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4" name=""/>
          <p:cNvSpPr/>
          <p:nvPr/>
        </p:nvSpPr>
        <p:spPr>
          <a:xfrm>
            <a:off x="2209680" y="26668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901320" y="2117880"/>
            <a:ext cx="10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72-9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817080" y="2452680"/>
            <a:ext cx="122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DHZC 41304NB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9144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91728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963720" y="251604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14997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963720" y="2820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157320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963720" y="30495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1141200" y="283536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25028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V="1">
            <a:off x="12952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5438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7622640" y="24829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37280" y="251604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0131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37280" y="28209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4712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7037280" y="30495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199280" y="283536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732420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 flipV="1">
            <a:off x="79246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E90-A67C-4272-A680-66E975312842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A4196-86C1-47C9-B2B3-8364775738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58760" y="1758960"/>
            <a:ext cx="5397480" cy="380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7245360" y="160668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7380360" y="1744560"/>
            <a:ext cx="78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S-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4" name=""/>
          <p:cNvGrpSpPr/>
          <p:nvPr/>
        </p:nvGrpSpPr>
        <p:grpSpPr>
          <a:xfrm>
            <a:off x="6707160" y="3125880"/>
            <a:ext cx="2133360" cy="2436480"/>
            <a:chOff x="6707160" y="3125880"/>
            <a:chExt cx="2133360" cy="2436480"/>
          </a:xfrm>
        </p:grpSpPr>
        <p:sp>
          <p:nvSpPr>
            <p:cNvPr id="8225" name=""/>
            <p:cNvSpPr/>
            <p:nvPr/>
          </p:nvSpPr>
          <p:spPr>
            <a:xfrm>
              <a:off x="7832520" y="32846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707160" y="33210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243920" y="31258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734160" y="39726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051680" y="45187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564320" y="48549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128800" y="45604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8191440" y="35956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3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024k Port - DLCI 1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5562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777240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638680" y="20718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1024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640080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28600" y="23623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mington (DLCI 3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721872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28600" y="3726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ton (DLCI 3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8600" y="4175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rfield (DLCI 2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95480" y="2193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(DLCI 2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2895480" y="40226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2895480" y="26510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1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" y="40226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onte (DLCI 2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895480" y="204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ra (DLCI 3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95480" y="24987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wood (DLCI 2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2895480" y="3870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ttle (DLCI 3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2895480" y="32688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llegany (DLCI 3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2895480" y="4632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xahachie (DLCI 3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5638680" y="14619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28600" y="2971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eret (DLCI 3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8600" y="25146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plant) (DLCI 4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8600" y="26668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Whs.) (DLCI 4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28600" y="28195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ton (DLCI 3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228600" y="3268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field (DLCI 16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28600" y="43275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Collins (DLCI 4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8600" y="3878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kirk (DLCI 2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" y="44798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derson (DLCI 3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2895480" y="28036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ville (DLCI 3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2895480" y="3421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ulpa (DLCI 3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8600" y="49370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895480" y="4327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hington (DLCI 4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2895480" y="3573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ton (DLCI 3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95480" y="31082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vely (DLCI 3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28600" y="47847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 (DLCI 3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895480" y="41752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n Nuys (DLCI 4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2895480" y="4479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son (DLCI 35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28600" y="2049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irsville (DLCI 5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" y="35733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ware (DLCI 5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2895480" y="2346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- Heye (DLCI 5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2895480" y="3718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. Louis (DLCI 5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2895480" y="29559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ark (DLCI 6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228600" y="3124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otte (DLCI 11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228600" y="4632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ville (DLCI 9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228600" y="22096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Canyon (DLCI 9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228600" y="3429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Industry (DLCI 9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760-2989-4263-AE3C-DA6C66358F31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6A21E-96A6-4BF1-9CE2-B1756297FEB0}" type="datetime1">
              <a:rPr lang="en-US"/>
              <a:t>07/29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3983040" y="2292480"/>
            <a:ext cx="11206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260960" y="591660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477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64771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6477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 flipH="1">
            <a:off x="510516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1378080" y="24447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590920" y="2743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678040" y="22543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1_CORP_RIN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809880" y="25909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1055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90320" y="418320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378080" y="33591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654640" y="40831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1_ENGINEER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38098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78080" y="42735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 flipH="1">
            <a:off x="25909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3809880" y="44197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78040" y="31687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2_CORP_RIN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258160" y="3262320"/>
            <a:ext cx="102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64771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477120" y="4495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647712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H="1">
            <a:off x="510516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261040" y="41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11_MUNC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796120" y="5014800"/>
            <a:ext cx="10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378080" y="51879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H="1">
            <a:off x="25909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8098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A51-B8F5-480D-8974-15A2D214DB79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FF631-13DE-4D5C-A07E-789095B26429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39880" y="16905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13800" y="3505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29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15960" y="2986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ICHTA FA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8840" y="3976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06640" y="21477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410080" y="3123720"/>
            <a:ext cx="221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848720" y="1766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C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594560" y="19051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4800600" y="1981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45640" y="176688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1596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620120" y="41911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V="1">
            <a:off x="5638680" y="3733560"/>
            <a:ext cx="198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13800" y="4540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5960" y="4510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7620120" y="47023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7023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 flipV="1">
            <a:off x="5409720" y="4647960"/>
            <a:ext cx="221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620120" y="3657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3657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7620120" y="310212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102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62720" y="4267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1800" y="3581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15240" y="4083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7620120" y="5235480"/>
          <a:ext cx="24120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52354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7815240" y="507348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cC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9528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1800" y="4967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620120" y="5769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0120" y="576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815240" y="560700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4400" y="5424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5105520"/>
            <a:ext cx="2514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A53A-64C2-47A1-BCDE-BDBB966A96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64E61-6EE1-48DF-BA19-D91DCFE062BA}" type="datetime1">
              <a:rPr lang="en-US"/>
              <a:t>07/29/26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47307-36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 (LAN 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Alan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6523200" y="5715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8339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7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57135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7008840" y="2895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2970360" y="1752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6564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066680" y="15238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 (1024 K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GS 6314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7) 752-7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60192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8" name=""/>
          <p:cNvGrpSpPr/>
          <p:nvPr/>
        </p:nvGrpSpPr>
        <p:grpSpPr>
          <a:xfrm>
            <a:off x="228600" y="3809880"/>
            <a:ext cx="3809880" cy="2190960"/>
            <a:chOff x="228600" y="3809880"/>
            <a:chExt cx="3809880" cy="2190960"/>
          </a:xfrm>
        </p:grpSpPr>
        <p:sp>
          <p:nvSpPr>
            <p:cNvPr id="8359" name=""/>
            <p:cNvSpPr/>
            <p:nvPr/>
          </p:nvSpPr>
          <p:spPr>
            <a:xfrm>
              <a:off x="2362320" y="5757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T. Kingho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295280" y="5757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228600" y="5757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362320" y="5514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M. Cru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295280" y="5514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28600" y="5514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362320" y="527220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Consult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295280" y="52722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228600" y="52722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2362320" y="502920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A. Vics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295280" y="50292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28600" y="50292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2362320" y="4781520"/>
              <a:ext cx="1676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S400 - Ra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295280" y="4781520"/>
              <a:ext cx="106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228600" y="478152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0.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2362320" y="453852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PN Contivity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295280" y="453852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28600" y="453852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59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362320" y="429588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ver Ru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295280" y="429588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28600" y="429588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362320" y="4052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1295280" y="4052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28600" y="4052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362320" y="3809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295280" y="3809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28600" y="3809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28600" y="38098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28600" y="4052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28600" y="4295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28600" y="4538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28600" y="4781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28600" y="5029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28600" y="5272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28600" y="5514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28600" y="5757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28600" y="600084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2860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129528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36232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03848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0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563-A8F5-476D-B3F0-1D72AB39B497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5631C-2E4F-4562-8348-941528347A82}" type="datetime1">
              <a:rPr lang="en-US"/>
              <a:t>07/29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7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8408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6" name=""/>
          <p:cNvSpPr/>
          <p:nvPr/>
        </p:nvSpPr>
        <p:spPr>
          <a:xfrm>
            <a:off x="964800" y="1932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1230480" y="496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175212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H="1" flipV="1">
            <a:off x="5562360" y="25905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1600200" y="3047760"/>
            <a:ext cx="0" cy="19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1600200" y="3048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801800" y="45864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3192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7041960" y="56642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06136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98360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828920" y="459900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flipV="1">
            <a:off x="160020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flipH="1" flipV="1">
            <a:off x="5638680" y="25905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6015960" y="28335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5952960" y="30621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511-C725-49E2-AE84-2A79E220F9FD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6D4E8-84DC-4ECB-8B50-F3CBD11B4D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squehoning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44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378000" y="5113440"/>
            <a:ext cx="10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SQUEH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5960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6267600" y="467676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squeho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#1, Route 54 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, Pennsylvania  18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645-2164…Ed Klein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8B7-68A6-4525-A2BC-8C8FE07B19C6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3A7BB-EE65-4452-B13A-54B2BFAF03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ark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850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08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15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832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6761880" y="3200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a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764280" y="3276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76280" y="5257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W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1 Doremus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ew Jersey  07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274-9001…Paul Girou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EBB-5BAB-43E1-BD48-AEEFE8CA5060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52765-02A1-40E0-8C13-47BF566C50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7315200" y="6526080"/>
            <a:ext cx="15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71360" y="190440"/>
            <a:ext cx="29527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90440" y="2160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5 Kins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io  440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a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Carl Morley x-51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175212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130176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1386000" y="2639880"/>
            <a:ext cx="43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160020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663192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859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0" name=""/>
          <p:cNvSpPr/>
          <p:nvPr/>
        </p:nvSpPr>
        <p:spPr>
          <a:xfrm>
            <a:off x="3855960" y="2193840"/>
            <a:ext cx="130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27-2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1905120" y="27432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29144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7375680" y="280368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6D3-6947-4B94-9910-F538428F0BDB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9D047-D62D-429A-B117-E6741A27BC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exingt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860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 Lex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88640" y="216000"/>
            <a:ext cx="24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dowici Roof T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7 Tile Plan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io  43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42-1995…Derek Thomas x-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7620120" y="65260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687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C0D-F4F1-47FC-AC36-C3958FEEC242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11856-E127-4399-916E-643C4E0A24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8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8669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7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454800" y="60948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12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7584840" y="60948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176520" y="5892840"/>
            <a:ext cx="132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908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1755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2460600" y="41911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716) 282-056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2457000" y="51195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716-284-7245 / 716-284-72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190512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6904800" y="14968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8047800" y="1498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80805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213520" y="589284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765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1360" y="171360"/>
            <a:ext cx="28767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39760" y="249120"/>
            <a:ext cx="2808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Th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Nancy Weese x-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328-0851…Nancy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Kevin Perks x-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1219320" y="4724280"/>
            <a:ext cx="76176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Bay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5124600" y="609480"/>
            <a:ext cx="112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612000" y="3503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44620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716-284-7225 / 716-284-7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446200" y="53481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716-284-7260 / 716-284-7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301760" y="191124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1219320" y="19051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8288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190512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190512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438280" y="44337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716) 282-37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1:  not installed y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109-7851-4692-A243-8B8A35F38058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0763E-8F81-4095-BF7A-F2DD4042A2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3" name=""/>
          <p:cNvGrpSpPr/>
          <p:nvPr/>
        </p:nvGrpSpPr>
        <p:grpSpPr>
          <a:xfrm>
            <a:off x="4191120" y="1295280"/>
            <a:ext cx="2208960" cy="1828440"/>
            <a:chOff x="4191120" y="1295280"/>
            <a:chExt cx="2208960" cy="1828440"/>
          </a:xfrm>
        </p:grpSpPr>
        <p:sp>
          <p:nvSpPr>
            <p:cNvPr id="8764" name=""/>
            <p:cNvSpPr/>
            <p:nvPr/>
          </p:nvSpPr>
          <p:spPr>
            <a:xfrm>
              <a:off x="5358240" y="1411920"/>
              <a:ext cx="471600" cy="4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191120" y="1442520"/>
              <a:ext cx="607320" cy="53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744800" y="1295280"/>
              <a:ext cx="611280" cy="52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17400" y="1929960"/>
              <a:ext cx="61020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547880" y="2340720"/>
              <a:ext cx="6084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5078880" y="2594160"/>
              <a:ext cx="607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659200" y="2373480"/>
              <a:ext cx="60768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728680" y="1648080"/>
              <a:ext cx="671400" cy="75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>
            <a:off x="74768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2301840" y="3352680"/>
            <a:ext cx="744480" cy="16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1600920" y="2438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63368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H="1" flipV="1">
            <a:off x="6324480" y="18777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76312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244296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 flipV="1">
            <a:off x="266688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324480" y="2209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8001000" y="22093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822312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800100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2903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9005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2671560" y="3110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073280" y="4495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4249800" y="2044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697360" y="20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4675680" y="158436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1301400" y="46162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 flipH="1">
            <a:off x="2061720" y="4768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272120" y="35053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419580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05280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4971600" y="358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2062080" y="594360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 flipH="1">
            <a:off x="30528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26668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4947480" y="466236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79440" y="3595680"/>
            <a:ext cx="86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Amhe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530400" y="1981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482160" y="22096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81960" y="426708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 to Sanb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052800" y="4025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272120" y="38862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19580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71600" y="39625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3052800" y="4406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42721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4971600" y="43434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71360" y="396720"/>
            <a:ext cx="300996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250920" y="441360"/>
            <a:ext cx="287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Structural Ceramic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 Aches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034…Larry Rowe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5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278720" y="39304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 flipH="1" flipV="1">
            <a:off x="2057040" y="4190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 flipH="1">
            <a:off x="121896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H="1">
            <a:off x="121896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H="1" flipV="1">
            <a:off x="2057040" y="3504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78720" y="32767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 flipV="1">
            <a:off x="3048120" y="3885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20040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2004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 flipV="1">
            <a:off x="3048120" y="4267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 flipV="1">
            <a:off x="3048120" y="46479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200040" y="45100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2854800" y="19954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6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2362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25146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29718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F7B-2095-4CF5-B763-A1D1E40D58AB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DD782-7EB1-49E9-AE10-B615B808FF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boro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0" name=""/>
          <p:cNvGrpSpPr/>
          <p:nvPr/>
        </p:nvGrpSpPr>
        <p:grpSpPr>
          <a:xfrm>
            <a:off x="3429000" y="1822320"/>
            <a:ext cx="2361600" cy="1104480"/>
            <a:chOff x="3429000" y="1822320"/>
            <a:chExt cx="2361600" cy="1104480"/>
          </a:xfrm>
        </p:grpSpPr>
        <p:sp>
          <p:nvSpPr>
            <p:cNvPr id="8841" name=""/>
            <p:cNvSpPr/>
            <p:nvPr/>
          </p:nvSpPr>
          <p:spPr>
            <a:xfrm>
              <a:off x="4676760" y="1893600"/>
              <a:ext cx="50508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429000" y="1911240"/>
              <a:ext cx="64836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023000" y="1822320"/>
              <a:ext cx="65304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458520" y="2204640"/>
              <a:ext cx="65232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813120" y="2454480"/>
              <a:ext cx="648360" cy="32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378680" y="2606400"/>
              <a:ext cx="65016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001840" y="2472120"/>
              <a:ext cx="6480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5072760" y="2035080"/>
              <a:ext cx="71784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9" name=""/>
          <p:cNvSpPr/>
          <p:nvPr/>
        </p:nvSpPr>
        <p:spPr>
          <a:xfrm>
            <a:off x="7468200" y="6526080"/>
            <a:ext cx="13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006200" y="6031080"/>
            <a:ext cx="107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01964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676280" y="44956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104240" y="491184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241200" y="230040"/>
            <a:ext cx="250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d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 01532-15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351-7522…Cindy LaPer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12-7068…Cindy’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100040" y="210816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0) 343-13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  DHDA  913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193840" y="239400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120528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25220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57150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7543440" y="3079800"/>
            <a:ext cx="11160" cy="18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V="1">
            <a:off x="7554960" y="4752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1508040" y="3079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163520" y="433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95360" y="4870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1304640" y="4786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1152000" y="5396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1533600" y="4786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138096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168588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 flipV="1">
            <a:off x="122868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 flipV="1">
            <a:off x="183816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63080" y="4405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923400" y="45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133800" y="4176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02256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8840" y="426096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351-29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142360" y="48610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 flipV="1">
            <a:off x="1914120" y="47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9051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612000" y="37321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3066120" y="45720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8-393-5623 / -- 508-393-56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A73-1EB3-4CCB-8D78-782A17A97B95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5906D-D3A0-46DE-B9E4-F2EA0093379B}" type="datetime1">
              <a:rPr lang="en-US"/>
              <a:t>07/29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Hamp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90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1301760" y="2222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1249200" y="21938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6234120" y="4676760"/>
            <a:ext cx="94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H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212760" y="216000"/>
            <a:ext cx="2378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  010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Thibault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Hewes x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7391520" y="6507000"/>
            <a:ext cx="14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624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031-1B10-4CAA-B742-BA8F979F7D03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71F28-61B9-44AB-BE80-D0D9704898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981080" y="305604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981080" y="342900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09680" y="45576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813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581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6934320" y="5373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73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6934320" y="499284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92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1981080" y="2316240"/>
          <a:ext cx="24156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3162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flipV="1">
            <a:off x="2209680" y="47858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209680" y="5091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5105520"/>
            <a:ext cx="175284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4800600"/>
            <a:ext cx="1752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5486400" y="45576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6272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6934320" y="26748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748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1981080" y="2697120"/>
          <a:ext cx="241560" cy="9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26971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1981080" y="1935000"/>
          <a:ext cx="24156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1935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209680" y="31240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2773440"/>
            <a:ext cx="144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952880" y="1981080"/>
            <a:ext cx="198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33376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105520" y="2743200"/>
            <a:ext cx="1828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39360" y="4481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2388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23520" y="4830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23520" y="5197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09720" y="2224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09680" y="23623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981080" y="4206960"/>
          <a:ext cx="24156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42069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"/>
          <p:cNvSpPr/>
          <p:nvPr/>
        </p:nvSpPr>
        <p:spPr>
          <a:xfrm>
            <a:off x="2209680" y="1981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981080" y="5396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539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34320" y="418464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41846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362320" y="182880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3880" y="2239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24240" y="262080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53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388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23520" y="3687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9960" y="1155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10080" y="54403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38320" y="3124080"/>
            <a:ext cx="1295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934320" y="191304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1913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4204080" y="3657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080" y="338148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wns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6840" y="4967280"/>
            <a:ext cx="18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ilton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30002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l, PA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7480" y="5410080"/>
            <a:ext cx="1817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rr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1843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erdeen, NC (Seg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20" y="22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den, NC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320" y="2619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senville, IL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ainesville, G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320" y="5805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point, NC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2224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ton, NH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1981080" y="4611600"/>
          <a:ext cx="241560" cy="98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6116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ttsville, ONT.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48625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y, NY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2590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vingston, NJ (Fantastic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843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ianapolis, IN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257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4114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phen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2986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tario, CA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325920" y="1843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5920" y="2971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5920" y="36878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40(64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6200" y="47545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5920" y="5135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6934320" y="226368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2263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267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3352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ynosa, ME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981080" y="5845320"/>
          <a:ext cx="24156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5845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 flipV="1">
            <a:off x="2209680" y="533376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39360" y="556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45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and Rapids, MI (Prov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48120" y="622296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416400" y="6095880"/>
          <a:ext cx="241200" cy="98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416400" y="6095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5105520" y="6248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549760" y="6095880"/>
          <a:ext cx="241560" cy="98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49760" y="6095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 flipH="1">
            <a:off x="3581280" y="56386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5638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52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968480" y="3795840"/>
          <a:ext cx="241200" cy="982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968480" y="379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114480" y="3747960"/>
            <a:ext cx="177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erton, CA (Penha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3886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40440" y="2925720"/>
            <a:ext cx="621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256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10080" y="4419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6934320" y="3832200"/>
          <a:ext cx="24120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34320" y="3832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238880" y="44956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velers Rest, SC (Wi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ulus, MI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592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42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38880" y="56246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25920" y="2590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5257800" y="5334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2592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EC4-EBE2-4127-A68F-EAFB3695BC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E8EE4-8E6F-4B3B-8495-3457074AF504}" type="datetime1">
              <a:rPr lang="en-US"/>
              <a:t>07/29/26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97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8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102000" y="4676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71360" y="190440"/>
            <a:ext cx="24195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190440" y="216000"/>
            <a:ext cx="229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 Desig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issouri  641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21-5422…Carl Was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Kansas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A8F-C88B-479D-847A-8A043C3219B7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A6886-D9DC-4200-A673-C21507B6E6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81) 278-0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188640" y="216000"/>
            <a:ext cx="221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iei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20574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776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19051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757191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621-35D9-4EC1-AC9E-7FF7DF5D5B72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2A27E-57AF-4C2C-B886-D6C5A558A3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yphant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908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yph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p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71360" y="17136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ren Diamond Powd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1 East Lackawann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  18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383-3261…Scott Brick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54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A55-2823-4E5F-83C7-E0DD4FE5D375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EECE9-1E7F-4D05-B676-F03C1DA0EF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ari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1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9152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68496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105520" y="2819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105520" y="32767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7516440" y="78732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1752480" y="27428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17524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346392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09880" y="46036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3733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133720" y="48006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471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408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419720" y="4680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9) 390-6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9-390-6529 / 909-390-65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550476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47596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152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212292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228600" y="152280"/>
            <a:ext cx="266688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250920" y="230040"/>
            <a:ext cx="264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90 East Jurup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  917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Jim Downey x-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supr.  X-6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x-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Yolanda x-6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conversion x-6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826-2114-4590-B920-4740F8E3E11D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33476-0CBD-40A1-9043-DEEA2382F4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ford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21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x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9) 603-5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71360" y="190440"/>
            <a:ext cx="2552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90440" y="216000"/>
            <a:ext cx="255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 Certaintee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orth Carolina  275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693-1141…Toney Clayborn (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7924680" y="6526080"/>
            <a:ext cx="90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9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3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31942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19-692-1606 / 919--692-1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A4A-8393-4391-A691-5461C66B4F0D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BA22D-1613-4653-A44C-D93AF3FC30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7073280" y="589284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nes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2304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 flipH="1" flipV="1">
            <a:off x="5562360" y="35049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 flipV="1">
            <a:off x="1600200" y="4343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03960" y="3062160"/>
            <a:ext cx="157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A: 3110387120037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58672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 flipV="1">
            <a:off x="7620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603800" y="48006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6667920" y="48769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6" name=""/>
          <p:cNvGrpSpPr/>
          <p:nvPr/>
        </p:nvGrpSpPr>
        <p:grpSpPr>
          <a:xfrm>
            <a:off x="3430440" y="1371600"/>
            <a:ext cx="2588760" cy="3656880"/>
            <a:chOff x="3430440" y="1371600"/>
            <a:chExt cx="2588760" cy="3656880"/>
          </a:xfrm>
        </p:grpSpPr>
        <p:sp>
          <p:nvSpPr>
            <p:cNvPr id="9287" name=""/>
            <p:cNvSpPr/>
            <p:nvPr/>
          </p:nvSpPr>
          <p:spPr>
            <a:xfrm>
              <a:off x="4798080" y="1606320"/>
              <a:ext cx="552600" cy="9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9"/>
                  </a:moveTo>
                  <a:arcTo wR="10800" hR="10800" stAng="-9957133" swAng="11216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9"/>
                  </a:moveTo>
                  <a:arcTo wR="10800" hR="10800" stAng="-9957133" swAng="112161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430440" y="1666080"/>
              <a:ext cx="712080" cy="106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2" y="20721"/>
                  </a:moveTo>
                  <a:arcTo wR="10800" hR="10800" stAng="6796761" swAng="1244706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2" y="20721"/>
                  </a:moveTo>
                  <a:arcTo wR="10800" hR="10800" stAng="6796761" swAng="124470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079520" y="1371600"/>
              <a:ext cx="716400" cy="10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9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90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461400" y="2638440"/>
              <a:ext cx="716040" cy="10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3" y="21186"/>
                  </a:moveTo>
                  <a:arcTo wR="10800" hR="10800" stAng="4444753" swAng="1018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3" y="21186"/>
                  </a:moveTo>
                  <a:arcTo wR="10800" hR="10800" stAng="4444753" swAng="1018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848400" y="3461400"/>
              <a:ext cx="712800" cy="106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2" y="17460"/>
                  </a:moveTo>
                  <a:arcTo wR="10800" hR="10800" stAng="2284192" swAng="10615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2" y="17460"/>
                  </a:moveTo>
                  <a:arcTo wR="10800" hR="10800" stAng="2284192" swAng="1061576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470840" y="3970440"/>
              <a:ext cx="712080" cy="105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104" swAng="13036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104" swAng="130367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153040" y="3529800"/>
              <a:ext cx="712080" cy="10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7" y="399"/>
                  </a:moveTo>
                  <a:arcTo wR="10800" hR="10800" stAng="-4463071" swAng="13775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7" y="399"/>
                  </a:moveTo>
                  <a:arcTo wR="10800" hR="10800" stAng="-4463071" swAng="13775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232240" y="2078280"/>
              <a:ext cx="78696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307" swAng="134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307" swAng="134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637080" y="2286000"/>
            <a:ext cx="2384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 Communic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C 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69.18.98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.ncc@sgmail.saint-gobai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49.87.82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292720" y="397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1360" y="419040"/>
            <a:ext cx="2876760" cy="171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01600" y="479520"/>
            <a:ext cx="28465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ystemes d’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Avenue d’Als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400 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5-54…Jacques Ven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3-54…Bernard Qu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31…Bernard Goud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49-24…Alain Ak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14…Eric Deulni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89…Thierry Berra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69-18-98-67…Network Comm. Ct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64800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ubevo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6270120" y="37479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236600" y="3886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250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6480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603800" y="458640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ross Over C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1600200" y="3276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360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292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6270120" y="30621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7620120" y="19807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916320" y="1127160"/>
            <a:ext cx="136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es Miroi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7215120" y="1525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6633000" y="2057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63872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g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994040" y="396252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 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gob-Pennsylvani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6C3-0A14-4C4C-9EFA-562D80F30793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78C09-BEF5-4DEE-A6A5-3E48F515A3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achtree City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31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chtre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Sierr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eorgia  30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87-2334…Nancy Smith x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4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486-8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CE0-C3CF-4020-AF6A-B53B7CF0732B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92760-4F1B-42DD-A243-03185E96C1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ria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3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6285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05344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912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664848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664848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6797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enti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00 Har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linois  61615-18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9) 692-8650…Marsha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202608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821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2F6-CB04-4644-A30A-1090B7E7CCE9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264F9-D70E-4D56-9E14-089FD6B2D4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vel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4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8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S-G Glass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  63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479-4421…Ron Watson x-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476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41940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670824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ve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B39-02C4-4720-B73F-C4B0E1E5EBCD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A9523-8757-4DEC-A81D-C2D1499E75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r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1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90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991320" y="464832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978720" y="50022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08-C Austin Dr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Milpas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  785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702-4656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F28-48A1-41B9-A009-4C2BD8AA3205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28D57-8A75-4A05-825F-39B7A91694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981080" y="34369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369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981080" y="30780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078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1981080" y="3854520"/>
          <a:ext cx="24156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854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6934320" y="419904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9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"/>
          <p:cNvSpPr/>
          <p:nvPr/>
        </p:nvSpPr>
        <p:spPr>
          <a:xfrm>
            <a:off x="2423520" y="2971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23880" y="37479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0320" y="115560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204080" y="3567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280" y="457200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Hampton, M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320" y="379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NH (Powers 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632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ppawa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3367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sville, AL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320" y="41623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lyphant, PA  (Warren Dia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981080" y="4259160"/>
          <a:ext cx="24156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4259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boro, MA (R&amp;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41432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3367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winigan, Que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556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9146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33720" y="990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981080" y="914400"/>
          <a:ext cx="24156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81080" y="914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2422800" y="776160"/>
            <a:ext cx="4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981080" y="4648320"/>
          <a:ext cx="24156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4648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09680" y="3124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23520" y="3352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0968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23520" y="4525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714640" y="3124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25560" y="3306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63832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25920" y="36878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6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25560" y="4068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638320" y="4267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4343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781680" y="3733920"/>
          <a:ext cx="47016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76D-3E91-42E3-852D-5C0A48F270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3B0CB-69F2-45F1-B02D-813EA6B1BA40}" type="datetime1">
              <a:rPr lang="en-US"/>
              <a:t>07/29/26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dmont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7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 2 Hwy. 49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issouri  63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3) 223-7554…Donnie Allen x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083-44A4-46B8-974A-9BEE84FB8855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CD618-3351-4B6E-A8CB-94CF5D38E8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3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9644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2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1830960" y="2522520"/>
            <a:ext cx="127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 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5009040" y="193356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9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9660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8" name=""/>
          <p:cNvSpPr/>
          <p:nvPr/>
        </p:nvSpPr>
        <p:spPr>
          <a:xfrm>
            <a:off x="3471480" y="193356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l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 flipH="1" flipV="1">
            <a:off x="7315200" y="5181120"/>
            <a:ext cx="3333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647964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t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46296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22544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20932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1328760" y="32828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1276200" y="3276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6363000" y="25146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64551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29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7620120" y="6507000"/>
            <a:ext cx="119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40120" y="225360"/>
            <a:ext cx="2505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 Alber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  N0J 1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Lynn Robertson x-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Joan Tune x-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7089840" y="3638520"/>
            <a:ext cx="101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7032600" y="3629160"/>
            <a:ext cx="112068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 flipV="1">
            <a:off x="7620120" y="4876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 flipV="1">
            <a:off x="16002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60020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7291440" y="436572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7238880" y="43592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 flipV="1">
            <a:off x="7620120" y="428292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7291440" y="313992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358040" y="3124080"/>
            <a:ext cx="46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 flipV="1">
            <a:off x="7620120" y="3504960"/>
            <a:ext cx="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440160" y="2674800"/>
            <a:ext cx="97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t# 9600-1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DSCT 429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D72-2068-4A1F-96B9-F2B56A42FA5B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0DE62-80B8-46A2-95D4-859F0AFD08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 Allegany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7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3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5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Alleg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71360" y="171360"/>
            <a:ext cx="27813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Glass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ennsylvania  16743-11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4) 642-3211…Bob Wy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19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68508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6684480" y="3276720"/>
            <a:ext cx="86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 Alleg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20" y="5256360"/>
            <a:ext cx="108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2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77400" y="403848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932040" y="5867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23E-D35C-4BCB-8C95-3B83093DA1C0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8BC44-75F0-46E6-9C73-6FBE433C13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Insul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78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479520" y="5113440"/>
            <a:ext cx="97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ORT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025720" y="3062160"/>
            <a:ext cx="113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7000 (56k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7205040" y="650700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Ins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25 North Loomba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47-9207…Cindy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706-96BD-4E6E-A9FC-6149E9B050FB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A1ACC-75CA-454B-9413-3463A7EB43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8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71360" y="171360"/>
            <a:ext cx="234324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0 NW Front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22-1307…Bob Char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7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BE4-A512-49E9-98B5-D63C4024143F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A7BDA-D280-4514-A889-EDBCF5E1C0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eigh, North Carolina (cancell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171360" y="190440"/>
            <a:ext cx="2095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9906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4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1938600" y="214956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42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7619400" y="6526080"/>
            <a:ext cx="119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5734800" y="1959120"/>
            <a:ext cx="1038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 Multiplex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&amp;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688000" y="1873080"/>
            <a:ext cx="1120680" cy="9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1959120" y="5254560"/>
            <a:ext cx="93024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931000" y="5187960"/>
            <a:ext cx="635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082600" y="582120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5845680" y="591660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48520" y="4172040"/>
            <a:ext cx="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62080" y="230040"/>
            <a:ext cx="192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Southwe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, NC  276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832-7771…Gus Hug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81B-D1DC-41B7-B923-1F1B268BA03E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98FA3-337C-4DF2-9552-57749377722E}" type="datetime1">
              <a:rPr lang="en-US"/>
              <a:t>07/29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cho Cordov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9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7865280" y="175248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7851240" y="467676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Cord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5 Kilg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lifornia  95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6) 635-1710…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00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B2F-24EF-401A-AFA9-D644020057E5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D2308-C59B-4027-8202-1B008D0F28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enna, Ohio (NorPr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4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005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8508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ve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936960" y="2041560"/>
            <a:ext cx="124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 HWDA 38479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6324480" y="6507000"/>
            <a:ext cx="250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venna (NorP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248040" y="299880"/>
            <a:ext cx="18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 South Prospec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 OH  44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96-9922...Al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969-5774-4697-B5C8-1F65793818E1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08A4D-33D3-40AF-9C01-F2DD18D3A1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16002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461520" y="2224080"/>
            <a:ext cx="165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03027V5133FNN04659 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5009400" y="1736640"/>
            <a:ext cx="1231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-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 #: 36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: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2" name=""/>
          <p:cNvGrpSpPr/>
          <p:nvPr/>
        </p:nvGrpSpPr>
        <p:grpSpPr>
          <a:xfrm>
            <a:off x="2133720" y="1828800"/>
            <a:ext cx="1523160" cy="1218960"/>
            <a:chOff x="2133720" y="1828800"/>
            <a:chExt cx="1523160" cy="1218960"/>
          </a:xfrm>
        </p:grpSpPr>
        <p:sp>
          <p:nvSpPr>
            <p:cNvPr id="10063" name=""/>
            <p:cNvSpPr/>
            <p:nvPr/>
          </p:nvSpPr>
          <p:spPr>
            <a:xfrm>
              <a:off x="2938320" y="1906560"/>
              <a:ext cx="3243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2133720" y="1926360"/>
              <a:ext cx="419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2516040" y="1828800"/>
              <a:ext cx="42084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2152440" y="2251440"/>
              <a:ext cx="42012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2380320" y="2525760"/>
              <a:ext cx="419400" cy="35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2745360" y="2694960"/>
              <a:ext cx="41940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146400" y="2548080"/>
              <a:ext cx="419400" cy="3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195000" y="2063880"/>
              <a:ext cx="461880" cy="5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1" name=""/>
          <p:cNvSpPr/>
          <p:nvPr/>
        </p:nvSpPr>
        <p:spPr>
          <a:xfrm>
            <a:off x="2432880" y="2133720"/>
            <a:ext cx="89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epho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67580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32004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308916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3836520" y="4800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295280" y="297180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1271880" y="2971800"/>
            <a:ext cx="6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1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16002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>
            <a:off x="7770240" y="65260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>
            <a:off x="171360" y="190440"/>
            <a:ext cx="27813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>
            <a:off x="224640" y="244440"/>
            <a:ext cx="260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 de Mexico S.A. de C.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cha E-99 Carretera Matamo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que Industrial 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Tamaulipas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Sergio Sanchez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Computer Room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Oscar Humph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52-89580303…via TelM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5" name=""/>
          <p:cNvGrpSpPr/>
          <p:nvPr/>
        </p:nvGrpSpPr>
        <p:grpSpPr>
          <a:xfrm>
            <a:off x="4800600" y="1447920"/>
            <a:ext cx="1523160" cy="2133000"/>
            <a:chOff x="4800600" y="1447920"/>
            <a:chExt cx="1523160" cy="2133000"/>
          </a:xfrm>
        </p:grpSpPr>
        <p:sp>
          <p:nvSpPr>
            <p:cNvPr id="10096" name=""/>
            <p:cNvSpPr/>
            <p:nvPr/>
          </p:nvSpPr>
          <p:spPr>
            <a:xfrm>
              <a:off x="5605200" y="1584000"/>
              <a:ext cx="32436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800600" y="1618560"/>
              <a:ext cx="41940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5182920" y="1447920"/>
              <a:ext cx="420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4819320" y="2187360"/>
              <a:ext cx="4201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5047200" y="2666880"/>
              <a:ext cx="41940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5412240" y="2963160"/>
              <a:ext cx="4194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5813280" y="2705760"/>
              <a:ext cx="41940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5861880" y="1859400"/>
              <a:ext cx="461880" cy="8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>
            <a:off x="37108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599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16002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83552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7150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7095960" y="60800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725004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 flipV="1">
            <a:off x="7620120" y="2438280"/>
            <a:ext cx="0" cy="30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8042400" y="50925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 flipV="1">
            <a:off x="7620120" y="521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646200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63990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670500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eynos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63244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609120" y="3276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709560" y="3062160"/>
            <a:ext cx="54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M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3675600" y="245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73868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0B3-9E32-4392-B2C4-6D9425271F61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2554E-C58A-4C95-A725-DEE87189EB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12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475920" y="511344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ICHM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6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7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8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2F0-9205-4E2B-BB02-A3EF64120F09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4FE37-1894-406C-A44B-EC05574ACD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Louisville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" y="5167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13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098800" y="5408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27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46600" y="318456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1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539424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2120" y="4175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7592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03800" y="5057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30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93D-A0F9-4D65-85C6-34B70E6066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0D16A-4A61-4C9D-AA27-D83C283F2B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2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0183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1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2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3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4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7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8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0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8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9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0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1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2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3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4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5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7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ttm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2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4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5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6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7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8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9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0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2" name=""/>
          <p:cNvSpPr/>
          <p:nvPr/>
        </p:nvSpPr>
        <p:spPr>
          <a:xfrm>
            <a:off x="1982880" y="2730600"/>
            <a:ext cx="1551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RTM01-3999886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3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t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609120" y="48448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220932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171360" y="190440"/>
            <a:ext cx="21146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249120" y="299880"/>
            <a:ext cx="196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&amp; O. Plastic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75 Sheet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 OH  44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927-3169…Chris G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761-F45D-41C9-91C4-B59B31E147BD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D7648-4A84-492B-88C7-ACD62F4A77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erport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24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2361600" y="5181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 flipH="1" flipV="1">
            <a:off x="21333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iu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/>
          <p:cNvSpPr/>
          <p:nvPr/>
        </p:nvSpPr>
        <p:spPr>
          <a:xfrm>
            <a:off x="171360" y="190440"/>
            <a:ext cx="24955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8" name=""/>
          <p:cNvSpPr/>
          <p:nvPr/>
        </p:nvSpPr>
        <p:spPr>
          <a:xfrm>
            <a:off x="328680" y="216000"/>
            <a:ext cx="2338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01 Distributi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entucky  40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95-2505…Mike Reli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33-1005…attendent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33177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935-17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3317760" y="489096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935-58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073-6903-4D3C-B5B0-A49441DB3C03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E3452-A178-447B-A503-8A8439920C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ring River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9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0310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4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5" name=""/>
          <p:cNvSpPr/>
          <p:nvPr/>
        </p:nvSpPr>
        <p:spPr>
          <a:xfrm>
            <a:off x="7455240" y="787320"/>
            <a:ext cx="106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7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8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9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V="1">
            <a:off x="1752480" y="29714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49 ABT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Wilkesboro, North Carolina  286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696-2751…Chris And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5275440" y="3367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7" name=""/>
          <p:cNvSpPr/>
          <p:nvPr/>
        </p:nvSpPr>
        <p:spPr>
          <a:xfrm>
            <a:off x="7086600" y="6507000"/>
            <a:ext cx="173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ring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8" name=""/>
          <p:cNvSpPr/>
          <p:nvPr/>
        </p:nvSpPr>
        <p:spPr>
          <a:xfrm>
            <a:off x="152280" y="152280"/>
            <a:ext cx="25146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1402560" y="243828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54100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549828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545508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FDB-49A7-494C-850D-8F5842654DA5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46824-CFC5-48A1-A0EA-068B6CC9B5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eo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37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013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eo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171360" y="190440"/>
            <a:ext cx="21718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Fenc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Forestwood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linois  60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5) 886-6488…Greg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7846920" y="6507000"/>
            <a:ext cx="100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o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344520" y="51894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MEO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767-B20E-420F-B2D5-6CF3D9DD4E5B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E877C-30D1-4C9A-8CBB-A0EE944C48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ulu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10438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6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265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588 Northli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chigan  48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4) 941-1388 x-171…Kevin Ad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4) 942-7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2484720" y="481500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34- 229-9150 / 734-229-9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505080" y="51055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2048400" y="280512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001328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8DD-9D19-444B-8345-AD6A45031A8D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7F55C-EFCE-4CC5-923B-AF48F4C27E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nks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7772400" y="6507000"/>
            <a:ext cx="105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a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 North Ronk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ennsylvania 17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687-1957…Kathy Wee x-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51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2322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nk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21196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6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470160" y="5181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3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9B2-DF17-44BE-924D-84062BF1BE42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69225-F3F8-4623-B2EA-2BD0D58EA8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sell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056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4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0" name=""/>
          <p:cNvSpPr/>
          <p:nvPr/>
        </p:nvSpPr>
        <p:spPr>
          <a:xfrm>
            <a:off x="171360" y="171360"/>
            <a:ext cx="2266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1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 Walnut Gate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nty Road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abama  356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332-9020…Phil Humph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7" name=""/>
          <p:cNvSpPr/>
          <p:nvPr/>
        </p:nvSpPr>
        <p:spPr>
          <a:xfrm>
            <a:off x="59436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8" name=""/>
          <p:cNvSpPr/>
          <p:nvPr/>
        </p:nvSpPr>
        <p:spPr>
          <a:xfrm>
            <a:off x="6092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606168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535-C4D3-46FE-AC57-DB3AB1FB9A4B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DBAF9-C5EA-4CD4-9B33-B89F0BB539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ton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1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41 Highway 56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sboro, LA  71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247-8041…John H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978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5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6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7" name=""/>
          <p:cNvSpPr/>
          <p:nvPr/>
        </p:nvSpPr>
        <p:spPr>
          <a:xfrm>
            <a:off x="519120" y="52578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8" name=""/>
          <p:cNvSpPr/>
          <p:nvPr/>
        </p:nvSpPr>
        <p:spPr>
          <a:xfrm>
            <a:off x="231840" y="4191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9" name=""/>
          <p:cNvSpPr/>
          <p:nvPr/>
        </p:nvSpPr>
        <p:spPr>
          <a:xfrm>
            <a:off x="1143000" y="5867280"/>
            <a:ext cx="93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697-A2DC-4F17-BEF0-3079463FB025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1C1DA-5DC3-46EF-B8A5-7045A182D7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Catharines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68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9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1" name=""/>
          <p:cNvSpPr/>
          <p:nvPr/>
        </p:nvSpPr>
        <p:spPr>
          <a:xfrm>
            <a:off x="7921080" y="175248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2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3" name=""/>
          <p:cNvSpPr/>
          <p:nvPr/>
        </p:nvSpPr>
        <p:spPr>
          <a:xfrm>
            <a:off x="7864200" y="467676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5" name=""/>
          <p:cNvSpPr/>
          <p:nvPr/>
        </p:nvSpPr>
        <p:spPr>
          <a:xfrm>
            <a:off x="171360" y="171360"/>
            <a:ext cx="27241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Seapar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  L2R 6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688-3160…Suesan Taylor x-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7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684-0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3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5-688-7122 / 905-688-71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3ON0008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EYNNFR2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4E5-0843-48DC-A79E-A4F72A489F32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C768F-80F5-4AD3-9AA4-69CA613637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Louis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7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2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3" name=""/>
          <p:cNvSpPr/>
          <p:nvPr/>
        </p:nvSpPr>
        <p:spPr>
          <a:xfrm>
            <a:off x="171360" y="171360"/>
            <a:ext cx="21718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4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60 South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issouri  63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776-8211…Bill Mori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877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Lou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454320" y="530208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T_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AC9-FB1B-4080-BD53-0CE75A320C39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B13E3-D3A1-47EE-9836-39A047807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Riverport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5248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1320" y="2743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98800" y="5424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47320" y="3200400"/>
            <a:ext cx="109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3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00200" y="541008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120" y="4191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95280" y="4191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57754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3800" y="5073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9960" y="4844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2720" y="236232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C09-2828-4677-8DD2-68FF244363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D28C6-5E91-4A2D-9863-FCBDB84DD9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bor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807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5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3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4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5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4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>
            <a:off x="65332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bo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>
            <a:off x="3808440" y="2041560"/>
            <a:ext cx="150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XHGL 176461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800064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171360" y="190440"/>
            <a:ext cx="339084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250920" y="291960"/>
            <a:ext cx="333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Corporation Microelectron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50 Co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  14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18…Pam Rakfel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35…John Barr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2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3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4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B07-3DFE-40D1-8991-772E2353A844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11577-C7E7-4F5B-9C28-41F14F614D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85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8377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83772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6 South Sandy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ah  84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1) 569-0440…Kevin Wil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1) 561-10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801-565-4776 / 801-565-47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74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3" name=""/>
          <p:cNvSpPr/>
          <p:nvPr/>
        </p:nvSpPr>
        <p:spPr>
          <a:xfrm>
            <a:off x="1974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4" name=""/>
          <p:cNvSpPr/>
          <p:nvPr/>
        </p:nvSpPr>
        <p:spPr>
          <a:xfrm flipH="1">
            <a:off x="1752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5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1481040" y="21398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1428840" y="2133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92E-E0E2-477C-8A8F-15847FDEE818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8566D-C3C5-4D1B-847F-546A284AF8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Jose, California (Fortune Driv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ose (Fortune Driv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>
            <a:off x="171360" y="457200"/>
            <a:ext cx="2952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>
            <a:off x="201600" y="517680"/>
            <a:ext cx="2922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emicon Equipment, Inc. (Hol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9 fortun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  951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Larry Walker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Rob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Judy McGee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>
            <a:off x="2229480" y="266688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HEC 7456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2188080" y="2895480"/>
            <a:ext cx="119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XEC 9594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0" name=""/>
          <p:cNvGrpSpPr/>
          <p:nvPr/>
        </p:nvGrpSpPr>
        <p:grpSpPr>
          <a:xfrm>
            <a:off x="3808440" y="990720"/>
            <a:ext cx="1905840" cy="3503160"/>
            <a:chOff x="3808440" y="990720"/>
            <a:chExt cx="1905840" cy="3503160"/>
          </a:xfrm>
        </p:grpSpPr>
        <p:sp>
          <p:nvSpPr>
            <p:cNvPr id="10931" name=""/>
            <p:cNvSpPr/>
            <p:nvPr/>
          </p:nvSpPr>
          <p:spPr>
            <a:xfrm>
              <a:off x="481536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80844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428652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83076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411624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457416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507564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513468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9" name=""/>
          <p:cNvSpPr/>
          <p:nvPr/>
        </p:nvSpPr>
        <p:spPr>
          <a:xfrm>
            <a:off x="7238520" y="6004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414072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48751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2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 flipV="1">
            <a:off x="1752480" y="28951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843360" y="2728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7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>
            <a:off x="83772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6936840" y="35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 Jo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327276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2" name=""/>
          <p:cNvSpPr/>
          <p:nvPr/>
        </p:nvSpPr>
        <p:spPr>
          <a:xfrm flipH="1">
            <a:off x="55627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78487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4" name=""/>
          <p:cNvSpPr/>
          <p:nvPr/>
        </p:nvSpPr>
        <p:spPr>
          <a:xfrm>
            <a:off x="6095880" y="26668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5" name=""/>
          <p:cNvSpPr/>
          <p:nvPr/>
        </p:nvSpPr>
        <p:spPr>
          <a:xfrm>
            <a:off x="594360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5248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234800" y="600408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374-7A00-47FC-AF60-7C4C0C334A61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5A79B-B277-4E06-BD37-617BB9D968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9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9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291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3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2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5 South Standar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6-016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D68-2EDD-49DC-A56A-7EDDB369A549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BF298-0E33-4C68-B957-2C42C826ED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ulpa, Oklaho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3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ul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5" name=""/>
          <p:cNvSpPr/>
          <p:nvPr/>
        </p:nvSpPr>
        <p:spPr>
          <a:xfrm>
            <a:off x="62856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6" name=""/>
          <p:cNvSpPr/>
          <p:nvPr/>
        </p:nvSpPr>
        <p:spPr>
          <a:xfrm>
            <a:off x="534960" y="508968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PUL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8" name=""/>
          <p:cNvSpPr/>
          <p:nvPr/>
        </p:nvSpPr>
        <p:spPr>
          <a:xfrm flipH="1">
            <a:off x="1371240" y="5013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3" name=""/>
          <p:cNvSpPr/>
          <p:nvPr/>
        </p:nvSpPr>
        <p:spPr>
          <a:xfrm>
            <a:off x="2043360" y="24987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6648480" y="3473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pul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348768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493560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North Missio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  7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8) 224-1440…Dixie Sams  x-5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5925240" y="2498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5847480" y="27273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5950080" y="515628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5887080" y="51642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5814720" y="4935600"/>
            <a:ext cx="87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41-70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553080" y="539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4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5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EBB-8407-4AC0-B8EF-1EE5A27044EF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CB991-0DA7-4432-8D1D-08325EB2A1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tle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9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8-62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3-86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171360" y="171360"/>
            <a:ext cx="272412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1 East Marginal Way S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shington  981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8-6203…Randy Bow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2-066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75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>
            <a:off x="68832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att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46044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1BB-06C5-404B-91A5-0CE4EED542FD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B2C15-38C7-4D8C-A7C0-D1A7EE875B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15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7294680" y="7873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2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30) 379-74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10-267-6045 / 210-267-60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0 North Crossroad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exas  78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30)  372-0160…Wayne 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2020320" y="2502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3" name=""/>
          <p:cNvSpPr/>
          <p:nvPr/>
        </p:nvSpPr>
        <p:spPr>
          <a:xfrm>
            <a:off x="1983240" y="27576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5" name=""/>
          <p:cNvSpPr/>
          <p:nvPr/>
        </p:nvSpPr>
        <p:spPr>
          <a:xfrm>
            <a:off x="589680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6" name=""/>
          <p:cNvSpPr/>
          <p:nvPr/>
        </p:nvSpPr>
        <p:spPr>
          <a:xfrm>
            <a:off x="5864760" y="28954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571500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54C-4660-40B8-A960-AB3DA94504D4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ED51E-7815-4885-8A15-E234B697BC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opee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12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8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0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kop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0" name=""/>
          <p:cNvSpPr/>
          <p:nvPr/>
        </p:nvSpPr>
        <p:spPr>
          <a:xfrm>
            <a:off x="171360" y="17136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1" name=""/>
          <p:cNvSpPr/>
          <p:nvPr/>
        </p:nvSpPr>
        <p:spPr>
          <a:xfrm>
            <a:off x="189360" y="216000"/>
            <a:ext cx="205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3 E 4th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innesota  55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2) 445-4287…Craig Par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o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12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6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12-445-9146 / 612-445-9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D09-2E1B-4CC6-AEB0-599C5B9DAC3A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D17D3-01D0-4ED0-9378-76EC6E7AA8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1128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9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2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3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4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5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6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7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8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9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0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11301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9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0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1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2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3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4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6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winig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7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8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/>
          <p:cNvSpPr/>
          <p:nvPr/>
        </p:nvSpPr>
        <p:spPr>
          <a:xfrm>
            <a:off x="610200" y="3962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1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4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5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8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9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2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3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1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2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3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wini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6" name=""/>
          <p:cNvSpPr/>
          <p:nvPr/>
        </p:nvSpPr>
        <p:spPr>
          <a:xfrm>
            <a:off x="171360" y="190440"/>
            <a:ext cx="262908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7" name=""/>
          <p:cNvSpPr/>
          <p:nvPr/>
        </p:nvSpPr>
        <p:spPr>
          <a:xfrm>
            <a:off x="252360" y="216000"/>
            <a:ext cx="2567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R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  G9N 6W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Mario Clermont x-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Pierre x-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8" name=""/>
          <p:cNvSpPr/>
          <p:nvPr/>
        </p:nvSpPr>
        <p:spPr>
          <a:xfrm>
            <a:off x="1953360" y="2529000"/>
            <a:ext cx="116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NXGX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9" name=""/>
          <p:cNvSpPr/>
          <p:nvPr/>
        </p:nvSpPr>
        <p:spPr>
          <a:xfrm>
            <a:off x="64922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0" name=""/>
          <p:cNvSpPr/>
          <p:nvPr/>
        </p:nvSpPr>
        <p:spPr>
          <a:xfrm>
            <a:off x="64634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B82-388E-4690-AECB-233F489DCE11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AA049-07E1-4113-8BC9-D806B5EDBD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reveport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3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Aero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ouisiana  71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677-2701…Stella Bar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243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B6A-C2BA-41A3-B997-CBDE2A04C33A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F258E-10F7-4DD4-B164-EC1F57CE81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erde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31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berde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1360" y="171360"/>
            <a:ext cx="25527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ro/Colonial Abrasiv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 South Pin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 NC  28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Mary Bridsch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Bill Sael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erd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28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C3A-7FEC-48F9-BBFA-D0E3B5B8E45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8BAA4-ADF6-4BB0-B7A4-70B5CB75C2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933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0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1" name=""/>
          <p:cNvSpPr/>
          <p:nvPr/>
        </p:nvSpPr>
        <p:spPr>
          <a:xfrm>
            <a:off x="189000" y="216000"/>
            <a:ext cx="191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2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6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863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7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8B9-80DB-41B6-A9D3-EAB9F7CC24A8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8CD57-6872-4257-B1BD-DB016908E1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Wh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8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5" name=""/>
          <p:cNvSpPr/>
          <p:nvPr/>
        </p:nvSpPr>
        <p:spPr>
          <a:xfrm>
            <a:off x="3459240" y="3138480"/>
            <a:ext cx="70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3" name=""/>
          <p:cNvSpPr/>
          <p:nvPr/>
        </p:nvSpPr>
        <p:spPr>
          <a:xfrm>
            <a:off x="171360" y="190440"/>
            <a:ext cx="24764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4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2 East Hightower Trai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050…Dan Kozak (whs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5" name=""/>
          <p:cNvSpPr/>
          <p:nvPr/>
        </p:nvSpPr>
        <p:spPr>
          <a:xfrm>
            <a:off x="6400800" y="6507000"/>
            <a:ext cx="248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4" name=""/>
          <p:cNvSpPr/>
          <p:nvPr/>
        </p:nvSpPr>
        <p:spPr>
          <a:xfrm>
            <a:off x="606888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 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8A3-8E8E-4D84-B513-78C2AE19D554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DC4B9-9E87-4A9F-9416-70522BD9D1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dy-Daisy, Tenness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154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9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>
            <a:off x="53676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7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9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0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1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2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3" name=""/>
          <p:cNvSpPr/>
          <p:nvPr/>
        </p:nvSpPr>
        <p:spPr>
          <a:xfrm>
            <a:off x="670500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ddy-Dais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4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5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6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7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9" name=""/>
          <p:cNvSpPr/>
          <p:nvPr/>
        </p:nvSpPr>
        <p:spPr>
          <a:xfrm>
            <a:off x="3814920" y="4191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23) 332-38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0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3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4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7" name=""/>
          <p:cNvSpPr/>
          <p:nvPr/>
        </p:nvSpPr>
        <p:spPr>
          <a:xfrm>
            <a:off x="7391520" y="6507000"/>
            <a:ext cx="143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dy-Dai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9" name=""/>
          <p:cNvSpPr/>
          <p:nvPr/>
        </p:nvSpPr>
        <p:spPr>
          <a:xfrm>
            <a:off x="173160" y="223920"/>
            <a:ext cx="230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Igou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  37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23) 332-3571...Carl Wiesen x-1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>
            <a:off x="316152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423-332-4734 / 423-332-3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1831320" y="2986200"/>
            <a:ext cx="144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SD00-3204963 (2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20815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493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6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7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8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9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0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1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2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3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7C4-6B8A-4FB5-8342-03CC4F5FC4DC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B8145-A531-4377-87FC-DB56E3CEB1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7" name=""/>
          <p:cNvGrpSpPr/>
          <p:nvPr/>
        </p:nvGrpSpPr>
        <p:grpSpPr>
          <a:xfrm>
            <a:off x="4113360" y="1905120"/>
            <a:ext cx="1905840" cy="1675440"/>
            <a:chOff x="4113360" y="1905120"/>
            <a:chExt cx="1905840" cy="1675440"/>
          </a:xfrm>
        </p:grpSpPr>
        <p:sp>
          <p:nvSpPr>
            <p:cNvPr id="11598" name=""/>
            <p:cNvSpPr/>
            <p:nvPr/>
          </p:nvSpPr>
          <p:spPr>
            <a:xfrm>
              <a:off x="5120280" y="2012040"/>
              <a:ext cx="4068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4113360" y="2040120"/>
              <a:ext cx="52380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4591440" y="1905120"/>
              <a:ext cx="52704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135680" y="2486520"/>
              <a:ext cx="5263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4421160" y="2863080"/>
              <a:ext cx="52452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>
              <a:off x="4879080" y="3095280"/>
              <a:ext cx="52452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>
              <a:off x="5380560" y="2893320"/>
              <a:ext cx="52380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>
              <a:off x="5439600" y="2228400"/>
              <a:ext cx="5796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7" name=""/>
          <p:cNvSpPr/>
          <p:nvPr/>
        </p:nvSpPr>
        <p:spPr>
          <a:xfrm>
            <a:off x="7238520" y="838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0" name=""/>
          <p:cNvSpPr/>
          <p:nvPr/>
        </p:nvSpPr>
        <p:spPr>
          <a:xfrm>
            <a:off x="7461360" y="39625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1" name=""/>
          <p:cNvSpPr/>
          <p:nvPr/>
        </p:nvSpPr>
        <p:spPr>
          <a:xfrm>
            <a:off x="4443840" y="213372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2" name=""/>
          <p:cNvSpPr/>
          <p:nvPr/>
        </p:nvSpPr>
        <p:spPr>
          <a:xfrm>
            <a:off x="536724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3" name=""/>
          <p:cNvSpPr/>
          <p:nvPr/>
        </p:nvSpPr>
        <p:spPr>
          <a:xfrm>
            <a:off x="7316280" y="449568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6" name=""/>
          <p:cNvSpPr/>
          <p:nvPr/>
        </p:nvSpPr>
        <p:spPr>
          <a:xfrm>
            <a:off x="2285280" y="4114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0" name=""/>
          <p:cNvSpPr/>
          <p:nvPr/>
        </p:nvSpPr>
        <p:spPr>
          <a:xfrm>
            <a:off x="1399680" y="249876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8" name=""/>
          <p:cNvSpPr/>
          <p:nvPr/>
        </p:nvSpPr>
        <p:spPr>
          <a:xfrm>
            <a:off x="1069560" y="43578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0" name=""/>
          <p:cNvSpPr/>
          <p:nvPr/>
        </p:nvSpPr>
        <p:spPr>
          <a:xfrm>
            <a:off x="41126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3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4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5" name=""/>
          <p:cNvSpPr/>
          <p:nvPr/>
        </p:nvSpPr>
        <p:spPr>
          <a:xfrm>
            <a:off x="785196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7" name=""/>
          <p:cNvSpPr/>
          <p:nvPr/>
        </p:nvSpPr>
        <p:spPr>
          <a:xfrm>
            <a:off x="784872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8" name=""/>
          <p:cNvSpPr/>
          <p:nvPr/>
        </p:nvSpPr>
        <p:spPr>
          <a:xfrm flipH="1">
            <a:off x="205704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9" name=""/>
          <p:cNvSpPr/>
          <p:nvPr/>
        </p:nvSpPr>
        <p:spPr>
          <a:xfrm>
            <a:off x="534924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0" name=""/>
          <p:cNvSpPr/>
          <p:nvPr/>
        </p:nvSpPr>
        <p:spPr>
          <a:xfrm>
            <a:off x="6095880" y="254304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1" name=""/>
          <p:cNvSpPr/>
          <p:nvPr/>
        </p:nvSpPr>
        <p:spPr>
          <a:xfrm>
            <a:off x="594360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2" name=""/>
          <p:cNvSpPr/>
          <p:nvPr/>
        </p:nvSpPr>
        <p:spPr>
          <a:xfrm>
            <a:off x="586728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3" name=""/>
          <p:cNvSpPr/>
          <p:nvPr/>
        </p:nvSpPr>
        <p:spPr>
          <a:xfrm>
            <a:off x="24346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31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4" name=""/>
          <p:cNvSpPr/>
          <p:nvPr/>
        </p:nvSpPr>
        <p:spPr>
          <a:xfrm>
            <a:off x="2286000" y="27558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4039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5" name=""/>
          <p:cNvSpPr/>
          <p:nvPr/>
        </p:nvSpPr>
        <p:spPr>
          <a:xfrm>
            <a:off x="59436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6" name=""/>
          <p:cNvSpPr/>
          <p:nvPr/>
        </p:nvSpPr>
        <p:spPr>
          <a:xfrm>
            <a:off x="3962520" y="56386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171360" y="190440"/>
            <a:ext cx="3029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8" name=""/>
          <p:cNvSpPr/>
          <p:nvPr/>
        </p:nvSpPr>
        <p:spPr>
          <a:xfrm>
            <a:off x="190440" y="216000"/>
            <a:ext cx="293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801 Cochr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io  441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248-7400…Marylou Johnson x-6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9" name=""/>
          <p:cNvSpPr/>
          <p:nvPr/>
        </p:nvSpPr>
        <p:spPr>
          <a:xfrm>
            <a:off x="4343400" y="527040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 Dedic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0" name=""/>
          <p:cNvSpPr/>
          <p:nvPr/>
        </p:nvSpPr>
        <p:spPr>
          <a:xfrm>
            <a:off x="2285280" y="51800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1" name=""/>
          <p:cNvSpPr/>
          <p:nvPr/>
        </p:nvSpPr>
        <p:spPr>
          <a:xfrm>
            <a:off x="2133720" y="51055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2" name=""/>
          <p:cNvSpPr/>
          <p:nvPr/>
        </p:nvSpPr>
        <p:spPr>
          <a:xfrm>
            <a:off x="3124080" y="5105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3" name=""/>
          <p:cNvSpPr/>
          <p:nvPr/>
        </p:nvSpPr>
        <p:spPr>
          <a:xfrm>
            <a:off x="31240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4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5" name=""/>
          <p:cNvGrpSpPr/>
          <p:nvPr/>
        </p:nvGrpSpPr>
        <p:grpSpPr>
          <a:xfrm>
            <a:off x="4114800" y="3581280"/>
            <a:ext cx="1827720" cy="1218600"/>
            <a:chOff x="4114800" y="3581280"/>
            <a:chExt cx="1827720" cy="1218600"/>
          </a:xfrm>
        </p:grpSpPr>
        <p:sp>
          <p:nvSpPr>
            <p:cNvPr id="11656" name=""/>
            <p:cNvSpPr/>
            <p:nvPr/>
          </p:nvSpPr>
          <p:spPr>
            <a:xfrm>
              <a:off x="5081040" y="3659400"/>
              <a:ext cx="39204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4114800" y="3680640"/>
              <a:ext cx="50400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4572360" y="3581280"/>
              <a:ext cx="5047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4136400" y="4003560"/>
              <a:ext cx="50256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408200" y="4276800"/>
              <a:ext cx="5054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4849200" y="4445640"/>
              <a:ext cx="504360" cy="3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5330880" y="4300560"/>
              <a:ext cx="504000" cy="35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5387040" y="3813840"/>
              <a:ext cx="55548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4" name=""/>
          <p:cNvSpPr/>
          <p:nvPr/>
        </p:nvSpPr>
        <p:spPr>
          <a:xfrm>
            <a:off x="4267080" y="373392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rint Frame-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5" name=""/>
          <p:cNvSpPr/>
          <p:nvPr/>
        </p:nvSpPr>
        <p:spPr>
          <a:xfrm>
            <a:off x="4496400" y="548640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124080" y="4191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7461360" y="5470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8" name=""/>
          <p:cNvSpPr/>
          <p:nvPr/>
        </p:nvSpPr>
        <p:spPr>
          <a:xfrm>
            <a:off x="7395840" y="60040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9" name=""/>
          <p:cNvSpPr/>
          <p:nvPr/>
        </p:nvSpPr>
        <p:spPr>
          <a:xfrm>
            <a:off x="6647040" y="5570640"/>
            <a:ext cx="36324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0" name=""/>
          <p:cNvSpPr/>
          <p:nvPr/>
        </p:nvSpPr>
        <p:spPr>
          <a:xfrm>
            <a:off x="3598920" y="5562720"/>
            <a:ext cx="36360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1" name=""/>
          <p:cNvSpPr/>
          <p:nvPr/>
        </p:nvSpPr>
        <p:spPr>
          <a:xfrm>
            <a:off x="70102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2" name=""/>
          <p:cNvSpPr/>
          <p:nvPr/>
        </p:nvSpPr>
        <p:spPr>
          <a:xfrm>
            <a:off x="71042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3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4" name=""/>
          <p:cNvSpPr/>
          <p:nvPr/>
        </p:nvSpPr>
        <p:spPr>
          <a:xfrm>
            <a:off x="32180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5" name=""/>
          <p:cNvSpPr/>
          <p:nvPr/>
        </p:nvSpPr>
        <p:spPr>
          <a:xfrm>
            <a:off x="411408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6" name=""/>
          <p:cNvSpPr/>
          <p:nvPr/>
        </p:nvSpPr>
        <p:spPr>
          <a:xfrm>
            <a:off x="6019920" y="39625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7" name=""/>
          <p:cNvSpPr/>
          <p:nvPr/>
        </p:nvSpPr>
        <p:spPr>
          <a:xfrm>
            <a:off x="2895480" y="39765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8" name=""/>
          <p:cNvGrpSpPr/>
          <p:nvPr/>
        </p:nvGrpSpPr>
        <p:grpSpPr>
          <a:xfrm>
            <a:off x="4114800" y="4952880"/>
            <a:ext cx="1827720" cy="1370880"/>
            <a:chOff x="4114800" y="4952880"/>
            <a:chExt cx="1827720" cy="1370880"/>
          </a:xfrm>
        </p:grpSpPr>
        <p:sp>
          <p:nvSpPr>
            <p:cNvPr id="11679" name=""/>
            <p:cNvSpPr/>
            <p:nvPr/>
          </p:nvSpPr>
          <p:spPr>
            <a:xfrm>
              <a:off x="5081040" y="5040720"/>
              <a:ext cx="392040" cy="3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4114800" y="5064480"/>
              <a:ext cx="5040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4572360" y="4952880"/>
              <a:ext cx="50472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4136400" y="5428080"/>
              <a:ext cx="502560" cy="39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4408200" y="5735520"/>
              <a:ext cx="505440" cy="3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4849200" y="5925240"/>
              <a:ext cx="5043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5330880" y="5761800"/>
              <a:ext cx="50400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5387040" y="5214600"/>
              <a:ext cx="555480" cy="56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7" name=""/>
          <p:cNvSpPr/>
          <p:nvPr/>
        </p:nvSpPr>
        <p:spPr>
          <a:xfrm>
            <a:off x="2209320" y="45864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8" name=""/>
          <p:cNvSpPr/>
          <p:nvPr/>
        </p:nvSpPr>
        <p:spPr>
          <a:xfrm>
            <a:off x="2212560" y="48909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2133360" y="5029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2133360" y="4724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1" name=""/>
          <p:cNvSpPr/>
          <p:nvPr/>
        </p:nvSpPr>
        <p:spPr>
          <a:xfrm>
            <a:off x="3962520" y="5791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2" name=""/>
          <p:cNvSpPr/>
          <p:nvPr/>
        </p:nvSpPr>
        <p:spPr>
          <a:xfrm>
            <a:off x="4496400" y="563868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538-3476-4E9A-9865-BBC434AE97F7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E737A-33BB-472C-A6EA-9666275823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San Francisc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69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6" name=""/>
          <p:cNvSpPr/>
          <p:nvPr/>
        </p:nvSpPr>
        <p:spPr>
          <a:xfrm>
            <a:off x="609480" y="59436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7" name=""/>
          <p:cNvSpPr/>
          <p:nvPr/>
        </p:nvSpPr>
        <p:spPr>
          <a:xfrm>
            <a:off x="716076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9" name=""/>
          <p:cNvSpPr/>
          <p:nvPr/>
        </p:nvSpPr>
        <p:spPr>
          <a:xfrm>
            <a:off x="394560" y="3962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0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258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3" name=""/>
          <p:cNvSpPr/>
          <p:nvPr/>
        </p:nvSpPr>
        <p:spPr>
          <a:xfrm flipH="1">
            <a:off x="1218960" y="41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0" name=""/>
          <p:cNvSpPr/>
          <p:nvPr/>
        </p:nvSpPr>
        <p:spPr>
          <a:xfrm>
            <a:off x="5976360" y="46767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 San Franci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/Asti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Produ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lifornia  94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50) 244-4800…Jerome Mallav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553080" y="6507000"/>
            <a:ext cx="2273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2127240" y="4495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59061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C12-A0A3-46CC-BE7E-280894FC1AB1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C560C-CAF8-42F0-A8A8-3318DEB638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hen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2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753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343044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484848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491508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7095960" y="59691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 flipH="1" flipV="1">
            <a:off x="5562360" y="210492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>
            <a:off x="725004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1447920" y="2790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>
            <a:off x="2057400" y="2562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>
            <a:off x="2097720" y="2576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871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5562720" y="2562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762012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7391520" y="27428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3" name=""/>
          <p:cNvSpPr/>
          <p:nvPr/>
        </p:nvSpPr>
        <p:spPr>
          <a:xfrm>
            <a:off x="7842240" y="498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7620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5" name=""/>
          <p:cNvSpPr/>
          <p:nvPr/>
        </p:nvSpPr>
        <p:spPr>
          <a:xfrm>
            <a:off x="6338160" y="47530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eph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6" name=""/>
          <p:cNvSpPr/>
          <p:nvPr/>
        </p:nvSpPr>
        <p:spPr>
          <a:xfrm flipH="1">
            <a:off x="71625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7" name=""/>
          <p:cNvSpPr/>
          <p:nvPr/>
        </p:nvSpPr>
        <p:spPr>
          <a:xfrm>
            <a:off x="348768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8" name=""/>
          <p:cNvSpPr/>
          <p:nvPr/>
        </p:nvSpPr>
        <p:spPr>
          <a:xfrm>
            <a:off x="493560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9" name=""/>
          <p:cNvSpPr/>
          <p:nvPr/>
        </p:nvSpPr>
        <p:spPr>
          <a:xfrm>
            <a:off x="3866040" y="198288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>
            <a:off x="7770960" y="652464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h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1" name=""/>
          <p:cNvSpPr/>
          <p:nvPr/>
        </p:nvSpPr>
        <p:spPr>
          <a:xfrm>
            <a:off x="171360" y="190440"/>
            <a:ext cx="25527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2" name=""/>
          <p:cNvSpPr/>
          <p:nvPr/>
        </p:nvSpPr>
        <p:spPr>
          <a:xfrm>
            <a:off x="223920" y="249120"/>
            <a:ext cx="2519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70 West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  76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18-6499…Ala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68-416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3" name=""/>
          <p:cNvSpPr/>
          <p:nvPr/>
        </p:nvSpPr>
        <p:spPr>
          <a:xfrm>
            <a:off x="2129760" y="2347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7372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5" name=""/>
          <p:cNvSpPr/>
          <p:nvPr/>
        </p:nvSpPr>
        <p:spPr>
          <a:xfrm>
            <a:off x="977040" y="3187800"/>
            <a:ext cx="116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6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7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8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9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1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1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8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9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0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1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30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2" name=""/>
          <p:cNvSpPr/>
          <p:nvPr/>
        </p:nvSpPr>
        <p:spPr>
          <a:xfrm>
            <a:off x="283248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6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4" name=""/>
          <p:cNvSpPr/>
          <p:nvPr/>
        </p:nvSpPr>
        <p:spPr>
          <a:xfrm>
            <a:off x="593964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5" name=""/>
          <p:cNvSpPr/>
          <p:nvPr/>
        </p:nvSpPr>
        <p:spPr>
          <a:xfrm>
            <a:off x="5876640" y="25909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6E5-621F-47C6-A074-66C04AAE555F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ED38-E03B-4E9A-9D31-4973AC7E8E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171360" y="190440"/>
            <a:ext cx="2266920" cy="125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>
            <a:off x="228240" y="250920"/>
            <a:ext cx="2103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4963…Phil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7998…Rick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9" name=""/>
          <p:cNvSpPr/>
          <p:nvPr/>
        </p:nvSpPr>
        <p:spPr>
          <a:xfrm>
            <a:off x="4038120" y="60800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0" name=""/>
          <p:cNvSpPr/>
          <p:nvPr/>
        </p:nvSpPr>
        <p:spPr>
          <a:xfrm>
            <a:off x="3127680" y="536256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1" name=""/>
          <p:cNvSpPr/>
          <p:nvPr/>
        </p:nvSpPr>
        <p:spPr>
          <a:xfrm flipV="1">
            <a:off x="2057400" y="25905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2" name=""/>
          <p:cNvGrpSpPr/>
          <p:nvPr/>
        </p:nvGrpSpPr>
        <p:grpSpPr>
          <a:xfrm>
            <a:off x="6248520" y="1752480"/>
            <a:ext cx="2286360" cy="2133360"/>
            <a:chOff x="6248520" y="1752480"/>
            <a:chExt cx="2286360" cy="2133360"/>
          </a:xfrm>
        </p:grpSpPr>
        <p:sp>
          <p:nvSpPr>
            <p:cNvPr id="11823" name=""/>
            <p:cNvSpPr/>
            <p:nvPr/>
          </p:nvSpPr>
          <p:spPr>
            <a:xfrm>
              <a:off x="7458840" y="1888560"/>
              <a:ext cx="4878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3"/>
                  </a:moveTo>
                  <a:arcTo wR="10800" hR="10800" stAng="-9958573" swAng="11225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3"/>
                  </a:moveTo>
                  <a:arcTo wR="10800" hR="10800" stAng="-9958573" swAng="11225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6248520" y="1922040"/>
              <a:ext cx="628200" cy="62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4" y="20700"/>
                  </a:moveTo>
                  <a:arcTo wR="10800" hR="10800" stAng="6813188" swAng="1240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4" y="20700"/>
                  </a:moveTo>
                  <a:arcTo wR="10800" hR="10800" stAng="6813188" swAng="124084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6822360" y="1752480"/>
              <a:ext cx="631800" cy="61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3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6276240" y="2489400"/>
              <a:ext cx="63684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4" y="21213"/>
                  </a:moveTo>
                  <a:arcTo wR="10800" hR="10800" stAng="4477321" swAng="10129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4" y="21213"/>
                  </a:moveTo>
                  <a:arcTo wR="10800" hR="10800" stAng="4477321" swAng="101298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6617880" y="2970720"/>
              <a:ext cx="628920" cy="62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805" swAng="10601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805" swAng="106015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7172280" y="3268440"/>
              <a:ext cx="62676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2" y="5684"/>
                  </a:moveTo>
                  <a:arcTo wR="10800" hR="10800" stAng="-1696322" swAng="13035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2" y="5684"/>
                  </a:moveTo>
                  <a:arcTo wR="10800" hR="10800" stAng="-1696322" swAng="13035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7770600" y="3011040"/>
              <a:ext cx="62712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7" y="393"/>
                  </a:moveTo>
                  <a:arcTo wR="10800" hR="10800" stAng="-4469684" swAng="13783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7" y="393"/>
                  </a:moveTo>
                  <a:arcTo wR="10800" hR="10800" stAng="-4469684" swAng="13783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7839720" y="2166480"/>
              <a:ext cx="695160" cy="87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6" y="3062"/>
                  </a:moveTo>
                  <a:arcTo wR="10800" hR="10800" stAng="-8054216" swAng="13454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6" y="3062"/>
                  </a:moveTo>
                  <a:arcTo wR="10800" hR="10800" stAng="-8054216" swAng="13454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1" name=""/>
          <p:cNvSpPr/>
          <p:nvPr/>
        </p:nvSpPr>
        <p:spPr>
          <a:xfrm>
            <a:off x="7119720" y="25844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2" name=""/>
          <p:cNvSpPr/>
          <p:nvPr/>
        </p:nvSpPr>
        <p:spPr>
          <a:xfrm>
            <a:off x="4191120" y="4038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3" name=""/>
          <p:cNvGrpSpPr/>
          <p:nvPr/>
        </p:nvGrpSpPr>
        <p:grpSpPr>
          <a:xfrm>
            <a:off x="380880" y="3728880"/>
            <a:ext cx="1217160" cy="1904760"/>
            <a:chOff x="380880" y="3728880"/>
            <a:chExt cx="1217160" cy="1904760"/>
          </a:xfrm>
        </p:grpSpPr>
        <p:sp>
          <p:nvSpPr>
            <p:cNvPr id="11834" name=""/>
            <p:cNvSpPr/>
            <p:nvPr/>
          </p:nvSpPr>
          <p:spPr>
            <a:xfrm>
              <a:off x="1024560" y="3848040"/>
              <a:ext cx="2592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511" swAng="11184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511" swAng="1118422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380880" y="3879720"/>
              <a:ext cx="33588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9" y="20711"/>
                  </a:moveTo>
                  <a:arcTo wR="10800" hR="10800" stAng="6804508" swAng="124385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9" y="20711"/>
                  </a:moveTo>
                  <a:arcTo wR="10800" hR="10800" stAng="6804508" swAng="124385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687240" y="3728880"/>
              <a:ext cx="33624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300" swAng="10641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300" swAng="106411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395280" y="4386960"/>
              <a:ext cx="338400" cy="5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3" y="21216"/>
                  </a:moveTo>
                  <a:arcTo wR="10800" hR="10800" stAng="4481052" swAng="10127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3" y="21216"/>
                  </a:moveTo>
                  <a:arcTo wR="10800" hR="10800" stAng="4481052" swAng="101272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576000" y="4815720"/>
              <a:ext cx="33696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2" y="17447"/>
                  </a:moveTo>
                  <a:arcTo wR="10800" hR="10800" stAng="2279093" swAng="10627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2" y="17447"/>
                  </a:moveTo>
                  <a:arcTo wR="10800" hR="10800" stAng="2279093" swAng="106277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69760" y="5079240"/>
              <a:ext cx="335880" cy="55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5" y="5653"/>
                  </a:moveTo>
                  <a:arcTo wR="10800" hR="10800" stAng="-1707814" swAng="13059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5" y="5653"/>
                  </a:moveTo>
                  <a:arcTo wR="10800" hR="10800" stAng="-1707814" swAng="130598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1189800" y="4853880"/>
              <a:ext cx="335160" cy="54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5" y="409"/>
                  </a:moveTo>
                  <a:arcTo wR="10800" hR="10800" stAng="-4450591" swAng="13765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5" y="409"/>
                  </a:moveTo>
                  <a:arcTo wR="10800" hR="10800" stAng="-4450591" swAng="1376527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1227600" y="4100400"/>
              <a:ext cx="370440" cy="77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4" y="3035"/>
                  </a:moveTo>
                  <a:arcTo wR="10800" hR="10800" stAng="-8041671" swAng="13441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4" y="3035"/>
                  </a:moveTo>
                  <a:arcTo wR="10800" hR="10800" stAng="-8041671" swAng="134416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2" name=""/>
          <p:cNvSpPr/>
          <p:nvPr/>
        </p:nvSpPr>
        <p:spPr>
          <a:xfrm>
            <a:off x="536400" y="44942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3" name=""/>
          <p:cNvSpPr/>
          <p:nvPr/>
        </p:nvSpPr>
        <p:spPr>
          <a:xfrm>
            <a:off x="8305920" y="6523200"/>
            <a:ext cx="54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4" name=""/>
          <p:cNvSpPr/>
          <p:nvPr/>
        </p:nvSpPr>
        <p:spPr>
          <a:xfrm>
            <a:off x="1524240" y="4129200"/>
            <a:ext cx="76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al Fu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5" name=""/>
          <p:cNvSpPr/>
          <p:nvPr/>
        </p:nvSpPr>
        <p:spPr>
          <a:xfrm flipH="1">
            <a:off x="4038120" y="52578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6" name=""/>
          <p:cNvSpPr/>
          <p:nvPr/>
        </p:nvSpPr>
        <p:spPr>
          <a:xfrm flipH="1">
            <a:off x="4038120" y="5927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7" name=""/>
          <p:cNvSpPr/>
          <p:nvPr/>
        </p:nvSpPr>
        <p:spPr>
          <a:xfrm>
            <a:off x="4419720" y="52578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8" name=""/>
          <p:cNvSpPr/>
          <p:nvPr/>
        </p:nvSpPr>
        <p:spPr>
          <a:xfrm>
            <a:off x="426708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9" name=""/>
          <p:cNvSpPr/>
          <p:nvPr/>
        </p:nvSpPr>
        <p:spPr>
          <a:xfrm>
            <a:off x="457200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0" name=""/>
          <p:cNvSpPr/>
          <p:nvPr/>
        </p:nvSpPr>
        <p:spPr>
          <a:xfrm flipV="1">
            <a:off x="411480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1" name=""/>
          <p:cNvSpPr/>
          <p:nvPr/>
        </p:nvSpPr>
        <p:spPr>
          <a:xfrm flipV="1">
            <a:off x="472428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2" name=""/>
          <p:cNvSpPr/>
          <p:nvPr/>
        </p:nvSpPr>
        <p:spPr>
          <a:xfrm>
            <a:off x="3581280" y="3886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3" name=""/>
          <p:cNvSpPr/>
          <p:nvPr/>
        </p:nvSpPr>
        <p:spPr>
          <a:xfrm>
            <a:off x="5068440" y="38098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876920" y="3962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5" name=""/>
          <p:cNvSpPr/>
          <p:nvPr/>
        </p:nvSpPr>
        <p:spPr>
          <a:xfrm>
            <a:off x="5181480" y="41464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51055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7" name=""/>
          <p:cNvSpPr/>
          <p:nvPr/>
        </p:nvSpPr>
        <p:spPr>
          <a:xfrm>
            <a:off x="480060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8" name=""/>
          <p:cNvSpPr/>
          <p:nvPr/>
        </p:nvSpPr>
        <p:spPr>
          <a:xfrm>
            <a:off x="51814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9" name=""/>
          <p:cNvSpPr/>
          <p:nvPr/>
        </p:nvSpPr>
        <p:spPr>
          <a:xfrm>
            <a:off x="51055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0" name=""/>
          <p:cNvSpPr/>
          <p:nvPr/>
        </p:nvSpPr>
        <p:spPr>
          <a:xfrm>
            <a:off x="48006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1" name=""/>
          <p:cNvSpPr/>
          <p:nvPr/>
        </p:nvSpPr>
        <p:spPr>
          <a:xfrm>
            <a:off x="5861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76-0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2" name=""/>
          <p:cNvSpPr/>
          <p:nvPr/>
        </p:nvSpPr>
        <p:spPr>
          <a:xfrm>
            <a:off x="5848560" y="4576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96-04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3" name=""/>
          <p:cNvSpPr/>
          <p:nvPr/>
        </p:nvSpPr>
        <p:spPr>
          <a:xfrm flipH="1">
            <a:off x="1523520" y="4724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4" name=""/>
          <p:cNvSpPr/>
          <p:nvPr/>
        </p:nvSpPr>
        <p:spPr>
          <a:xfrm>
            <a:off x="4038480" y="4267080"/>
            <a:ext cx="7621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5" name=""/>
          <p:cNvSpPr/>
          <p:nvPr/>
        </p:nvSpPr>
        <p:spPr>
          <a:xfrm flipH="1">
            <a:off x="1447920" y="5105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6" name=""/>
          <p:cNvSpPr/>
          <p:nvPr/>
        </p:nvSpPr>
        <p:spPr>
          <a:xfrm flipH="1">
            <a:off x="1523520" y="4343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7" name=""/>
          <p:cNvSpPr/>
          <p:nvPr/>
        </p:nvSpPr>
        <p:spPr>
          <a:xfrm>
            <a:off x="1524960" y="4510080"/>
            <a:ext cx="59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ve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8" name=""/>
          <p:cNvSpPr/>
          <p:nvPr/>
        </p:nvSpPr>
        <p:spPr>
          <a:xfrm>
            <a:off x="1523880" y="4876920"/>
            <a:ext cx="66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9" name=""/>
          <p:cNvSpPr/>
          <p:nvPr/>
        </p:nvSpPr>
        <p:spPr>
          <a:xfrm>
            <a:off x="2198160" y="4876920"/>
            <a:ext cx="121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79031 (154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0" name=""/>
          <p:cNvSpPr/>
          <p:nvPr/>
        </p:nvSpPr>
        <p:spPr>
          <a:xfrm>
            <a:off x="2135880" y="4510080"/>
            <a:ext cx="127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1 HWDA 38479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>
            <a:off x="2260800" y="4114800"/>
            <a:ext cx="113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WDA 5064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>
            <a:off x="4140360" y="4479840"/>
            <a:ext cx="56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342252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3429000" y="45100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5" name=""/>
          <p:cNvSpPr/>
          <p:nvPr/>
        </p:nvSpPr>
        <p:spPr>
          <a:xfrm>
            <a:off x="3429000" y="4890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6" name=""/>
          <p:cNvSpPr/>
          <p:nvPr/>
        </p:nvSpPr>
        <p:spPr>
          <a:xfrm>
            <a:off x="449820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7517520" y="4052880"/>
            <a:ext cx="130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WAY96-4839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8" name=""/>
          <p:cNvSpPr/>
          <p:nvPr/>
        </p:nvSpPr>
        <p:spPr>
          <a:xfrm>
            <a:off x="685764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9" name=""/>
          <p:cNvSpPr/>
          <p:nvPr/>
        </p:nvSpPr>
        <p:spPr>
          <a:xfrm>
            <a:off x="7086600" y="5410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0" name=""/>
          <p:cNvSpPr/>
          <p:nvPr/>
        </p:nvSpPr>
        <p:spPr>
          <a:xfrm>
            <a:off x="7535160" y="4419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1" name=""/>
          <p:cNvSpPr/>
          <p:nvPr/>
        </p:nvSpPr>
        <p:spPr>
          <a:xfrm>
            <a:off x="7467480" y="38862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2" name=""/>
          <p:cNvSpPr/>
          <p:nvPr/>
        </p:nvSpPr>
        <p:spPr>
          <a:xfrm>
            <a:off x="628344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716292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7620120" y="50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746748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4804560" y="281952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034240" y="259092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8" name=""/>
          <p:cNvSpPr/>
          <p:nvPr/>
        </p:nvSpPr>
        <p:spPr>
          <a:xfrm>
            <a:off x="4800600" y="2819520"/>
            <a:ext cx="149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9" name=""/>
          <p:cNvSpPr/>
          <p:nvPr/>
        </p:nvSpPr>
        <p:spPr>
          <a:xfrm>
            <a:off x="4138560" y="2527200"/>
            <a:ext cx="6336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0" name=""/>
          <p:cNvSpPr/>
          <p:nvPr/>
        </p:nvSpPr>
        <p:spPr>
          <a:xfrm>
            <a:off x="4105440" y="2589120"/>
            <a:ext cx="77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1" name=""/>
          <p:cNvSpPr/>
          <p:nvPr/>
        </p:nvSpPr>
        <p:spPr>
          <a:xfrm>
            <a:off x="446724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2" name=""/>
          <p:cNvSpPr/>
          <p:nvPr/>
        </p:nvSpPr>
        <p:spPr>
          <a:xfrm>
            <a:off x="5142960" y="489096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1 / 330-346-0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3" name=""/>
          <p:cNvSpPr/>
          <p:nvPr/>
        </p:nvSpPr>
        <p:spPr>
          <a:xfrm>
            <a:off x="5142960" y="5043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3 / 330-346-0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4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5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581-52EB-48F1-977B-33CA27BB0272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B521A-280F-442F-91BA-C7AC131588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>
            <a:off x="228600" y="152280"/>
            <a:ext cx="23623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io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350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>
            <a:off x="6682320" y="23605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>
            <a:off x="707292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>
            <a:off x="6629400" y="228600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0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1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2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3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4" name=""/>
          <p:cNvSpPr/>
          <p:nvPr/>
        </p:nvSpPr>
        <p:spPr>
          <a:xfrm>
            <a:off x="71629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5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1916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4" name=""/>
          <p:cNvSpPr/>
          <p:nvPr/>
        </p:nvSpPr>
        <p:spPr>
          <a:xfrm>
            <a:off x="7072560" y="4038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5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6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7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8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9" name=""/>
          <p:cNvSpPr/>
          <p:nvPr/>
        </p:nvSpPr>
        <p:spPr>
          <a:xfrm>
            <a:off x="1066680" y="3048120"/>
            <a:ext cx="4343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Single valid external IP address assign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Lotus Domino server also runs on Firewall 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Encryption domain configured for SecuRemote acc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193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E20-D810-45EB-8ED1-3D771DE51E67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5D678-F0B6-47FC-AE3F-33B0A9444524}" type="datetime1">
              <a:rPr lang="en-US"/>
              <a:t>07/29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lmadg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8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1949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7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8" name=""/>
          <p:cNvSpPr/>
          <p:nvPr/>
        </p:nvSpPr>
        <p:spPr>
          <a:xfrm>
            <a:off x="68508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5" name=""/>
          <p:cNvSpPr/>
          <p:nvPr/>
        </p:nvSpPr>
        <p:spPr>
          <a:xfrm>
            <a:off x="1600200" y="2819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762012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3" name=""/>
          <p:cNvSpPr/>
          <p:nvPr/>
        </p:nvSpPr>
        <p:spPr>
          <a:xfrm>
            <a:off x="67050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llmad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4" name=""/>
          <p:cNvSpPr/>
          <p:nvPr/>
        </p:nvSpPr>
        <p:spPr>
          <a:xfrm>
            <a:off x="3771360" y="2041560"/>
            <a:ext cx="157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79031 O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4-5455 (Hi-C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4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5" name=""/>
          <p:cNvSpPr/>
          <p:nvPr/>
        </p:nvSpPr>
        <p:spPr>
          <a:xfrm>
            <a:off x="3836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6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7" name=""/>
          <p:cNvSpPr/>
          <p:nvPr/>
        </p:nvSpPr>
        <p:spPr>
          <a:xfrm>
            <a:off x="248040" y="223920"/>
            <a:ext cx="213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  44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33-5624…Todd Kestr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8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3" name=""/>
          <p:cNvSpPr/>
          <p:nvPr/>
        </p:nvSpPr>
        <p:spPr>
          <a:xfrm>
            <a:off x="7315200" y="252108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4" name=""/>
          <p:cNvSpPr/>
          <p:nvPr/>
        </p:nvSpPr>
        <p:spPr>
          <a:xfrm>
            <a:off x="7238880" y="256860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5" name=""/>
          <p:cNvSpPr/>
          <p:nvPr/>
        </p:nvSpPr>
        <p:spPr>
          <a:xfrm>
            <a:off x="3173040" y="4800600"/>
            <a:ext cx="17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xxx-xxx-xxxx / xxx-xxx-xxxx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E97-8A95-4FB8-A1D2-9237EDB890E7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30E0-02EE-423B-9751-184A5587B4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200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0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4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m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6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9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3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0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1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5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10 Boy Scout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orida  336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3) 873-4000…Jeff Newell x-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6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8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9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9429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0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61D-CA13-4955-87FB-C596F9E1C9E6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4525B-2E54-4F02-8C5C-D2A121EC5C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ir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7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58672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i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Princet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eorgia  30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773-7530…Joe M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552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313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61880" y="38098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dai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4280" y="35053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52261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DAIRS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EB8-87CB-40DA-9621-7A2CC230BC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560A4-902E-44DC-8028-FD8458E703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3863880" y="1754280"/>
            <a:ext cx="2133360" cy="3503160"/>
            <a:chOff x="3863880" y="1754280"/>
            <a:chExt cx="2133360" cy="3503160"/>
          </a:xfrm>
        </p:grpSpPr>
        <p:sp>
          <p:nvSpPr>
            <p:cNvPr id="12055" name=""/>
            <p:cNvSpPr/>
            <p:nvPr/>
          </p:nvSpPr>
          <p:spPr>
            <a:xfrm>
              <a:off x="499104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386388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39884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388944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20840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72140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28192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534852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5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419400" y="3960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3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4" name=""/>
          <p:cNvSpPr/>
          <p:nvPr/>
        </p:nvSpPr>
        <p:spPr>
          <a:xfrm>
            <a:off x="19051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5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6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7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8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9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2" name=""/>
          <p:cNvSpPr/>
          <p:nvPr/>
        </p:nvSpPr>
        <p:spPr>
          <a:xfrm>
            <a:off x="6363000" y="4191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3" name=""/>
          <p:cNvSpPr/>
          <p:nvPr/>
        </p:nvSpPr>
        <p:spPr>
          <a:xfrm>
            <a:off x="39211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4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5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6" name=""/>
          <p:cNvSpPr/>
          <p:nvPr/>
        </p:nvSpPr>
        <p:spPr>
          <a:xfrm>
            <a:off x="429948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60199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0" name=""/>
          <p:cNvSpPr/>
          <p:nvPr/>
        </p:nvSpPr>
        <p:spPr>
          <a:xfrm>
            <a:off x="53690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1" name=""/>
          <p:cNvSpPr/>
          <p:nvPr/>
        </p:nvSpPr>
        <p:spPr>
          <a:xfrm>
            <a:off x="63111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2" name=""/>
          <p:cNvSpPr/>
          <p:nvPr/>
        </p:nvSpPr>
        <p:spPr>
          <a:xfrm>
            <a:off x="62463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3" name=""/>
          <p:cNvSpPr/>
          <p:nvPr/>
        </p:nvSpPr>
        <p:spPr>
          <a:xfrm>
            <a:off x="233928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341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4" name=""/>
          <p:cNvSpPr/>
          <p:nvPr/>
        </p:nvSpPr>
        <p:spPr>
          <a:xfrm>
            <a:off x="2288160" y="32767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685748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6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8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EED-CD44-47CB-98F7-D173271ABFD9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C236C-DAD6-401B-B6D6-CF687888EF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velers Rest, 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21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ers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4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7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0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1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3" name=""/>
          <p:cNvSpPr/>
          <p:nvPr/>
        </p:nvSpPr>
        <p:spPr>
          <a:xfrm>
            <a:off x="5181480" y="2895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4" name=""/>
          <p:cNvSpPr/>
          <p:nvPr/>
        </p:nvSpPr>
        <p:spPr>
          <a:xfrm>
            <a:off x="7577640" y="78732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8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>
            <a:off x="320544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4) 834-72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>
            <a:off x="838800" y="2819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2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3" name=""/>
          <p:cNvSpPr/>
          <p:nvPr/>
        </p:nvSpPr>
        <p:spPr>
          <a:xfrm>
            <a:off x="199476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4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5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6" name=""/>
          <p:cNvSpPr/>
          <p:nvPr/>
        </p:nvSpPr>
        <p:spPr>
          <a:xfrm>
            <a:off x="8000640" y="467676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7" name=""/>
          <p:cNvSpPr/>
          <p:nvPr/>
        </p:nvSpPr>
        <p:spPr>
          <a:xfrm>
            <a:off x="8000640" y="175248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8" name=""/>
          <p:cNvSpPr/>
          <p:nvPr/>
        </p:nvSpPr>
        <p:spPr>
          <a:xfrm>
            <a:off x="171360" y="190440"/>
            <a:ext cx="24764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9" name=""/>
          <p:cNvSpPr/>
          <p:nvPr/>
        </p:nvSpPr>
        <p:spPr>
          <a:xfrm>
            <a:off x="211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nst Winter &amp; Son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Wilhelm Wi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  29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5-4901…John McFalls x-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0" name=""/>
          <p:cNvSpPr/>
          <p:nvPr/>
        </p:nvSpPr>
        <p:spPr>
          <a:xfrm>
            <a:off x="198360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1" name=""/>
          <p:cNvSpPr/>
          <p:nvPr/>
        </p:nvSpPr>
        <p:spPr>
          <a:xfrm flipH="1">
            <a:off x="1142640" y="4943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2" name=""/>
          <p:cNvSpPr/>
          <p:nvPr/>
        </p:nvSpPr>
        <p:spPr>
          <a:xfrm>
            <a:off x="2362320" y="456264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3" name=""/>
          <p:cNvSpPr/>
          <p:nvPr/>
        </p:nvSpPr>
        <p:spPr>
          <a:xfrm>
            <a:off x="2286000" y="4562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4" name=""/>
          <p:cNvSpPr/>
          <p:nvPr/>
        </p:nvSpPr>
        <p:spPr>
          <a:xfrm>
            <a:off x="2133720" y="47912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5" name=""/>
          <p:cNvSpPr/>
          <p:nvPr/>
        </p:nvSpPr>
        <p:spPr>
          <a:xfrm flipH="1">
            <a:off x="2133360" y="5095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0" name=""/>
          <p:cNvSpPr/>
          <p:nvPr/>
        </p:nvSpPr>
        <p:spPr>
          <a:xfrm>
            <a:off x="2698560" y="4967280"/>
            <a:ext cx="203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   864-246-3562 / 864-246-35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1" name=""/>
          <p:cNvSpPr/>
          <p:nvPr/>
        </p:nvSpPr>
        <p:spPr>
          <a:xfrm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3" name=""/>
          <p:cNvSpPr/>
          <p:nvPr/>
        </p:nvSpPr>
        <p:spPr>
          <a:xfrm>
            <a:off x="545544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4" name=""/>
          <p:cNvSpPr/>
          <p:nvPr/>
        </p:nvSpPr>
        <p:spPr>
          <a:xfrm>
            <a:off x="5412600" y="290988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9E9-60BA-40FC-8963-246B56FB4DF5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55A5F-68A9-434C-B2D7-4E9E0604AE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8" name=""/>
          <p:cNvSpPr/>
          <p:nvPr/>
        </p:nvSpPr>
        <p:spPr>
          <a:xfrm>
            <a:off x="96480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0" name=""/>
          <p:cNvSpPr/>
          <p:nvPr/>
        </p:nvSpPr>
        <p:spPr>
          <a:xfrm>
            <a:off x="183132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1" name=""/>
          <p:cNvSpPr/>
          <p:nvPr/>
        </p:nvSpPr>
        <p:spPr>
          <a:xfrm>
            <a:off x="324000" y="53784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3" name=""/>
          <p:cNvSpPr/>
          <p:nvPr/>
        </p:nvSpPr>
        <p:spPr>
          <a:xfrm flipV="1">
            <a:off x="160020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9" name=""/>
          <p:cNvSpPr/>
          <p:nvPr/>
        </p:nvSpPr>
        <p:spPr>
          <a:xfrm flipV="1">
            <a:off x="18288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0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1" name=""/>
          <p:cNvSpPr/>
          <p:nvPr/>
        </p:nvSpPr>
        <p:spPr>
          <a:xfrm>
            <a:off x="8003520" y="4648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2" name=""/>
          <p:cNvSpPr/>
          <p:nvPr/>
        </p:nvSpPr>
        <p:spPr>
          <a:xfrm>
            <a:off x="25146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3" name=""/>
          <p:cNvSpPr/>
          <p:nvPr/>
        </p:nvSpPr>
        <p:spPr>
          <a:xfrm>
            <a:off x="2438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4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5" name=""/>
          <p:cNvSpPr/>
          <p:nvPr/>
        </p:nvSpPr>
        <p:spPr>
          <a:xfrm>
            <a:off x="320544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274-1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241560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8" name=""/>
          <p:cNvSpPr/>
          <p:nvPr/>
        </p:nvSpPr>
        <p:spPr>
          <a:xfrm>
            <a:off x="2345400" y="25909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0" name=""/>
          <p:cNvSpPr/>
          <p:nvPr/>
        </p:nvSpPr>
        <p:spPr>
          <a:xfrm>
            <a:off x="90612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1" name=""/>
          <p:cNvSpPr/>
          <p:nvPr/>
        </p:nvSpPr>
        <p:spPr>
          <a:xfrm>
            <a:off x="171360" y="190440"/>
            <a:ext cx="25527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2" name=""/>
          <p:cNvSpPr/>
          <p:nvPr/>
        </p:nvSpPr>
        <p:spPr>
          <a:xfrm>
            <a:off x="201600" y="228600"/>
            <a:ext cx="254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00 10th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  12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67...Paul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84-5326 Paul Miller’s p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21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85 x-269…Bill M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743 x-743…Pat H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3" name=""/>
          <p:cNvSpPr/>
          <p:nvPr/>
        </p:nvSpPr>
        <p:spPr>
          <a:xfrm>
            <a:off x="171360" y="4006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4" name=""/>
          <p:cNvSpPr/>
          <p:nvPr/>
        </p:nvSpPr>
        <p:spPr>
          <a:xfrm flipH="1">
            <a:off x="8380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5" name=""/>
          <p:cNvSpPr/>
          <p:nvPr/>
        </p:nvSpPr>
        <p:spPr>
          <a:xfrm>
            <a:off x="457200" y="3657600"/>
            <a:ext cx="3808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6" name=""/>
          <p:cNvSpPr/>
          <p:nvPr/>
        </p:nvSpPr>
        <p:spPr>
          <a:xfrm>
            <a:off x="1066680" y="4267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7" name=""/>
          <p:cNvSpPr/>
          <p:nvPr/>
        </p:nvSpPr>
        <p:spPr>
          <a:xfrm>
            <a:off x="2118600" y="536400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8" name=""/>
          <p:cNvSpPr/>
          <p:nvPr/>
        </p:nvSpPr>
        <p:spPr>
          <a:xfrm flipH="1" flipV="1">
            <a:off x="1905120" y="5213520"/>
            <a:ext cx="23472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9" name=""/>
          <p:cNvSpPr/>
          <p:nvPr/>
        </p:nvSpPr>
        <p:spPr>
          <a:xfrm>
            <a:off x="2503800" y="51055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LEN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0" name=""/>
          <p:cNvSpPr/>
          <p:nvPr/>
        </p:nvSpPr>
        <p:spPr>
          <a:xfrm>
            <a:off x="182880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182880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2" name=""/>
          <p:cNvSpPr/>
          <p:nvPr/>
        </p:nvSpPr>
        <p:spPr>
          <a:xfrm>
            <a:off x="247572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18-266-0860 / 518-266-0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3" name=""/>
          <p:cNvGrpSpPr/>
          <p:nvPr/>
        </p:nvGrpSpPr>
        <p:grpSpPr>
          <a:xfrm>
            <a:off x="3581280" y="990720"/>
            <a:ext cx="1905840" cy="3503160"/>
            <a:chOff x="3581280" y="990720"/>
            <a:chExt cx="1905840" cy="3503160"/>
          </a:xfrm>
        </p:grpSpPr>
        <p:sp>
          <p:nvSpPr>
            <p:cNvPr id="12204" name=""/>
            <p:cNvSpPr/>
            <p:nvPr/>
          </p:nvSpPr>
          <p:spPr>
            <a:xfrm>
              <a:off x="45882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812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40593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36036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38890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3470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48484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49075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2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>
            <a:off x="39135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6" name=""/>
          <p:cNvSpPr/>
          <p:nvPr/>
        </p:nvSpPr>
        <p:spPr>
          <a:xfrm>
            <a:off x="46483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7" name=""/>
          <p:cNvSpPr/>
          <p:nvPr/>
        </p:nvSpPr>
        <p:spPr>
          <a:xfrm>
            <a:off x="46483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8" name=""/>
          <p:cNvSpPr/>
          <p:nvPr/>
        </p:nvSpPr>
        <p:spPr>
          <a:xfrm>
            <a:off x="5334120" y="3657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9" name=""/>
          <p:cNvSpPr/>
          <p:nvPr/>
        </p:nvSpPr>
        <p:spPr>
          <a:xfrm>
            <a:off x="7453800" y="7873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1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3" name=""/>
          <p:cNvSpPr/>
          <p:nvPr/>
        </p:nvSpPr>
        <p:spPr>
          <a:xfrm>
            <a:off x="3657600" y="2438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4" name=""/>
          <p:cNvSpPr/>
          <p:nvPr/>
        </p:nvSpPr>
        <p:spPr>
          <a:xfrm>
            <a:off x="59284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5" name=""/>
          <p:cNvSpPr/>
          <p:nvPr/>
        </p:nvSpPr>
        <p:spPr>
          <a:xfrm>
            <a:off x="58654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6" name=""/>
          <p:cNvSpPr/>
          <p:nvPr/>
        </p:nvSpPr>
        <p:spPr>
          <a:xfrm>
            <a:off x="1831320" y="3732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7" name=""/>
          <p:cNvSpPr/>
          <p:nvPr/>
        </p:nvSpPr>
        <p:spPr>
          <a:xfrm>
            <a:off x="7238880" y="6507000"/>
            <a:ext cx="15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8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1" name=""/>
          <p:cNvSpPr/>
          <p:nvPr/>
        </p:nvSpPr>
        <p:spPr>
          <a:xfrm flipV="1">
            <a:off x="12193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3" name=""/>
          <p:cNvSpPr/>
          <p:nvPr/>
        </p:nvSpPr>
        <p:spPr>
          <a:xfrm>
            <a:off x="5920560" y="2604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4" name=""/>
          <p:cNvSpPr/>
          <p:nvPr/>
        </p:nvSpPr>
        <p:spPr>
          <a:xfrm>
            <a:off x="5869440" y="2833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5" name=""/>
          <p:cNvSpPr/>
          <p:nvPr/>
        </p:nvSpPr>
        <p:spPr>
          <a:xfrm>
            <a:off x="5410080" y="2819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914400" y="1674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91728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9637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0" name=""/>
          <p:cNvSpPr/>
          <p:nvPr/>
        </p:nvSpPr>
        <p:spPr>
          <a:xfrm>
            <a:off x="149976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1" name=""/>
          <p:cNvSpPr/>
          <p:nvPr/>
        </p:nvSpPr>
        <p:spPr>
          <a:xfrm>
            <a:off x="9637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15732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/>
          <p:cNvSpPr/>
          <p:nvPr/>
        </p:nvSpPr>
        <p:spPr>
          <a:xfrm>
            <a:off x="963720" y="2971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4" name=""/>
          <p:cNvSpPr/>
          <p:nvPr/>
        </p:nvSpPr>
        <p:spPr>
          <a:xfrm>
            <a:off x="1269360" y="2757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>
            <a:off x="1250280" y="2940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 flipV="1">
            <a:off x="1295280" y="2025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7" name=""/>
          <p:cNvSpPr/>
          <p:nvPr/>
        </p:nvSpPr>
        <p:spPr>
          <a:xfrm>
            <a:off x="220968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945-7EE1-4965-8B01-B563805C609F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17477-5151-4322-978C-A55A2CAED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mbauersvill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1" name=""/>
          <p:cNvGrpSpPr/>
          <p:nvPr/>
        </p:nvGrpSpPr>
        <p:grpSpPr>
          <a:xfrm>
            <a:off x="3430440" y="2440080"/>
            <a:ext cx="2133360" cy="1750680"/>
            <a:chOff x="3430440" y="2440080"/>
            <a:chExt cx="2133360" cy="1750680"/>
          </a:xfrm>
        </p:grpSpPr>
        <p:sp>
          <p:nvSpPr>
            <p:cNvPr id="12252" name=""/>
            <p:cNvSpPr/>
            <p:nvPr/>
          </p:nvSpPr>
          <p:spPr>
            <a:xfrm>
              <a:off x="4557600" y="2551680"/>
              <a:ext cx="455400" cy="4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3" name=""/>
            <p:cNvSpPr/>
            <p:nvPr/>
          </p:nvSpPr>
          <p:spPr>
            <a:xfrm>
              <a:off x="3430440" y="2581200"/>
              <a:ext cx="586800" cy="51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3965400" y="2440080"/>
              <a:ext cx="590400" cy="5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3456000" y="3047400"/>
              <a:ext cx="58932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3774960" y="3440880"/>
              <a:ext cx="58788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4287960" y="3683520"/>
              <a:ext cx="586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848480" y="3472560"/>
              <a:ext cx="586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4915080" y="2777760"/>
              <a:ext cx="64872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>
            <a:off x="7086600" y="6507000"/>
            <a:ext cx="175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5" name=""/>
          <p:cNvSpPr/>
          <p:nvPr/>
        </p:nvSpPr>
        <p:spPr>
          <a:xfrm>
            <a:off x="532800" y="4114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1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2" name="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3" name=""/>
          <p:cNvSpPr/>
          <p:nvPr/>
        </p:nvSpPr>
        <p:spPr>
          <a:xfrm flipV="1">
            <a:off x="762012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4" name=""/>
          <p:cNvSpPr/>
          <p:nvPr/>
        </p:nvSpPr>
        <p:spPr>
          <a:xfrm flipH="1" flipV="1">
            <a:off x="7314840" y="5028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0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1" name=""/>
          <p:cNvSpPr/>
          <p:nvPr/>
        </p:nvSpPr>
        <p:spPr>
          <a:xfrm>
            <a:off x="6552720" y="48006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2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3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y North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75 Kum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, Pennsylvania  189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Jaci Reiter…1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Chris Metzger…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Paul Czachor…1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4" name=""/>
          <p:cNvSpPr/>
          <p:nvPr/>
        </p:nvSpPr>
        <p:spPr>
          <a:xfrm>
            <a:off x="3733920" y="2666880"/>
            <a:ext cx="13968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XHGS 117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5" name=""/>
          <p:cNvSpPr/>
          <p:nvPr/>
        </p:nvSpPr>
        <p:spPr>
          <a:xfrm>
            <a:off x="716292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6" name=""/>
          <p:cNvSpPr/>
          <p:nvPr/>
        </p:nvSpPr>
        <p:spPr>
          <a:xfrm>
            <a:off x="717228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7" name=""/>
          <p:cNvSpPr/>
          <p:nvPr/>
        </p:nvSpPr>
        <p:spPr>
          <a:xfrm>
            <a:off x="114300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8" name=""/>
          <p:cNvSpPr/>
          <p:nvPr/>
        </p:nvSpPr>
        <p:spPr>
          <a:xfrm>
            <a:off x="115236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4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C4D-5D1A-4858-9970-494DFC5FD006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155EA-FA52-455E-A7B6-72554CD405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Customer Service Ann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9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- Customer Service An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0" name=""/>
          <p:cNvGrpSpPr/>
          <p:nvPr/>
        </p:nvGrpSpPr>
        <p:grpSpPr>
          <a:xfrm>
            <a:off x="3429000" y="1371600"/>
            <a:ext cx="2361600" cy="1980000"/>
            <a:chOff x="3429000" y="1371600"/>
            <a:chExt cx="2361600" cy="1980000"/>
          </a:xfrm>
        </p:grpSpPr>
        <p:sp>
          <p:nvSpPr>
            <p:cNvPr id="12301" name=""/>
            <p:cNvSpPr/>
            <p:nvPr/>
          </p:nvSpPr>
          <p:spPr>
            <a:xfrm>
              <a:off x="4676760" y="1499040"/>
              <a:ext cx="505080" cy="5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3429000" y="1530720"/>
              <a:ext cx="64836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023000" y="1371600"/>
              <a:ext cx="6530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3458520" y="2056680"/>
              <a:ext cx="65232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3813120" y="2504520"/>
              <a:ext cx="648360" cy="5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4378680" y="2777400"/>
              <a:ext cx="650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5001840" y="2535840"/>
              <a:ext cx="64800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5072760" y="1752840"/>
              <a:ext cx="717840" cy="81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9" name=""/>
          <p:cNvSpPr/>
          <p:nvPr/>
        </p:nvSpPr>
        <p:spPr>
          <a:xfrm>
            <a:off x="1250640" y="6031080"/>
            <a:ext cx="57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0" name=""/>
          <p:cNvSpPr/>
          <p:nvPr/>
        </p:nvSpPr>
        <p:spPr>
          <a:xfrm>
            <a:off x="7000920" y="6019920"/>
            <a:ext cx="100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1" name=""/>
          <p:cNvSpPr/>
          <p:nvPr/>
        </p:nvSpPr>
        <p:spPr>
          <a:xfrm>
            <a:off x="7677360" y="44956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2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3" name=""/>
          <p:cNvSpPr/>
          <p:nvPr/>
        </p:nvSpPr>
        <p:spPr>
          <a:xfrm>
            <a:off x="7104240" y="487692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4" name=""/>
          <p:cNvSpPr/>
          <p:nvPr/>
        </p:nvSpPr>
        <p:spPr>
          <a:xfrm>
            <a:off x="4001040" y="1752480"/>
            <a:ext cx="1181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HCGS 271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5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6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7" name=""/>
          <p:cNvSpPr/>
          <p:nvPr/>
        </p:nvSpPr>
        <p:spPr>
          <a:xfrm>
            <a:off x="107280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8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9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1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2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3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4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5" name=""/>
          <p:cNvSpPr/>
          <p:nvPr/>
        </p:nvSpPr>
        <p:spPr>
          <a:xfrm>
            <a:off x="711972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6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7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9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0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1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2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755496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7" name=""/>
          <p:cNvSpPr/>
          <p:nvPr/>
        </p:nvSpPr>
        <p:spPr>
          <a:xfrm>
            <a:off x="817560" y="4351320"/>
            <a:ext cx="299232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8" name=""/>
          <p:cNvSpPr/>
          <p:nvPr/>
        </p:nvSpPr>
        <p:spPr>
          <a:xfrm>
            <a:off x="723960" y="5302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9" name=""/>
          <p:cNvSpPr/>
          <p:nvPr/>
        </p:nvSpPr>
        <p:spPr>
          <a:xfrm>
            <a:off x="1035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0" name=""/>
          <p:cNvSpPr/>
          <p:nvPr/>
        </p:nvSpPr>
        <p:spPr>
          <a:xfrm>
            <a:off x="1339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1" name=""/>
          <p:cNvSpPr/>
          <p:nvPr/>
        </p:nvSpPr>
        <p:spPr>
          <a:xfrm flipV="1">
            <a:off x="882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2" name=""/>
          <p:cNvSpPr/>
          <p:nvPr/>
        </p:nvSpPr>
        <p:spPr>
          <a:xfrm flipV="1">
            <a:off x="1492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3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4" name=""/>
          <p:cNvSpPr/>
          <p:nvPr/>
        </p:nvSpPr>
        <p:spPr>
          <a:xfrm>
            <a:off x="5051520" y="41911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5" name=""/>
          <p:cNvSpPr/>
          <p:nvPr/>
        </p:nvSpPr>
        <p:spPr>
          <a:xfrm>
            <a:off x="494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6" name=""/>
          <p:cNvSpPr/>
          <p:nvPr/>
        </p:nvSpPr>
        <p:spPr>
          <a:xfrm>
            <a:off x="5686560" y="4275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0) 688-6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7" name=""/>
          <p:cNvSpPr/>
          <p:nvPr/>
        </p:nvSpPr>
        <p:spPr>
          <a:xfrm>
            <a:off x="4061160" y="4875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8" name=""/>
          <p:cNvSpPr/>
          <p:nvPr/>
        </p:nvSpPr>
        <p:spPr>
          <a:xfrm flipH="1" flipV="1">
            <a:off x="383184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>
            <a:off x="613080" y="3732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4983480" y="45864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610-341-6050 / -- 610-341-60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2" name=""/>
          <p:cNvSpPr/>
          <p:nvPr/>
        </p:nvSpPr>
        <p:spPr>
          <a:xfrm>
            <a:off x="797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3" name=""/>
          <p:cNvSpPr/>
          <p:nvPr/>
        </p:nvSpPr>
        <p:spPr>
          <a:xfrm>
            <a:off x="18259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4" name=""/>
          <p:cNvSpPr/>
          <p:nvPr/>
        </p:nvSpPr>
        <p:spPr>
          <a:xfrm>
            <a:off x="217800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5" name=""/>
          <p:cNvSpPr/>
          <p:nvPr/>
        </p:nvSpPr>
        <p:spPr>
          <a:xfrm>
            <a:off x="248292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6" name=""/>
          <p:cNvSpPr/>
          <p:nvPr/>
        </p:nvSpPr>
        <p:spPr>
          <a:xfrm flipV="1">
            <a:off x="2025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7" name=""/>
          <p:cNvSpPr/>
          <p:nvPr/>
        </p:nvSpPr>
        <p:spPr>
          <a:xfrm flipV="1">
            <a:off x="2635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8" name=""/>
          <p:cNvSpPr/>
          <p:nvPr/>
        </p:nvSpPr>
        <p:spPr>
          <a:xfrm>
            <a:off x="30103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9" name=""/>
          <p:cNvSpPr/>
          <p:nvPr/>
        </p:nvSpPr>
        <p:spPr>
          <a:xfrm>
            <a:off x="3321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0" name=""/>
          <p:cNvSpPr/>
          <p:nvPr/>
        </p:nvSpPr>
        <p:spPr>
          <a:xfrm>
            <a:off x="3625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1" name=""/>
          <p:cNvSpPr/>
          <p:nvPr/>
        </p:nvSpPr>
        <p:spPr>
          <a:xfrm flipV="1">
            <a:off x="3168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2" name=""/>
          <p:cNvSpPr/>
          <p:nvPr/>
        </p:nvSpPr>
        <p:spPr>
          <a:xfrm flipV="1">
            <a:off x="3778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3" name=""/>
          <p:cNvSpPr/>
          <p:nvPr/>
        </p:nvSpPr>
        <p:spPr>
          <a:xfrm>
            <a:off x="3083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4" name=""/>
          <p:cNvSpPr/>
          <p:nvPr/>
        </p:nvSpPr>
        <p:spPr>
          <a:xfrm>
            <a:off x="1940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5" name=""/>
          <p:cNvSpPr/>
          <p:nvPr/>
        </p:nvSpPr>
        <p:spPr>
          <a:xfrm>
            <a:off x="1177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6" name=""/>
          <p:cNvSpPr/>
          <p:nvPr/>
        </p:nvSpPr>
        <p:spPr>
          <a:xfrm>
            <a:off x="2320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7" name=""/>
          <p:cNvSpPr/>
          <p:nvPr/>
        </p:nvSpPr>
        <p:spPr>
          <a:xfrm>
            <a:off x="3463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8" name=""/>
          <p:cNvSpPr/>
          <p:nvPr/>
        </p:nvSpPr>
        <p:spPr>
          <a:xfrm flipV="1">
            <a:off x="152388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9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0" name=""/>
          <p:cNvSpPr/>
          <p:nvPr/>
        </p:nvSpPr>
        <p:spPr>
          <a:xfrm>
            <a:off x="38098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1" name=""/>
          <p:cNvSpPr/>
          <p:nvPr/>
        </p:nvSpPr>
        <p:spPr>
          <a:xfrm flipV="1">
            <a:off x="7543800" y="30481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2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3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6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0EF-BDF8-4EE8-A717-1A751E503123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731F2-2602-4FA6-B417-5F3FB9CD52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Bay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8" name=""/>
          <p:cNvSpPr/>
          <p:nvPr/>
        </p:nvSpPr>
        <p:spPr>
          <a:xfrm>
            <a:off x="6477120" y="30621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9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0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1" name=""/>
          <p:cNvSpPr/>
          <p:nvPr/>
        </p:nvSpPr>
        <p:spPr>
          <a:xfrm>
            <a:off x="158760" y="1758960"/>
            <a:ext cx="5397480" cy="29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2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3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4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5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2386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6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 flipH="1"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152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ington (DLCI 7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9" name=""/>
          <p:cNvSpPr/>
          <p:nvPr/>
        </p:nvSpPr>
        <p:spPr>
          <a:xfrm>
            <a:off x="15228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2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5228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ke Charles (DLCI 4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2819520" y="4359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xom (DLCI 2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281952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ntia (DLCI 2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/>
          <p:cNvSpPr/>
          <p:nvPr/>
        </p:nvSpPr>
        <p:spPr>
          <a:xfrm>
            <a:off x="281952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ria (DLCI 2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/>
          <p:cNvSpPr/>
          <p:nvPr/>
        </p:nvSpPr>
        <p:spPr>
          <a:xfrm>
            <a:off x="2819520" y="3886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co (DLCI 4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281952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eoville (DLCI 5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6" name=""/>
          <p:cNvSpPr/>
          <p:nvPr/>
        </p:nvSpPr>
        <p:spPr>
          <a:xfrm>
            <a:off x="15228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Molded) (DLCI 4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7" name=""/>
          <p:cNvSpPr/>
          <p:nvPr/>
        </p:nvSpPr>
        <p:spPr>
          <a:xfrm>
            <a:off x="152280" y="3413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Whs.) (DLCI 4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2819520" y="3657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Circle (DLCI 4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281952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squehoning (DLCI 1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0" name=""/>
          <p:cNvSpPr/>
          <p:nvPr/>
        </p:nvSpPr>
        <p:spPr>
          <a:xfrm>
            <a:off x="2819520" y="3429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ta Anna (DLCI 5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1" name=""/>
          <p:cNvSpPr/>
          <p:nvPr/>
        </p:nvSpPr>
        <p:spPr>
          <a:xfrm>
            <a:off x="281952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2" name=""/>
          <p:cNvSpPr/>
          <p:nvPr/>
        </p:nvSpPr>
        <p:spPr>
          <a:xfrm>
            <a:off x="2819520" y="4114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hita Falls (DLCI 6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3" name=""/>
          <p:cNvSpPr/>
          <p:nvPr/>
        </p:nvSpPr>
        <p:spPr>
          <a:xfrm>
            <a:off x="281952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cie (DLCI 1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4" name=""/>
          <p:cNvSpPr/>
          <p:nvPr/>
        </p:nvSpPr>
        <p:spPr>
          <a:xfrm>
            <a:off x="13824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5" name=""/>
          <p:cNvSpPr/>
          <p:nvPr/>
        </p:nvSpPr>
        <p:spPr>
          <a:xfrm>
            <a:off x="152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ton (DLCI 2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6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EEC-9861-4A8E-B9A0-472EE5553F73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65382-84AB-4CD8-968C-079C9F2220AB}" type="datetime1">
              <a:rPr lang="en-US"/>
              <a:t>07/29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>
            <a:off x="5029200" y="6512040"/>
            <a:ext cx="379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Cisco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3" name=""/>
          <p:cNvSpPr/>
          <p:nvPr/>
        </p:nvSpPr>
        <p:spPr>
          <a:xfrm>
            <a:off x="1981080" y="2757600"/>
            <a:ext cx="144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6" name=""/>
          <p:cNvSpPr/>
          <p:nvPr/>
        </p:nvSpPr>
        <p:spPr>
          <a:xfrm>
            <a:off x="5727600" y="1600200"/>
            <a:ext cx="288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7" name=""/>
          <p:cNvSpPr/>
          <p:nvPr/>
        </p:nvSpPr>
        <p:spPr>
          <a:xfrm>
            <a:off x="5956200" y="1668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8" name=""/>
          <p:cNvSpPr/>
          <p:nvPr/>
        </p:nvSpPr>
        <p:spPr>
          <a:xfrm>
            <a:off x="1003320" y="2506680"/>
            <a:ext cx="90180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>
            <a:off x="1099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3352680" y="1601640"/>
            <a:ext cx="2133360" cy="2436480"/>
            <a:chOff x="3352680" y="1601640"/>
            <a:chExt cx="2133360" cy="2436480"/>
          </a:xfrm>
        </p:grpSpPr>
        <p:sp>
          <p:nvSpPr>
            <p:cNvPr id="12431" name=""/>
            <p:cNvSpPr/>
            <p:nvPr/>
          </p:nvSpPr>
          <p:spPr>
            <a:xfrm>
              <a:off x="4478040" y="176040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3352680" y="179676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3889440" y="160164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3379680" y="244836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697200" y="299448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4209840" y="333072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74320" y="303624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4836960" y="207144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9" name=""/>
          <p:cNvSpPr/>
          <p:nvPr/>
        </p:nvSpPr>
        <p:spPr>
          <a:xfrm>
            <a:off x="3864600" y="205740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H="1">
            <a:off x="1904760" y="2743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5880240" y="3565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Sekurit)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5651640" y="42512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Abrasives) (DLCI 13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5880240" y="4022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City (DLCI 8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588024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ckhannon (DLCI 7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5867280" y="313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aring River (DLCI 8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588024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ville (DLCI 2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5880240" y="3794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ne (DLCI 1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5410080" y="4479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Ceramics) (DLCI 7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1033560" y="4497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60948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1" name=""/>
          <p:cNvSpPr/>
          <p:nvPr/>
        </p:nvSpPr>
        <p:spPr>
          <a:xfrm>
            <a:off x="365040" y="5037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106632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4" name=""/>
          <p:cNvSpPr/>
          <p:nvPr/>
        </p:nvSpPr>
        <p:spPr>
          <a:xfrm>
            <a:off x="12952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5" name=""/>
          <p:cNvSpPr/>
          <p:nvPr/>
        </p:nvSpPr>
        <p:spPr>
          <a:xfrm>
            <a:off x="16002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6" name=""/>
          <p:cNvSpPr/>
          <p:nvPr/>
        </p:nvSpPr>
        <p:spPr>
          <a:xfrm flipV="1">
            <a:off x="114300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7" name=""/>
          <p:cNvSpPr/>
          <p:nvPr/>
        </p:nvSpPr>
        <p:spPr>
          <a:xfrm flipV="1">
            <a:off x="175248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8" name=""/>
          <p:cNvSpPr/>
          <p:nvPr/>
        </p:nvSpPr>
        <p:spPr>
          <a:xfrm>
            <a:off x="1219320" y="4267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9" name=""/>
          <p:cNvSpPr/>
          <p:nvPr/>
        </p:nvSpPr>
        <p:spPr>
          <a:xfrm flipV="1">
            <a:off x="1447920" y="30477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0" name=""/>
          <p:cNvSpPr/>
          <p:nvPr/>
        </p:nvSpPr>
        <p:spPr>
          <a:xfrm>
            <a:off x="1447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1" name=""/>
          <p:cNvSpPr/>
          <p:nvPr/>
        </p:nvSpPr>
        <p:spPr>
          <a:xfrm>
            <a:off x="3429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2" name=""/>
          <p:cNvSpPr/>
          <p:nvPr/>
        </p:nvSpPr>
        <p:spPr>
          <a:xfrm>
            <a:off x="5867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ton (DLCI 8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3" name=""/>
          <p:cNvSpPr/>
          <p:nvPr/>
        </p:nvSpPr>
        <p:spPr>
          <a:xfrm>
            <a:off x="5867280" y="29559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port (DLCI 7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4" name=""/>
          <p:cNvSpPr/>
          <p:nvPr/>
        </p:nvSpPr>
        <p:spPr>
          <a:xfrm>
            <a:off x="5638680" y="335268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an Francisco (DLCI 7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5" name=""/>
          <p:cNvSpPr/>
          <p:nvPr/>
        </p:nvSpPr>
        <p:spPr>
          <a:xfrm>
            <a:off x="5867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ersville (DLCI 7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6" name=""/>
          <p:cNvSpPr/>
          <p:nvPr/>
        </p:nvSpPr>
        <p:spPr>
          <a:xfrm>
            <a:off x="5867280" y="2727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roe (DLCI 7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534-FA7E-40D0-A56B-887CC8021EC5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87B1D-C719-4380-A4F6-389080C7752A}" type="datetime1">
              <a:rPr lang="en-US"/>
              <a:t>07/29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sulation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>
            <a:off x="5562720" y="6512040"/>
            <a:ext cx="326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 Insulation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3" name=""/>
          <p:cNvSpPr/>
          <p:nvPr/>
        </p:nvSpPr>
        <p:spPr>
          <a:xfrm>
            <a:off x="1149480" y="1758960"/>
            <a:ext cx="273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640k Port - DLCI 66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5" name=""/>
          <p:cNvSpPr/>
          <p:nvPr/>
        </p:nvSpPr>
        <p:spPr>
          <a:xfrm>
            <a:off x="1143000" y="2125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ens (DLCI 66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6" name=""/>
          <p:cNvSpPr/>
          <p:nvPr/>
        </p:nvSpPr>
        <p:spPr>
          <a:xfrm>
            <a:off x="1143000" y="2354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Plant) (DLCI 67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7" name=""/>
          <p:cNvSpPr/>
          <p:nvPr/>
        </p:nvSpPr>
        <p:spPr>
          <a:xfrm>
            <a:off x="11430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top (DLCI 67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8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479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4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5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7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8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9" name=""/>
          <p:cNvSpPr/>
          <p:nvPr/>
        </p:nvSpPr>
        <p:spPr>
          <a:xfrm>
            <a:off x="5181480" y="28335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0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1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EC 394956 (640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3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4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5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6" name=""/>
          <p:cNvSpPr/>
          <p:nvPr/>
        </p:nvSpPr>
        <p:spPr>
          <a:xfrm>
            <a:off x="1777320" y="482292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7" name=""/>
          <p:cNvSpPr/>
          <p:nvPr/>
        </p:nvSpPr>
        <p:spPr>
          <a:xfrm>
            <a:off x="1974960" y="51354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8" name=""/>
          <p:cNvSpPr/>
          <p:nvPr/>
        </p:nvSpPr>
        <p:spPr>
          <a:xfrm>
            <a:off x="1143000" y="3946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ter Haven  (DLCI 890 @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9" name=""/>
          <p:cNvSpPr/>
          <p:nvPr/>
        </p:nvSpPr>
        <p:spPr>
          <a:xfrm>
            <a:off x="11430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Whs..) (DLCI 12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0" name=""/>
          <p:cNvSpPr/>
          <p:nvPr/>
        </p:nvSpPr>
        <p:spPr>
          <a:xfrm>
            <a:off x="11430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sno (DLCI 13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1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 (DLCI 11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2" name=""/>
          <p:cNvSpPr/>
          <p:nvPr/>
        </p:nvSpPr>
        <p:spPr>
          <a:xfrm>
            <a:off x="11430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Kansas City (DLCI 6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3" name=""/>
          <p:cNvSpPr/>
          <p:nvPr/>
        </p:nvSpPr>
        <p:spPr>
          <a:xfrm>
            <a:off x="1143000" y="3505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5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8EC-64E4-4D01-9F41-8762EE54B079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4096D-B94A-4EE6-981B-00491B65D323}" type="datetime1">
              <a:rPr lang="en-US"/>
              <a:t>07/29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Internet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8" name=""/>
          <p:cNvSpPr/>
          <p:nvPr/>
        </p:nvSpPr>
        <p:spPr>
          <a:xfrm>
            <a:off x="1149480" y="1758960"/>
            <a:ext cx="27302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9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10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2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3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5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6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8" name=""/>
          <p:cNvSpPr/>
          <p:nvPr/>
        </p:nvSpPr>
        <p:spPr>
          <a:xfrm>
            <a:off x="1545840" y="19731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256k Port - DLCI 26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9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0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ZEC 402424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4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5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6" name=""/>
          <p:cNvSpPr/>
          <p:nvPr/>
        </p:nvSpPr>
        <p:spPr>
          <a:xfrm>
            <a:off x="1143000" y="2201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 Bell (DLCI 25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9" name=""/>
          <p:cNvSpPr/>
          <p:nvPr/>
        </p:nvSpPr>
        <p:spPr>
          <a:xfrm>
            <a:off x="1143000" y="2430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0" name=""/>
          <p:cNvSpPr/>
          <p:nvPr/>
        </p:nvSpPr>
        <p:spPr>
          <a:xfrm>
            <a:off x="1777320" y="311616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1" name=""/>
          <p:cNvSpPr/>
          <p:nvPr/>
        </p:nvSpPr>
        <p:spPr>
          <a:xfrm>
            <a:off x="1974960" y="34290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2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348-CE72-4EF8-AAD2-FF23C2C599C6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B13A5-2F07-4B26-8A2A-F625E89C5A61}" type="datetime1">
              <a:rPr lang="en-US"/>
              <a:t>07/29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Pip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7" name=""/>
          <p:cNvSpPr/>
          <p:nvPr/>
        </p:nvSpPr>
        <p:spPr>
          <a:xfrm>
            <a:off x="5638680" y="6512040"/>
            <a:ext cx="318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155176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1149480" y="1758960"/>
            <a:ext cx="2730240" cy="189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63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5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4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0" name=""/>
          <p:cNvSpPr/>
          <p:nvPr/>
        </p:nvSpPr>
        <p:spPr>
          <a:xfrm>
            <a:off x="1777320" y="388620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1" name=""/>
          <p:cNvSpPr/>
          <p:nvPr/>
        </p:nvSpPr>
        <p:spPr>
          <a:xfrm>
            <a:off x="1974960" y="419904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2" name=""/>
          <p:cNvSpPr/>
          <p:nvPr/>
        </p:nvSpPr>
        <p:spPr>
          <a:xfrm>
            <a:off x="11430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ffalo (DLCI 51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3" name=""/>
          <p:cNvSpPr/>
          <p:nvPr/>
        </p:nvSpPr>
        <p:spPr>
          <a:xfrm>
            <a:off x="1143000" y="2362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6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58F-ABFD-4825-BCB2-9AB17D3DA273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A6E7D-8E8F-47BA-9A51-B7036DB8E107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BRUNSWI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4480" y="190512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7400" y="1371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809880"/>
            <a:ext cx="129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3440" y="3809880"/>
            <a:ext cx="72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 (192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FA5-C718-4889-9703-4CB50985A9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2DC94-3866-4FAF-9199-E3DB53D8E5F4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io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4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58360" y="5256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1360" y="171360"/>
            <a:ext cx="28004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770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  1441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589-4401…Gabe Nagy x-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589-8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6-344-8651 / 716-344-86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8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47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DAE-79C9-4E69-8EB4-2EF719AF6F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EC60C-095F-4DC7-A4E7-19BB5C6EB6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Roofing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7" name=""/>
          <p:cNvSpPr/>
          <p:nvPr/>
        </p:nvSpPr>
        <p:spPr>
          <a:xfrm>
            <a:off x="6324480" y="6512040"/>
            <a:ext cx="250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8" name=""/>
          <p:cNvSpPr/>
          <p:nvPr/>
        </p:nvSpPr>
        <p:spPr>
          <a:xfrm>
            <a:off x="2514600" y="16765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9" name=""/>
          <p:cNvSpPr/>
          <p:nvPr/>
        </p:nvSpPr>
        <p:spPr>
          <a:xfrm>
            <a:off x="23623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1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>
            <a:off x="5727600" y="609480"/>
            <a:ext cx="28828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3" name=""/>
          <p:cNvSpPr/>
          <p:nvPr/>
        </p:nvSpPr>
        <p:spPr>
          <a:xfrm>
            <a:off x="5956200" y="60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4" name=""/>
          <p:cNvSpPr/>
          <p:nvPr/>
        </p:nvSpPr>
        <p:spPr>
          <a:xfrm>
            <a:off x="1066680" y="1676520"/>
            <a:ext cx="749520" cy="54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5" name=""/>
          <p:cNvSpPr/>
          <p:nvPr/>
        </p:nvSpPr>
        <p:spPr>
          <a:xfrm>
            <a:off x="1086840" y="1766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6" name=""/>
          <p:cNvGrpSpPr/>
          <p:nvPr/>
        </p:nvGrpSpPr>
        <p:grpSpPr>
          <a:xfrm>
            <a:off x="4038480" y="762120"/>
            <a:ext cx="1447200" cy="5485320"/>
            <a:chOff x="4038480" y="762120"/>
            <a:chExt cx="1447200" cy="5485320"/>
          </a:xfrm>
        </p:grpSpPr>
        <p:sp>
          <p:nvSpPr>
            <p:cNvPr id="12577" name=""/>
            <p:cNvSpPr/>
            <p:nvPr/>
          </p:nvSpPr>
          <p:spPr>
            <a:xfrm>
              <a:off x="4802040" y="1119240"/>
              <a:ext cx="311040" cy="144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4038480" y="1201320"/>
              <a:ext cx="3978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4402440" y="762120"/>
              <a:ext cx="399240" cy="159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4056480" y="2668320"/>
              <a:ext cx="397440" cy="15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4272120" y="3897360"/>
              <a:ext cx="398160" cy="16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4619880" y="4654080"/>
              <a:ext cx="39816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5003280" y="3991320"/>
              <a:ext cx="396360" cy="15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045400" y="1819440"/>
              <a:ext cx="440280" cy="225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5" name=""/>
          <p:cNvSpPr/>
          <p:nvPr/>
        </p:nvSpPr>
        <p:spPr>
          <a:xfrm>
            <a:off x="4218480" y="251460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6" name=""/>
          <p:cNvSpPr/>
          <p:nvPr/>
        </p:nvSpPr>
        <p:spPr>
          <a:xfrm flipH="1">
            <a:off x="1905120" y="19051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7" name=""/>
          <p:cNvSpPr/>
          <p:nvPr/>
        </p:nvSpPr>
        <p:spPr>
          <a:xfrm>
            <a:off x="5880240" y="1235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8" name=""/>
          <p:cNvSpPr/>
          <p:nvPr/>
        </p:nvSpPr>
        <p:spPr>
          <a:xfrm>
            <a:off x="5651640" y="169236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ving (DLCI 8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9" name=""/>
          <p:cNvSpPr/>
          <p:nvPr/>
        </p:nvSpPr>
        <p:spPr>
          <a:xfrm>
            <a:off x="5880240" y="1539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0" name=""/>
          <p:cNvSpPr/>
          <p:nvPr/>
        </p:nvSpPr>
        <p:spPr>
          <a:xfrm>
            <a:off x="5880240" y="762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1" name=""/>
          <p:cNvSpPr/>
          <p:nvPr/>
        </p:nvSpPr>
        <p:spPr>
          <a:xfrm>
            <a:off x="5880240" y="930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2" name=""/>
          <p:cNvSpPr/>
          <p:nvPr/>
        </p:nvSpPr>
        <p:spPr>
          <a:xfrm>
            <a:off x="5880240" y="108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3" name=""/>
          <p:cNvSpPr/>
          <p:nvPr/>
        </p:nvSpPr>
        <p:spPr>
          <a:xfrm>
            <a:off x="5880240" y="1387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4" name=""/>
          <p:cNvSpPr/>
          <p:nvPr/>
        </p:nvSpPr>
        <p:spPr>
          <a:xfrm>
            <a:off x="1033560" y="4573440"/>
            <a:ext cx="7189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31032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/>
          <p:cNvSpPr/>
          <p:nvPr/>
        </p:nvSpPr>
        <p:spPr>
          <a:xfrm>
            <a:off x="15552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 flipH="1">
            <a:off x="10094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 flipH="1">
            <a:off x="68544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9" name=""/>
          <p:cNvSpPr/>
          <p:nvPr/>
        </p:nvSpPr>
        <p:spPr>
          <a:xfrm>
            <a:off x="9144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2193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 flipV="1">
            <a:off x="762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/>
          <p:cNvSpPr/>
          <p:nvPr/>
        </p:nvSpPr>
        <p:spPr>
          <a:xfrm flipV="1">
            <a:off x="1066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9144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43020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5410080" y="19810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7" name=""/>
          <p:cNvSpPr/>
          <p:nvPr/>
        </p:nvSpPr>
        <p:spPr>
          <a:xfrm>
            <a:off x="5410080" y="21337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8" name=""/>
          <p:cNvSpPr/>
          <p:nvPr/>
        </p:nvSpPr>
        <p:spPr>
          <a:xfrm>
            <a:off x="5410080" y="22860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9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0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1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2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3" name=""/>
          <p:cNvSpPr/>
          <p:nvPr/>
        </p:nvSpPr>
        <p:spPr>
          <a:xfrm>
            <a:off x="5638680" y="18446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4" name=""/>
          <p:cNvSpPr/>
          <p:nvPr/>
        </p:nvSpPr>
        <p:spPr>
          <a:xfrm>
            <a:off x="183204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5" name=""/>
          <p:cNvSpPr/>
          <p:nvPr/>
        </p:nvSpPr>
        <p:spPr>
          <a:xfrm flipH="1" flipV="1">
            <a:off x="15998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6" name=""/>
          <p:cNvSpPr/>
          <p:nvPr/>
        </p:nvSpPr>
        <p:spPr>
          <a:xfrm flipH="1">
            <a:off x="1523880" y="5638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8" name=""/>
          <p:cNvSpPr/>
          <p:nvPr/>
        </p:nvSpPr>
        <p:spPr>
          <a:xfrm flipV="1">
            <a:off x="1600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0" name=""/>
          <p:cNvSpPr/>
          <p:nvPr/>
        </p:nvSpPr>
        <p:spPr>
          <a:xfrm flipV="1"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1" name=""/>
          <p:cNvSpPr/>
          <p:nvPr/>
        </p:nvSpPr>
        <p:spPr>
          <a:xfrm>
            <a:off x="430200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2" name=""/>
          <p:cNvSpPr/>
          <p:nvPr/>
        </p:nvSpPr>
        <p:spPr>
          <a:xfrm>
            <a:off x="5727600" y="3665520"/>
            <a:ext cx="2882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3" name=""/>
          <p:cNvSpPr/>
          <p:nvPr/>
        </p:nvSpPr>
        <p:spPr>
          <a:xfrm>
            <a:off x="5956200" y="3657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5880240" y="4122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 (DLCI 4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5880240" y="457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kopee (DLCI 65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5867280" y="3970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Bell (DLCI 2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5880240" y="4427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xford (DLCI 64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5880240" y="3817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y (DLCI 6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5880240" y="425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wood (DLCI 5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 flipV="1">
            <a:off x="1676520" y="3885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1295280" y="2506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1315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438280" y="25066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4" name=""/>
          <p:cNvSpPr/>
          <p:nvPr/>
        </p:nvSpPr>
        <p:spPr>
          <a:xfrm>
            <a:off x="2286000" y="2749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5" name=""/>
          <p:cNvSpPr/>
          <p:nvPr/>
        </p:nvSpPr>
        <p:spPr>
          <a:xfrm flipH="1" flipV="1">
            <a:off x="2133720" y="2735280"/>
            <a:ext cx="182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6" name=""/>
          <p:cNvSpPr/>
          <p:nvPr/>
        </p:nvSpPr>
        <p:spPr>
          <a:xfrm>
            <a:off x="396252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7" name=""/>
          <p:cNvSpPr/>
          <p:nvPr/>
        </p:nvSpPr>
        <p:spPr>
          <a:xfrm>
            <a:off x="5715000" y="4876920"/>
            <a:ext cx="288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8" name=""/>
          <p:cNvSpPr/>
          <p:nvPr/>
        </p:nvSpPr>
        <p:spPr>
          <a:xfrm>
            <a:off x="5943600" y="4861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9" name=""/>
          <p:cNvSpPr/>
          <p:nvPr/>
        </p:nvSpPr>
        <p:spPr>
          <a:xfrm>
            <a:off x="5867280" y="5607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ont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0" name=""/>
          <p:cNvSpPr/>
          <p:nvPr/>
        </p:nvSpPr>
        <p:spPr>
          <a:xfrm>
            <a:off x="5867280" y="5013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rmingham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1" name=""/>
          <p:cNvSpPr/>
          <p:nvPr/>
        </p:nvSpPr>
        <p:spPr>
          <a:xfrm>
            <a:off x="5854680" y="5454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2" name=""/>
          <p:cNvSpPr/>
          <p:nvPr/>
        </p:nvSpPr>
        <p:spPr>
          <a:xfrm>
            <a:off x="5867280" y="5911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Angeles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3" name=""/>
          <p:cNvSpPr/>
          <p:nvPr/>
        </p:nvSpPr>
        <p:spPr>
          <a:xfrm>
            <a:off x="5867280" y="5149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4" name=""/>
          <p:cNvSpPr/>
          <p:nvPr/>
        </p:nvSpPr>
        <p:spPr>
          <a:xfrm>
            <a:off x="5867280" y="575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land (DLCI xxx @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5" name=""/>
          <p:cNvSpPr/>
          <p:nvPr/>
        </p:nvSpPr>
        <p:spPr>
          <a:xfrm>
            <a:off x="5867280" y="6080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ellville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6" name=""/>
          <p:cNvSpPr/>
          <p:nvPr/>
        </p:nvSpPr>
        <p:spPr>
          <a:xfrm>
            <a:off x="5867280" y="5302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7" name=""/>
          <p:cNvSpPr/>
          <p:nvPr/>
        </p:nvSpPr>
        <p:spPr>
          <a:xfrm flipV="1">
            <a:off x="137160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8" name=""/>
          <p:cNvSpPr/>
          <p:nvPr/>
        </p:nvSpPr>
        <p:spPr>
          <a:xfrm>
            <a:off x="1523880" y="3352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9" name=""/>
          <p:cNvSpPr/>
          <p:nvPr/>
        </p:nvSpPr>
        <p:spPr>
          <a:xfrm>
            <a:off x="1544040" y="34434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0" name=""/>
          <p:cNvSpPr/>
          <p:nvPr/>
        </p:nvSpPr>
        <p:spPr>
          <a:xfrm>
            <a:off x="2362320" y="33526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1" name=""/>
          <p:cNvSpPr/>
          <p:nvPr/>
        </p:nvSpPr>
        <p:spPr>
          <a:xfrm>
            <a:off x="2209680" y="35956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2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3" name=""/>
          <p:cNvSpPr/>
          <p:nvPr/>
        </p:nvSpPr>
        <p:spPr>
          <a:xfrm>
            <a:off x="4302000" y="4662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6" name="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7" name=""/>
          <p:cNvSpPr/>
          <p:nvPr/>
        </p:nvSpPr>
        <p:spPr>
          <a:xfrm>
            <a:off x="310320" y="380988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8" name=""/>
          <p:cNvSpPr/>
          <p:nvPr/>
        </p:nvSpPr>
        <p:spPr>
          <a:xfrm>
            <a:off x="914400" y="3948120"/>
            <a:ext cx="45720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9" name=""/>
          <p:cNvSpPr/>
          <p:nvPr/>
        </p:nvSpPr>
        <p:spPr>
          <a:xfrm>
            <a:off x="190404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0" name=""/>
          <p:cNvSpPr/>
          <p:nvPr/>
        </p:nvSpPr>
        <p:spPr>
          <a:xfrm flipH="1">
            <a:off x="167616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EC6-FD51-47BA-A43E-F4696DFB2241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4D1A1-A2D9-4403-B426-60E8CAEDE5C0}" type="datetime1">
              <a:rPr lang="en-US"/>
              <a:t>07/29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4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5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6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7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8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9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0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7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3" name=""/>
          <p:cNvSpPr/>
          <p:nvPr/>
        </p:nvSpPr>
        <p:spPr>
          <a:xfrm>
            <a:off x="1143000" y="2583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gerstown (DLCI 7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4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5" name=""/>
          <p:cNvSpPr/>
          <p:nvPr/>
        </p:nvSpPr>
        <p:spPr>
          <a:xfrm>
            <a:off x="838080" y="326880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67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0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1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>
            <a:off x="838080" y="2819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mitage (DLCI 8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3" name=""/>
          <p:cNvSpPr/>
          <p:nvPr/>
        </p:nvSpPr>
        <p:spPr>
          <a:xfrm>
            <a:off x="838080" y="2362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innell (DLCI 9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4" name=""/>
          <p:cNvSpPr/>
          <p:nvPr/>
        </p:nvSpPr>
        <p:spPr>
          <a:xfrm>
            <a:off x="838080" y="371808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ks (DLCI 9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5" name=""/>
          <p:cNvSpPr/>
          <p:nvPr/>
        </p:nvSpPr>
        <p:spPr>
          <a:xfrm>
            <a:off x="838080" y="3505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Vinyl) (DLCI 98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838080" y="21337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burn (DLCI 8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EE4-F5DA-4061-B9A5-BCC6AC749510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64925-21D5-4C8D-BFB1-B65BFB197312}" type="datetime1">
              <a:rPr lang="en-US"/>
              <a:t>07/29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0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6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7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2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8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9" name=""/>
          <p:cNvSpPr/>
          <p:nvPr/>
        </p:nvSpPr>
        <p:spPr>
          <a:xfrm>
            <a:off x="1143000" y="2178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0" name=""/>
          <p:cNvSpPr/>
          <p:nvPr/>
        </p:nvSpPr>
        <p:spPr>
          <a:xfrm>
            <a:off x="838080" y="2414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1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712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4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5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6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7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0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3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4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5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6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7" name=""/>
          <p:cNvSpPr/>
          <p:nvPr/>
        </p:nvSpPr>
        <p:spPr>
          <a:xfrm>
            <a:off x="838080" y="265104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385-351C-4BCB-8039-BA0AB775247E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7C6E7-6DF4-40CC-B320-C3C37F609F27}" type="datetime1">
              <a:rPr lang="en-US"/>
              <a:t>07/29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1" name=""/>
          <p:cNvSpPr/>
          <p:nvPr/>
        </p:nvSpPr>
        <p:spPr>
          <a:xfrm>
            <a:off x="228600" y="152280"/>
            <a:ext cx="25909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2" name=""/>
          <p:cNvSpPr/>
          <p:nvPr/>
        </p:nvSpPr>
        <p:spPr>
          <a:xfrm>
            <a:off x="304920" y="152280"/>
            <a:ext cx="3047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e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 Office Box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ennsylvania 19482-0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7106…Lee Congl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3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4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5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6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7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9" name=""/>
          <p:cNvSpPr/>
          <p:nvPr/>
        </p:nvSpPr>
        <p:spPr>
          <a:xfrm>
            <a:off x="700920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0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1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2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8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275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8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9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2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3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4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5" name=""/>
          <p:cNvSpPr/>
          <p:nvPr/>
        </p:nvSpPr>
        <p:spPr>
          <a:xfrm>
            <a:off x="2894760" y="1752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6" name=""/>
          <p:cNvSpPr/>
          <p:nvPr/>
        </p:nvSpPr>
        <p:spPr>
          <a:xfrm>
            <a:off x="4364640" y="17524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7" name=""/>
          <p:cNvSpPr/>
          <p:nvPr/>
        </p:nvSpPr>
        <p:spPr>
          <a:xfrm>
            <a:off x="990720" y="16002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0) 825-9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8" name=""/>
          <p:cNvSpPr/>
          <p:nvPr/>
        </p:nvSpPr>
        <p:spPr>
          <a:xfrm>
            <a:off x="601920" y="44956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9" name=""/>
          <p:cNvGrpSpPr/>
          <p:nvPr/>
        </p:nvGrpSpPr>
        <p:grpSpPr>
          <a:xfrm>
            <a:off x="228600" y="4800600"/>
            <a:ext cx="3962520" cy="1461960"/>
            <a:chOff x="228600" y="4800600"/>
            <a:chExt cx="3962520" cy="1461960"/>
          </a:xfrm>
        </p:grpSpPr>
        <p:sp>
          <p:nvSpPr>
            <p:cNvPr id="12770" name=""/>
            <p:cNvSpPr/>
            <p:nvPr/>
          </p:nvSpPr>
          <p:spPr>
            <a:xfrm>
              <a:off x="2438280" y="601992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Develop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1295280" y="60199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228600" y="601992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3" name=""/>
            <p:cNvSpPr/>
            <p:nvPr/>
          </p:nvSpPr>
          <p:spPr>
            <a:xfrm>
              <a:off x="2438280" y="5772240"/>
              <a:ext cx="1752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4" name=""/>
            <p:cNvSpPr/>
            <p:nvPr/>
          </p:nvSpPr>
          <p:spPr>
            <a:xfrm>
              <a:off x="1295280" y="5772240"/>
              <a:ext cx="1143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5" name=""/>
            <p:cNvSpPr/>
            <p:nvPr/>
          </p:nvSpPr>
          <p:spPr>
            <a:xfrm>
              <a:off x="228600" y="577224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6" name=""/>
            <p:cNvSpPr/>
            <p:nvPr/>
          </p:nvSpPr>
          <p:spPr>
            <a:xfrm>
              <a:off x="2438280" y="5529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VBPG-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7" name=""/>
            <p:cNvSpPr/>
            <p:nvPr/>
          </p:nvSpPr>
          <p:spPr>
            <a:xfrm>
              <a:off x="1295280" y="5529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8" name=""/>
            <p:cNvSpPr/>
            <p:nvPr/>
          </p:nvSpPr>
          <p:spPr>
            <a:xfrm>
              <a:off x="228600" y="5529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9" name=""/>
            <p:cNvSpPr/>
            <p:nvPr/>
          </p:nvSpPr>
          <p:spPr>
            <a:xfrm>
              <a:off x="2438280" y="5286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1295280" y="5286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228600" y="5286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2438280" y="504360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– PM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3" name=""/>
            <p:cNvSpPr/>
            <p:nvPr/>
          </p:nvSpPr>
          <p:spPr>
            <a:xfrm>
              <a:off x="1295280" y="50436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4" name=""/>
            <p:cNvSpPr/>
            <p:nvPr/>
          </p:nvSpPr>
          <p:spPr>
            <a:xfrm>
              <a:off x="228600" y="50436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5" name=""/>
            <p:cNvSpPr/>
            <p:nvPr/>
          </p:nvSpPr>
          <p:spPr>
            <a:xfrm>
              <a:off x="2438280" y="480060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6" name=""/>
            <p:cNvSpPr/>
            <p:nvPr/>
          </p:nvSpPr>
          <p:spPr>
            <a:xfrm>
              <a:off x="1295280" y="48006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7" name=""/>
            <p:cNvSpPr/>
            <p:nvPr/>
          </p:nvSpPr>
          <p:spPr>
            <a:xfrm>
              <a:off x="228600" y="48006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8" name=""/>
            <p:cNvSpPr/>
            <p:nvPr/>
          </p:nvSpPr>
          <p:spPr>
            <a:xfrm>
              <a:off x="228600" y="480060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9" name=""/>
            <p:cNvSpPr/>
            <p:nvPr/>
          </p:nvSpPr>
          <p:spPr>
            <a:xfrm>
              <a:off x="228600" y="50436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0" name=""/>
            <p:cNvSpPr/>
            <p:nvPr/>
          </p:nvSpPr>
          <p:spPr>
            <a:xfrm>
              <a:off x="228600" y="5286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1" name=""/>
            <p:cNvSpPr/>
            <p:nvPr/>
          </p:nvSpPr>
          <p:spPr>
            <a:xfrm>
              <a:off x="228600" y="5529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2" name=""/>
            <p:cNvSpPr/>
            <p:nvPr/>
          </p:nvSpPr>
          <p:spPr>
            <a:xfrm>
              <a:off x="228600" y="5772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3" name=""/>
            <p:cNvSpPr/>
            <p:nvPr/>
          </p:nvSpPr>
          <p:spPr>
            <a:xfrm>
              <a:off x="228600" y="601992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4" name=""/>
            <p:cNvSpPr/>
            <p:nvPr/>
          </p:nvSpPr>
          <p:spPr>
            <a:xfrm>
              <a:off x="228600" y="626256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5" name=""/>
            <p:cNvSpPr/>
            <p:nvPr/>
          </p:nvSpPr>
          <p:spPr>
            <a:xfrm>
              <a:off x="22860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6" name=""/>
            <p:cNvSpPr/>
            <p:nvPr/>
          </p:nvSpPr>
          <p:spPr>
            <a:xfrm>
              <a:off x="1295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7" name=""/>
            <p:cNvSpPr/>
            <p:nvPr/>
          </p:nvSpPr>
          <p:spPr>
            <a:xfrm>
              <a:off x="2438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8" name=""/>
            <p:cNvSpPr/>
            <p:nvPr/>
          </p:nvSpPr>
          <p:spPr>
            <a:xfrm>
              <a:off x="419112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9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1066680" y="3276720"/>
            <a:ext cx="40388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Management Module also runs on 161.120.36.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56D-DD52-45AC-BEA2-89932A25E3DD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69047-CBD2-47FD-8517-5EFDE2DC2363}" type="datetime1">
              <a:rPr lang="en-US"/>
              <a:t>07/29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7" name=""/>
          <p:cNvSpPr/>
          <p:nvPr/>
        </p:nvSpPr>
        <p:spPr>
          <a:xfrm>
            <a:off x="6184800" y="3963960"/>
            <a:ext cx="749520" cy="37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1905120" y="1982880"/>
            <a:ext cx="10731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/>
          <p:cNvSpPr/>
          <p:nvPr/>
        </p:nvSpPr>
        <p:spPr>
          <a:xfrm>
            <a:off x="213336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5124600" y="213372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6019920" y="1981080"/>
            <a:ext cx="1066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3" name=""/>
          <p:cNvSpPr/>
          <p:nvPr/>
        </p:nvSpPr>
        <p:spPr>
          <a:xfrm>
            <a:off x="6095160" y="243828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4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5" name=""/>
          <p:cNvSpPr/>
          <p:nvPr/>
        </p:nvSpPr>
        <p:spPr>
          <a:xfrm>
            <a:off x="4876920" y="1982880"/>
            <a:ext cx="0" cy="38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6" name=""/>
          <p:cNvSpPr/>
          <p:nvPr/>
        </p:nvSpPr>
        <p:spPr>
          <a:xfrm flipV="1">
            <a:off x="2971800" y="2437920"/>
            <a:ext cx="190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2971800" y="2101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8" name=""/>
          <p:cNvSpPr/>
          <p:nvPr/>
        </p:nvSpPr>
        <p:spPr>
          <a:xfrm>
            <a:off x="1983240" y="16304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9" name=""/>
          <p:cNvSpPr/>
          <p:nvPr/>
        </p:nvSpPr>
        <p:spPr>
          <a:xfrm>
            <a:off x="5940360" y="1630440"/>
            <a:ext cx="119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0" name=""/>
          <p:cNvSpPr/>
          <p:nvPr/>
        </p:nvSpPr>
        <p:spPr>
          <a:xfrm>
            <a:off x="2818800" y="51354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1" name=""/>
          <p:cNvSpPr/>
          <p:nvPr/>
        </p:nvSpPr>
        <p:spPr>
          <a:xfrm>
            <a:off x="2133720" y="52880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2" name=""/>
          <p:cNvSpPr/>
          <p:nvPr/>
        </p:nvSpPr>
        <p:spPr>
          <a:xfrm>
            <a:off x="48769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3" name=""/>
          <p:cNvSpPr/>
          <p:nvPr/>
        </p:nvSpPr>
        <p:spPr>
          <a:xfrm>
            <a:off x="2197080" y="5059440"/>
            <a:ext cx="70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4" name=""/>
          <p:cNvSpPr/>
          <p:nvPr/>
        </p:nvSpPr>
        <p:spPr>
          <a:xfrm>
            <a:off x="452160" y="582120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di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5" name=""/>
          <p:cNvSpPr/>
          <p:nvPr/>
        </p:nvSpPr>
        <p:spPr>
          <a:xfrm>
            <a:off x="2133720" y="5059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6" name=""/>
          <p:cNvSpPr/>
          <p:nvPr/>
        </p:nvSpPr>
        <p:spPr>
          <a:xfrm>
            <a:off x="3505320" y="527220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7" name=""/>
          <p:cNvSpPr/>
          <p:nvPr/>
        </p:nvSpPr>
        <p:spPr>
          <a:xfrm>
            <a:off x="35812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8" name=""/>
          <p:cNvSpPr/>
          <p:nvPr/>
        </p:nvSpPr>
        <p:spPr>
          <a:xfrm>
            <a:off x="2873520" y="51354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9" name=""/>
          <p:cNvSpPr/>
          <p:nvPr/>
        </p:nvSpPr>
        <p:spPr>
          <a:xfrm>
            <a:off x="756720" y="50594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0" name=""/>
          <p:cNvSpPr/>
          <p:nvPr/>
        </p:nvSpPr>
        <p:spPr>
          <a:xfrm>
            <a:off x="685800" y="505944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1" name=""/>
          <p:cNvSpPr/>
          <p:nvPr/>
        </p:nvSpPr>
        <p:spPr>
          <a:xfrm>
            <a:off x="1371600" y="5440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2" name=""/>
          <p:cNvSpPr/>
          <p:nvPr/>
        </p:nvSpPr>
        <p:spPr>
          <a:xfrm>
            <a:off x="1364400" y="51354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3" name=""/>
          <p:cNvSpPr/>
          <p:nvPr/>
        </p:nvSpPr>
        <p:spPr>
          <a:xfrm>
            <a:off x="7089840" y="4952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4" name=""/>
          <p:cNvSpPr/>
          <p:nvPr/>
        </p:nvSpPr>
        <p:spPr>
          <a:xfrm>
            <a:off x="6248160" y="50608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5" name=""/>
          <p:cNvSpPr/>
          <p:nvPr/>
        </p:nvSpPr>
        <p:spPr>
          <a:xfrm>
            <a:off x="6173280" y="5821200"/>
            <a:ext cx="7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6" name=""/>
          <p:cNvSpPr/>
          <p:nvPr/>
        </p:nvSpPr>
        <p:spPr>
          <a:xfrm>
            <a:off x="6019920" y="4984920"/>
            <a:ext cx="106668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7" name=""/>
          <p:cNvSpPr/>
          <p:nvPr/>
        </p:nvSpPr>
        <p:spPr>
          <a:xfrm>
            <a:off x="7086600" y="5289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>
            <a:off x="8229600" y="506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8229600" y="5137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8229600" y="5442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512460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7089840" y="26226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7086600" y="311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8229600" y="288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5" name=""/>
          <p:cNvSpPr/>
          <p:nvPr/>
        </p:nvSpPr>
        <p:spPr>
          <a:xfrm>
            <a:off x="8229600" y="2959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6" name=""/>
          <p:cNvSpPr/>
          <p:nvPr/>
        </p:nvSpPr>
        <p:spPr>
          <a:xfrm>
            <a:off x="8229600" y="32637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7" name=""/>
          <p:cNvSpPr/>
          <p:nvPr/>
        </p:nvSpPr>
        <p:spPr>
          <a:xfrm>
            <a:off x="7089840" y="190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8" name=""/>
          <p:cNvSpPr/>
          <p:nvPr/>
        </p:nvSpPr>
        <p:spPr>
          <a:xfrm>
            <a:off x="70866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9" name=""/>
          <p:cNvSpPr/>
          <p:nvPr/>
        </p:nvSpPr>
        <p:spPr>
          <a:xfrm>
            <a:off x="8229600" y="2165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0" name=""/>
          <p:cNvSpPr/>
          <p:nvPr/>
        </p:nvSpPr>
        <p:spPr>
          <a:xfrm>
            <a:off x="8229600" y="2241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1" name=""/>
          <p:cNvSpPr/>
          <p:nvPr/>
        </p:nvSpPr>
        <p:spPr>
          <a:xfrm>
            <a:off x="8229600" y="2546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2" name=""/>
          <p:cNvSpPr/>
          <p:nvPr/>
        </p:nvSpPr>
        <p:spPr>
          <a:xfrm>
            <a:off x="65530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3" name=""/>
          <p:cNvSpPr/>
          <p:nvPr/>
        </p:nvSpPr>
        <p:spPr>
          <a:xfrm>
            <a:off x="6556320" y="33973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6" name=""/>
          <p:cNvSpPr/>
          <p:nvPr/>
        </p:nvSpPr>
        <p:spPr>
          <a:xfrm>
            <a:off x="1905120" y="3511440"/>
            <a:ext cx="1066680" cy="6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7" name=""/>
          <p:cNvSpPr/>
          <p:nvPr/>
        </p:nvSpPr>
        <p:spPr>
          <a:xfrm>
            <a:off x="1905120" y="358776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8" name=""/>
          <p:cNvSpPr/>
          <p:nvPr/>
        </p:nvSpPr>
        <p:spPr>
          <a:xfrm>
            <a:off x="2975040" y="36306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9" name=""/>
          <p:cNvSpPr/>
          <p:nvPr/>
        </p:nvSpPr>
        <p:spPr>
          <a:xfrm>
            <a:off x="2955960" y="3962520"/>
            <a:ext cx="14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0" name=""/>
          <p:cNvSpPr/>
          <p:nvPr/>
        </p:nvSpPr>
        <p:spPr>
          <a:xfrm>
            <a:off x="441972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1" name=""/>
          <p:cNvSpPr/>
          <p:nvPr/>
        </p:nvSpPr>
        <p:spPr>
          <a:xfrm>
            <a:off x="1827360" y="42670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cl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527-AFA9-422F-9883-0A4BB7BD5D28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E8EFB-C7CD-4FFD-ADE0-865C8ED3295B}" type="datetime1">
              <a:rPr lang="en-US"/>
              <a:t>07/29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5" name=""/>
          <p:cNvSpPr/>
          <p:nvPr/>
        </p:nvSpPr>
        <p:spPr>
          <a:xfrm>
            <a:off x="3983040" y="1911240"/>
            <a:ext cx="11206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5186880" y="234792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4045680" y="5688000"/>
            <a:ext cx="1049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M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5105520" y="266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 flipH="1">
            <a:off x="5105160" y="2514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>
            <a:off x="5188680" y="29574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2_R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>
            <a:off x="64008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64008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 flipH="1">
            <a:off x="5105160" y="3124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5189400" y="35672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6400800" y="3809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0" name=""/>
          <p:cNvSpPr/>
          <p:nvPr/>
        </p:nvSpPr>
        <p:spPr>
          <a:xfrm flipH="1">
            <a:off x="5105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2" name=""/>
          <p:cNvSpPr/>
          <p:nvPr/>
        </p:nvSpPr>
        <p:spPr>
          <a:xfrm>
            <a:off x="640080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3" name=""/>
          <p:cNvSpPr/>
          <p:nvPr/>
        </p:nvSpPr>
        <p:spPr>
          <a:xfrm>
            <a:off x="640080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4" name=""/>
          <p:cNvSpPr/>
          <p:nvPr/>
        </p:nvSpPr>
        <p:spPr>
          <a:xfrm flipH="1">
            <a:off x="5105160" y="4343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5" name=""/>
          <p:cNvSpPr/>
          <p:nvPr/>
        </p:nvSpPr>
        <p:spPr>
          <a:xfrm>
            <a:off x="1758960" y="320688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6" name=""/>
          <p:cNvSpPr/>
          <p:nvPr/>
        </p:nvSpPr>
        <p:spPr>
          <a:xfrm flipH="1">
            <a:off x="29718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7" name=""/>
          <p:cNvSpPr/>
          <p:nvPr/>
        </p:nvSpPr>
        <p:spPr>
          <a:xfrm>
            <a:off x="2011320" y="3747960"/>
            <a:ext cx="71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8" name=""/>
          <p:cNvSpPr/>
          <p:nvPr/>
        </p:nvSpPr>
        <p:spPr>
          <a:xfrm>
            <a:off x="3011400" y="31860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9" name=""/>
          <p:cNvSpPr/>
          <p:nvPr/>
        </p:nvSpPr>
        <p:spPr>
          <a:xfrm>
            <a:off x="3809880" y="3352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0" name=""/>
          <p:cNvSpPr/>
          <p:nvPr/>
        </p:nvSpPr>
        <p:spPr>
          <a:xfrm>
            <a:off x="640080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1" name=""/>
          <p:cNvSpPr/>
          <p:nvPr/>
        </p:nvSpPr>
        <p:spPr>
          <a:xfrm>
            <a:off x="51055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2" name=""/>
          <p:cNvSpPr/>
          <p:nvPr/>
        </p:nvSpPr>
        <p:spPr>
          <a:xfrm>
            <a:off x="5105520" y="3886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3" name=""/>
          <p:cNvSpPr/>
          <p:nvPr/>
        </p:nvSpPr>
        <p:spPr>
          <a:xfrm>
            <a:off x="51055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4" name=""/>
          <p:cNvSpPr/>
          <p:nvPr/>
        </p:nvSpPr>
        <p:spPr>
          <a:xfrm>
            <a:off x="5186880" y="4176720"/>
            <a:ext cx="95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5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6" name=""/>
          <p:cNvSpPr/>
          <p:nvPr/>
        </p:nvSpPr>
        <p:spPr>
          <a:xfrm>
            <a:off x="6629400" y="651204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FCE-2412-4154-AB67-30BE59CA681A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AA452-7CE7-42C3-BFD3-708923B935CB}" type="datetime1">
              <a:rPr lang="en-US"/>
              <a:t>07/29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2" name=""/>
          <p:cNvSpPr/>
          <p:nvPr/>
        </p:nvSpPr>
        <p:spPr>
          <a:xfrm>
            <a:off x="1911240" y="2290680"/>
            <a:ext cx="174492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3" name=""/>
          <p:cNvSpPr/>
          <p:nvPr/>
        </p:nvSpPr>
        <p:spPr>
          <a:xfrm>
            <a:off x="4578480" y="4129200"/>
            <a:ext cx="74916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4" name=""/>
          <p:cNvSpPr/>
          <p:nvPr/>
        </p:nvSpPr>
        <p:spPr>
          <a:xfrm>
            <a:off x="4619160" y="426564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5" name=""/>
          <p:cNvSpPr/>
          <p:nvPr/>
        </p:nvSpPr>
        <p:spPr>
          <a:xfrm>
            <a:off x="36576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/>
          <p:cNvSpPr/>
          <p:nvPr/>
        </p:nvSpPr>
        <p:spPr>
          <a:xfrm>
            <a:off x="43434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3892680" y="4135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6576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43434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3892680" y="50497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36576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>
            <a:off x="43434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>
            <a:off x="3892680" y="5278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1911240" y="4592520"/>
            <a:ext cx="1739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2244600" y="5035680"/>
            <a:ext cx="14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/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2903400" y="52642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l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6227640" y="3976560"/>
            <a:ext cx="1684080" cy="1675800"/>
            <a:chOff x="6227640" y="3976560"/>
            <a:chExt cx="1684080" cy="1675800"/>
          </a:xfrm>
        </p:grpSpPr>
        <p:sp>
          <p:nvSpPr>
            <p:cNvPr id="12918" name=""/>
            <p:cNvSpPr/>
            <p:nvPr/>
          </p:nvSpPr>
          <p:spPr>
            <a:xfrm>
              <a:off x="7116120" y="4084560"/>
              <a:ext cx="360720" cy="4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4"/>
                  </a:moveTo>
                  <a:arcTo wR="10800" hR="10800" stAng="-9942556" swAng="1119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4"/>
                  </a:moveTo>
                  <a:arcTo wR="10800" hR="10800" stAng="-9942556" swAng="111917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6227640" y="4111200"/>
              <a:ext cx="4629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6" y="20710"/>
                  </a:moveTo>
                  <a:arcTo wR="10800" hR="10800" stAng="6805571" swAng="124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6" y="20710"/>
                  </a:moveTo>
                  <a:arcTo wR="10800" hR="10800" stAng="6805571" swAng="124408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>
              <a:off x="6651720" y="397656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6248520" y="455688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2" y="21203"/>
                  </a:moveTo>
                  <a:arcTo wR="10800" hR="10800" stAng="4464909" swAng="10163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2" y="21203"/>
                  </a:moveTo>
                  <a:arcTo wR="10800" hR="10800" stAng="4464909" swAng="10163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6500880" y="4935240"/>
              <a:ext cx="4629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6" y="17442"/>
                  </a:moveTo>
                  <a:arcTo wR="10800" hR="10800" stAng="2276988" swAng="1062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6" y="17442"/>
                  </a:moveTo>
                  <a:arcTo wR="10800" hR="10800" stAng="2276988" swAng="106249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904080" y="5165640"/>
              <a:ext cx="464760" cy="48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4" y="5653"/>
                  </a:moveTo>
                  <a:arcTo wR="10800" hR="10800" stAng="-1707850" swAng="13048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4" y="5653"/>
                  </a:moveTo>
                  <a:arcTo wR="10800" hR="10800" stAng="-1707850" swAng="130480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4" name=""/>
            <p:cNvSpPr/>
            <p:nvPr/>
          </p:nvSpPr>
          <p:spPr>
            <a:xfrm>
              <a:off x="7347960" y="4963680"/>
              <a:ext cx="463680" cy="48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2" y="411"/>
                  </a:moveTo>
                  <a:arcTo wR="10800" hR="10800" stAng="-4448266" swAng="1376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2" y="411"/>
                  </a:moveTo>
                  <a:arcTo wR="10800" hR="10800" stAng="-4448266" swAng="137629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5" name=""/>
            <p:cNvSpPr/>
            <p:nvPr/>
          </p:nvSpPr>
          <p:spPr>
            <a:xfrm>
              <a:off x="7399080" y="4300200"/>
              <a:ext cx="51264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6" y="3033"/>
                  </a:moveTo>
                  <a:arcTo wR="10800" hR="10800" stAng="-8040840" swAng="1346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6" y="3033"/>
                  </a:moveTo>
                  <a:arcTo wR="10800" hR="10800" stAng="-8040840" swAng="134621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6" name=""/>
          <p:cNvSpPr/>
          <p:nvPr/>
        </p:nvSpPr>
        <p:spPr>
          <a:xfrm>
            <a:off x="53341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7" name=""/>
          <p:cNvSpPr/>
          <p:nvPr/>
        </p:nvSpPr>
        <p:spPr>
          <a:xfrm>
            <a:off x="60199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8" name=""/>
          <p:cNvSpPr/>
          <p:nvPr/>
        </p:nvSpPr>
        <p:spPr>
          <a:xfrm>
            <a:off x="5568840" y="4743360"/>
            <a:ext cx="44460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9" name=""/>
          <p:cNvSpPr/>
          <p:nvPr/>
        </p:nvSpPr>
        <p:spPr>
          <a:xfrm>
            <a:off x="6757920" y="4653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0" name=""/>
          <p:cNvSpPr/>
          <p:nvPr/>
        </p:nvSpPr>
        <p:spPr>
          <a:xfrm>
            <a:off x="1059480" y="48830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1" name=""/>
          <p:cNvSpPr/>
          <p:nvPr/>
        </p:nvSpPr>
        <p:spPr>
          <a:xfrm>
            <a:off x="682560" y="2284560"/>
            <a:ext cx="1201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2" name=""/>
          <p:cNvSpPr/>
          <p:nvPr/>
        </p:nvSpPr>
        <p:spPr>
          <a:xfrm>
            <a:off x="3911760" y="41292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3" name=""/>
          <p:cNvSpPr/>
          <p:nvPr/>
        </p:nvSpPr>
        <p:spPr>
          <a:xfrm>
            <a:off x="3835440" y="50436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4" name=""/>
          <p:cNvSpPr/>
          <p:nvPr/>
        </p:nvSpPr>
        <p:spPr>
          <a:xfrm>
            <a:off x="5511960" y="473724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44m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5" name=""/>
          <p:cNvSpPr/>
          <p:nvPr/>
        </p:nvSpPr>
        <p:spPr>
          <a:xfrm>
            <a:off x="1911240" y="4135320"/>
            <a:ext cx="17398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6" name=""/>
          <p:cNvSpPr/>
          <p:nvPr/>
        </p:nvSpPr>
        <p:spPr>
          <a:xfrm>
            <a:off x="2652480" y="4121280"/>
            <a:ext cx="1020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7" name=""/>
          <p:cNvSpPr/>
          <p:nvPr/>
        </p:nvSpPr>
        <p:spPr>
          <a:xfrm>
            <a:off x="2786040" y="457848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lin/Pl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8" name=""/>
          <p:cNvSpPr/>
          <p:nvPr/>
        </p:nvSpPr>
        <p:spPr>
          <a:xfrm>
            <a:off x="2307240" y="4807080"/>
            <a:ext cx="136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olton/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9" name=""/>
          <p:cNvSpPr/>
          <p:nvPr/>
        </p:nvSpPr>
        <p:spPr>
          <a:xfrm>
            <a:off x="36576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0" name=""/>
          <p:cNvSpPr/>
          <p:nvPr/>
        </p:nvSpPr>
        <p:spPr>
          <a:xfrm>
            <a:off x="43434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1" name=""/>
          <p:cNvSpPr/>
          <p:nvPr/>
        </p:nvSpPr>
        <p:spPr>
          <a:xfrm>
            <a:off x="3892680" y="48211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2" name=""/>
          <p:cNvSpPr/>
          <p:nvPr/>
        </p:nvSpPr>
        <p:spPr>
          <a:xfrm>
            <a:off x="36576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3" name=""/>
          <p:cNvSpPr/>
          <p:nvPr/>
        </p:nvSpPr>
        <p:spPr>
          <a:xfrm>
            <a:off x="43434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4" name=""/>
          <p:cNvSpPr/>
          <p:nvPr/>
        </p:nvSpPr>
        <p:spPr>
          <a:xfrm>
            <a:off x="3892680" y="45925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5" name=""/>
          <p:cNvSpPr/>
          <p:nvPr/>
        </p:nvSpPr>
        <p:spPr>
          <a:xfrm>
            <a:off x="3835440" y="45864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6" name=""/>
          <p:cNvSpPr/>
          <p:nvPr/>
        </p:nvSpPr>
        <p:spPr>
          <a:xfrm>
            <a:off x="3835440" y="48150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7" name=""/>
          <p:cNvGrpSpPr/>
          <p:nvPr/>
        </p:nvGrpSpPr>
        <p:grpSpPr>
          <a:xfrm>
            <a:off x="6226200" y="2133720"/>
            <a:ext cx="1685520" cy="683280"/>
            <a:chOff x="6226200" y="2133720"/>
            <a:chExt cx="1685520" cy="683280"/>
          </a:xfrm>
        </p:grpSpPr>
        <p:sp>
          <p:nvSpPr>
            <p:cNvPr id="12948" name=""/>
            <p:cNvSpPr/>
            <p:nvPr/>
          </p:nvSpPr>
          <p:spPr>
            <a:xfrm>
              <a:off x="7116120" y="2178000"/>
              <a:ext cx="36216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9" name=""/>
            <p:cNvSpPr/>
            <p:nvPr/>
          </p:nvSpPr>
          <p:spPr>
            <a:xfrm>
              <a:off x="6226200" y="218736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0" name=""/>
            <p:cNvSpPr/>
            <p:nvPr/>
          </p:nvSpPr>
          <p:spPr>
            <a:xfrm>
              <a:off x="6651720" y="213372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1" name=""/>
            <p:cNvSpPr/>
            <p:nvPr/>
          </p:nvSpPr>
          <p:spPr>
            <a:xfrm>
              <a:off x="6246720" y="2371320"/>
              <a:ext cx="46368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2" name=""/>
            <p:cNvSpPr/>
            <p:nvPr/>
          </p:nvSpPr>
          <p:spPr>
            <a:xfrm>
              <a:off x="6499080" y="252504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3" name=""/>
            <p:cNvSpPr/>
            <p:nvPr/>
          </p:nvSpPr>
          <p:spPr>
            <a:xfrm>
              <a:off x="6904080" y="261828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4" name=""/>
            <p:cNvSpPr/>
            <p:nvPr/>
          </p:nvSpPr>
          <p:spPr>
            <a:xfrm>
              <a:off x="7348680" y="2536200"/>
              <a:ext cx="46296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5" name=""/>
            <p:cNvSpPr/>
            <p:nvPr/>
          </p:nvSpPr>
          <p:spPr>
            <a:xfrm>
              <a:off x="7399800" y="2265120"/>
              <a:ext cx="5119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6" name=""/>
          <p:cNvSpPr/>
          <p:nvPr/>
        </p:nvSpPr>
        <p:spPr>
          <a:xfrm>
            <a:off x="6815880" y="2352600"/>
            <a:ext cx="54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 flipH="1">
            <a:off x="5791320" y="2436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>
            <a:off x="1059480" y="412128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>
            <a:off x="6629400" y="651204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W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>
            <a:off x="3835440" y="52722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171360" y="1713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31840" y="2253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2445480" y="2352600"/>
            <a:ext cx="122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LC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3657600" y="2436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5" name=""/>
          <p:cNvSpPr/>
          <p:nvPr/>
        </p:nvSpPr>
        <p:spPr>
          <a:xfrm>
            <a:off x="4343400" y="243684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6" name=""/>
          <p:cNvSpPr/>
          <p:nvPr/>
        </p:nvSpPr>
        <p:spPr>
          <a:xfrm>
            <a:off x="3892680" y="236700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7" name=""/>
          <p:cNvSpPr/>
          <p:nvPr/>
        </p:nvSpPr>
        <p:spPr>
          <a:xfrm>
            <a:off x="3911760" y="23605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E4F-AC97-407C-94BD-15E7A5455788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719A2-0D73-4F92-8975-EE8BB35064D1}" type="datetime1">
              <a:rPr lang="en-US"/>
              <a:t>07/29/26</a:t>
            </a:fld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Nuy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29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6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0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171360" y="171360"/>
            <a:ext cx="26290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01 Woodle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  91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Bob Warner x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Lou Rattlestorfer x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4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Nu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46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n Nuy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/>
          <p:cNvSpPr/>
          <p:nvPr/>
        </p:nvSpPr>
        <p:spPr>
          <a:xfrm>
            <a:off x="398520" y="53020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VAN_NU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DA6-67AD-4C95-9546-16B222B52579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186D1-F61E-4F02-8A00-07D7FE5DC7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02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0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4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9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0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1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2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2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4501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3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21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29B-237C-4874-AE26-AEC110880B63}" type="slidenum">
              <a:t>2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56AA5-B68D-4365-9981-99258917A3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7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088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6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8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9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0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1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2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3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2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3" name=""/>
          <p:cNvSpPr/>
          <p:nvPr/>
        </p:nvSpPr>
        <p:spPr>
          <a:xfrm>
            <a:off x="3527640" y="447984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-222-12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6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) 222-12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7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s Moul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9 South Colleg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  15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24) 222-7006…Jim Rosenberg x-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1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2" name=""/>
          <p:cNvSpPr/>
          <p:nvPr/>
        </p:nvSpPr>
        <p:spPr>
          <a:xfrm>
            <a:off x="227880" y="530208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89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72F-4137-45EA-B090-3A2C0B27F1C5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291AA-BC19-4B5C-AEBB-3F7B04E3F5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uquerque, New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0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01-Balloon Fiesta Parkway N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ew Mexico  87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Zeljko Ko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Thelma Made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5) 823-1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5-828-1897 / 505-828-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44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379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259-714C-4A7C-8D8C-AC6F257C16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20A59-7B06-4ADA-9ED3-36EC075F24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ougal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>
            <a:off x="7162920" y="650700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o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Crystal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South 32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shington  986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8566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9864…Gerald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8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01760" y="2646360"/>
            <a:ext cx="59688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>
            <a:off x="1346040" y="265104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7620120" y="3123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8127720" y="49053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>
            <a:off x="633816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>
            <a:off x="4963320" y="27306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>
            <a:off x="2222280" y="26542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0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3181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9" name=""/>
          <p:cNvSpPr/>
          <p:nvPr/>
        </p:nvSpPr>
        <p:spPr>
          <a:xfrm>
            <a:off x="3533040" y="27432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3983040" y="213372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55627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6098760" y="26686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0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7327800" y="2666880"/>
            <a:ext cx="59688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7372440" y="267192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F4C-6005-4E7B-8505-71339ED5B3A0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0385E-D97B-4C3D-B418-AF256F00A2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xahachi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19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3-4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37-2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00 North Interstate Hwy.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exas  75165-5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937-3430…Dennis Worrell x-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xahac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227520" y="530208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99360" y="4038480"/>
            <a:ext cx="1120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xahach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4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4EF-1557-4049-AD02-A9B9AC799B04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60112-6B19-47BE-8AC8-A5934A0C81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8" name=""/>
          <p:cNvSpPr/>
          <p:nvPr/>
        </p:nvSpPr>
        <p:spPr>
          <a:xfrm>
            <a:off x="7543800" y="6512040"/>
            <a:ext cx="130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1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2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13263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1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2" name=""/>
          <p:cNvSpPr/>
          <p:nvPr/>
        </p:nvSpPr>
        <p:spPr>
          <a:xfrm>
            <a:off x="2102400" y="55926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>
            <a:off x="1545840" y="22017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18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5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6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000088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>
            <a:off x="1297800" y="2887560"/>
            <a:ext cx="25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2" name=""/>
          <p:cNvSpPr/>
          <p:nvPr/>
        </p:nvSpPr>
        <p:spPr>
          <a:xfrm>
            <a:off x="1621080" y="3336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3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4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>
            <a:off x="1853640" y="3108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4AD-AA25-4EFC-98FF-6854166B494E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776DA-441A-4F6E-8BE7-373455EB2237}" type="datetime1">
              <a:rPr lang="en-US"/>
              <a:t>07/29/26</a:t>
            </a:fld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0" name=""/>
          <p:cNvSpPr/>
          <p:nvPr/>
        </p:nvSpPr>
        <p:spPr>
          <a:xfrm>
            <a:off x="228600" y="152280"/>
            <a:ext cx="2362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>
            <a:off x="228600" y="152280"/>
            <a:ext cx="304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ew Jersey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zc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>
            <a:off x="6475680" y="23605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703440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6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3307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5" name=""/>
          <p:cNvSpPr/>
          <p:nvPr/>
        </p:nvSpPr>
        <p:spPr>
          <a:xfrm>
            <a:off x="7009920" y="40384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57902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ne, New Jer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32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69969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2907360" y="18288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7009200" y="20574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422460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457344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83C-B6B4-4A63-BFC8-FCAF5F80CCB6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1E443-4EC4-4894-B840-4A0D4D543E2A}" type="datetime1">
              <a:rPr lang="en-US"/>
              <a:t>07/29/26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6" name=""/>
          <p:cNvGrpSpPr/>
          <p:nvPr/>
        </p:nvGrpSpPr>
        <p:grpSpPr>
          <a:xfrm>
            <a:off x="3657600" y="990720"/>
            <a:ext cx="2133360" cy="3503160"/>
            <a:chOff x="3657600" y="990720"/>
            <a:chExt cx="2133360" cy="3503160"/>
          </a:xfrm>
        </p:grpSpPr>
        <p:sp>
          <p:nvSpPr>
            <p:cNvPr id="13347" name=""/>
            <p:cNvSpPr/>
            <p:nvPr/>
          </p:nvSpPr>
          <p:spPr>
            <a:xfrm>
              <a:off x="478476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65760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419256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368316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00212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451512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507564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514224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5" name=""/>
          <p:cNvSpPr/>
          <p:nvPr/>
        </p:nvSpPr>
        <p:spPr>
          <a:xfrm>
            <a:off x="7267320" y="5969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 flipH="1" flipV="1">
            <a:off x="5789520" y="210492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747720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 flipV="1">
            <a:off x="7846920" y="2895480"/>
            <a:ext cx="18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687708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371484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51055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4093200" y="1676520"/>
            <a:ext cx="118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1033200" y="318780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61272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8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90952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7543800" y="6526080"/>
            <a:ext cx="13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6246720" y="26193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"/>
          <p:cNvSpPr/>
          <p:nvPr/>
        </p:nvSpPr>
        <p:spPr>
          <a:xfrm>
            <a:off x="609444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233928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5" name=""/>
          <p:cNvSpPr/>
          <p:nvPr/>
        </p:nvSpPr>
        <p:spPr>
          <a:xfrm>
            <a:off x="2135160" y="260496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05740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7" name=""/>
          <p:cNvSpPr/>
          <p:nvPr/>
        </p:nvSpPr>
        <p:spPr>
          <a:xfrm>
            <a:off x="2909520" y="48769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8" name=""/>
          <p:cNvSpPr/>
          <p:nvPr/>
        </p:nvSpPr>
        <p:spPr>
          <a:xfrm flipH="1">
            <a:off x="2438280" y="3078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9" name=""/>
          <p:cNvSpPr/>
          <p:nvPr/>
        </p:nvSpPr>
        <p:spPr>
          <a:xfrm>
            <a:off x="2858040" y="2940120"/>
            <a:ext cx="53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>
            <a:off x="571500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>
            <a:off x="510552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6246720" y="20574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6251400" y="23004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7445520" y="45720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>
            <a:off x="6937560" y="1447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 flipV="1">
            <a:off x="7848720" y="1295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 flipH="1">
            <a:off x="5790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7467480" y="838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9" name=""/>
          <p:cNvSpPr/>
          <p:nvPr/>
        </p:nvSpPr>
        <p:spPr>
          <a:xfrm>
            <a:off x="7543800" y="8366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>
            <a:off x="1695600" y="3809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090-0E30-4734-A535-9924187B416D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FBC73-CA24-4E2A-AADD-55FE3AAA2F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233280" y="263520"/>
            <a:ext cx="2274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23…Kevin Gerh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90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7007760" y="6526080"/>
            <a:ext cx="183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42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4419720" y="3276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5105520" y="3414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471080" y="787320"/>
            <a:ext cx="10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1371600" y="2368440"/>
            <a:ext cx="67932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1355040" y="242244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 flipV="1">
            <a:off x="1752480" y="2895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398808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6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3975480" y="5010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7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198360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5471280" y="32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5408280" y="3429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1214640" y="59277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18148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54460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412240" y="28195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213588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EA3-D464-48C8-B0FD-E0603C1E36D6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3D3F7-3684-4B34-865F-E2E55CD022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4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13485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6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7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0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3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6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7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7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8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9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0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1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53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2" name=""/>
          <p:cNvSpPr/>
          <p:nvPr/>
        </p:nvSpPr>
        <p:spPr>
          <a:xfrm>
            <a:off x="7084080" y="6526080"/>
            <a:ext cx="178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3" name=""/>
          <p:cNvSpPr/>
          <p:nvPr/>
        </p:nvSpPr>
        <p:spPr>
          <a:xfrm>
            <a:off x="171360" y="419040"/>
            <a:ext cx="30099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>
            <a:off x="203400" y="479520"/>
            <a:ext cx="2999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/Norton Industrial Ceramics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8…Steve Fr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7…Debbie At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71B-2512-472E-8C9D-3C86D59540C9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E6652-4951-4D12-B9EC-5E3FDD9135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City, Oreg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8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3549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0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1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3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4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5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6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4" name=""/>
          <p:cNvSpPr/>
          <p:nvPr/>
        </p:nvSpPr>
        <p:spPr>
          <a:xfrm>
            <a:off x="7355520" y="78732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6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7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8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9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0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1" name=""/>
          <p:cNvSpPr/>
          <p:nvPr/>
        </p:nvSpPr>
        <p:spPr>
          <a:xfrm>
            <a:off x="1454040" y="250524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2" name=""/>
          <p:cNvSpPr/>
          <p:nvPr/>
        </p:nvSpPr>
        <p:spPr>
          <a:xfrm>
            <a:off x="1402560" y="249876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3" name=""/>
          <p:cNvSpPr/>
          <p:nvPr/>
        </p:nvSpPr>
        <p:spPr>
          <a:xfrm flipV="1">
            <a:off x="1752480" y="30477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6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7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8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9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>
            <a:off x="5275440" y="3414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4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5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6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7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Avenu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egon  975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41) 826-5867…Travis Vie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>
            <a:off x="7391520" y="652608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>
            <a:off x="553176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>
            <a:off x="548856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D91-EF31-4B27-93FD-96B7AB19F710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FBA46-21D6-4103-897D-75C0E0B94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PlaceHolder 1"/>
          <p:cNvSpPr>
            <a:spLocks noGrp="1"/>
          </p:cNvSpPr>
          <p:nvPr>
            <p:ph type="title"/>
          </p:nvPr>
        </p:nvSpPr>
        <p:spPr>
          <a:xfrm>
            <a:off x="1009440" y="-36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CertainTeed Distribution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6" name=""/>
          <p:cNvSpPr/>
          <p:nvPr/>
        </p:nvSpPr>
        <p:spPr>
          <a:xfrm>
            <a:off x="7238520" y="652608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C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>
            <a:off x="6721560" y="5307120"/>
            <a:ext cx="138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191124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197244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1419120" y="531828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VCT-C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1100160" y="3610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1013040" y="4579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F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18288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198108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23623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0512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 flipV="1">
            <a:off x="1905120" y="45716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4248360" y="2452680"/>
            <a:ext cx="112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HWDA 9040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286-8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6127920" y="3595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14600" y="2819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3" name=""/>
          <p:cNvGrpSpPr/>
          <p:nvPr/>
        </p:nvGrpSpPr>
        <p:grpSpPr>
          <a:xfrm>
            <a:off x="3962520" y="2135160"/>
            <a:ext cx="1601280" cy="1371240"/>
            <a:chOff x="3962520" y="2135160"/>
            <a:chExt cx="1601280" cy="1371240"/>
          </a:xfrm>
        </p:grpSpPr>
        <p:sp>
          <p:nvSpPr>
            <p:cNvPr id="13634" name=""/>
            <p:cNvSpPr/>
            <p:nvPr/>
          </p:nvSpPr>
          <p:spPr>
            <a:xfrm>
              <a:off x="4809960" y="2220840"/>
              <a:ext cx="341280" cy="35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3"/>
                  </a:moveTo>
                  <a:arcTo wR="10800" hR="10800" stAng="-9942264" swAng="11179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3"/>
                  </a:moveTo>
                  <a:arcTo wR="10800" hR="10800" stAng="-9942264" swAng="1117993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5" name=""/>
            <p:cNvSpPr/>
            <p:nvPr/>
          </p:nvSpPr>
          <p:spPr>
            <a:xfrm>
              <a:off x="3962520" y="2241720"/>
              <a:ext cx="441360" cy="40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3" y="20704"/>
                  </a:moveTo>
                  <a:arcTo wR="10800" hR="10800" stAng="6810284" swAng="1243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3" y="20704"/>
                  </a:moveTo>
                  <a:arcTo wR="10800" hR="10800" stAng="6810284" swAng="124334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6" name=""/>
            <p:cNvSpPr/>
            <p:nvPr/>
          </p:nvSpPr>
          <p:spPr>
            <a:xfrm>
              <a:off x="4367160" y="2135160"/>
              <a:ext cx="441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608" swAng="10634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608" swAng="10634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7" name=""/>
            <p:cNvSpPr/>
            <p:nvPr/>
          </p:nvSpPr>
          <p:spPr>
            <a:xfrm>
              <a:off x="3983040" y="2607120"/>
              <a:ext cx="443520" cy="39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5" y="21210"/>
                  </a:moveTo>
                  <a:arcTo wR="10800" hR="10800" stAng="4473614" swAng="1015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5" y="21210"/>
                  </a:moveTo>
                  <a:arcTo wR="10800" hR="10800" stAng="4473614" swAng="1015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8" name=""/>
            <p:cNvSpPr/>
            <p:nvPr/>
          </p:nvSpPr>
          <p:spPr>
            <a:xfrm>
              <a:off x="4221000" y="2918880"/>
              <a:ext cx="441360" cy="40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9" y="17439"/>
                  </a:moveTo>
                  <a:arcTo wR="10800" hR="10800" stAng="2275772" swAng="10638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9" y="17439"/>
                  </a:moveTo>
                  <a:arcTo wR="10800" hR="10800" stAng="2275772" swAng="106385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9" name=""/>
            <p:cNvSpPr/>
            <p:nvPr/>
          </p:nvSpPr>
          <p:spPr>
            <a:xfrm>
              <a:off x="4605480" y="3107880"/>
              <a:ext cx="44244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6" y="5620"/>
                  </a:moveTo>
                  <a:arcTo wR="10800" hR="10800" stAng="-1719836" swAng="130918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6" y="5620"/>
                  </a:moveTo>
                  <a:arcTo wR="10800" hR="10800" stAng="-1719836" swAng="130918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0" name=""/>
            <p:cNvSpPr/>
            <p:nvPr/>
          </p:nvSpPr>
          <p:spPr>
            <a:xfrm>
              <a:off x="5026680" y="2947320"/>
              <a:ext cx="44172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5" y="384"/>
                  </a:moveTo>
                  <a:arcTo wR="10800" hR="10800" stAng="-4480385" swAng="13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5" y="384"/>
                  </a:moveTo>
                  <a:arcTo wR="10800" hR="10800" stAng="-4480385" swAng="137964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1" name=""/>
            <p:cNvSpPr/>
            <p:nvPr/>
          </p:nvSpPr>
          <p:spPr>
            <a:xfrm>
              <a:off x="5076360" y="2405160"/>
              <a:ext cx="4874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0" y="3067"/>
                  </a:moveTo>
                  <a:arcTo wR="10800" hR="10800" stAng="-8056565" swAng="13478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0" y="3067"/>
                  </a:moveTo>
                  <a:arcTo wR="10800" hR="10800" stAng="-8056565" swAng="134789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2" name=""/>
          <p:cNvSpPr/>
          <p:nvPr/>
        </p:nvSpPr>
        <p:spPr>
          <a:xfrm>
            <a:off x="701676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707796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 flipV="1">
            <a:off x="731520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701028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171360" y="419040"/>
            <a:ext cx="21718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266040" y="520560"/>
            <a:ext cx="207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T-C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Call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6-3073…Mike Brow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183996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694548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491E-551B-4DA0-A493-A677FFC0A9A9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C7829-0282-43A2-BC19-1BB758D2F07D}" type="datetime1">
              <a:rPr lang="en-US"/>
              <a:t>07/29/26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4" name=""/>
          <p:cNvGrpSpPr/>
          <p:nvPr/>
        </p:nvGrpSpPr>
        <p:grpSpPr>
          <a:xfrm>
            <a:off x="3733920" y="533520"/>
            <a:ext cx="2283480" cy="4266000"/>
            <a:chOff x="3733920" y="533520"/>
            <a:chExt cx="2283480" cy="4266000"/>
          </a:xfrm>
        </p:grpSpPr>
        <p:sp>
          <p:nvSpPr>
            <p:cNvPr id="13655" name=""/>
            <p:cNvSpPr/>
            <p:nvPr/>
          </p:nvSpPr>
          <p:spPr>
            <a:xfrm>
              <a:off x="4939920" y="804960"/>
              <a:ext cx="487800" cy="11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6" name=""/>
            <p:cNvSpPr/>
            <p:nvPr/>
          </p:nvSpPr>
          <p:spPr>
            <a:xfrm>
              <a:off x="3733920" y="876600"/>
              <a:ext cx="627840" cy="12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7" name=""/>
            <p:cNvSpPr/>
            <p:nvPr/>
          </p:nvSpPr>
          <p:spPr>
            <a:xfrm>
              <a:off x="4306680" y="533520"/>
              <a:ext cx="631440" cy="12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8" name=""/>
            <p:cNvSpPr/>
            <p:nvPr/>
          </p:nvSpPr>
          <p:spPr>
            <a:xfrm>
              <a:off x="3760560" y="2011680"/>
              <a:ext cx="630720" cy="12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9" name=""/>
            <p:cNvSpPr/>
            <p:nvPr/>
          </p:nvSpPr>
          <p:spPr>
            <a:xfrm>
              <a:off x="4102560" y="2972160"/>
              <a:ext cx="62892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0" name=""/>
            <p:cNvSpPr/>
            <p:nvPr/>
          </p:nvSpPr>
          <p:spPr>
            <a:xfrm>
              <a:off x="4651560" y="3564720"/>
              <a:ext cx="628560" cy="12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1" name=""/>
            <p:cNvSpPr/>
            <p:nvPr/>
          </p:nvSpPr>
          <p:spPr>
            <a:xfrm>
              <a:off x="5252760" y="3046680"/>
              <a:ext cx="62892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2" name=""/>
            <p:cNvSpPr/>
            <p:nvPr/>
          </p:nvSpPr>
          <p:spPr>
            <a:xfrm>
              <a:off x="5322240" y="1355760"/>
              <a:ext cx="695160" cy="17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3" name=""/>
          <p:cNvSpPr/>
          <p:nvPr/>
        </p:nvSpPr>
        <p:spPr>
          <a:xfrm>
            <a:off x="11430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7238520" y="38703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183204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7" name=""/>
          <p:cNvSpPr/>
          <p:nvPr/>
        </p:nvSpPr>
        <p:spPr>
          <a:xfrm>
            <a:off x="512280" y="5265720"/>
            <a:ext cx="109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CHITAF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8" name=""/>
          <p:cNvSpPr/>
          <p:nvPr/>
        </p:nvSpPr>
        <p:spPr>
          <a:xfrm flipH="1" flipV="1">
            <a:off x="625320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9" name=""/>
          <p:cNvSpPr/>
          <p:nvPr/>
        </p:nvSpPr>
        <p:spPr>
          <a:xfrm flipV="1">
            <a:off x="160020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1" name=""/>
          <p:cNvSpPr/>
          <p:nvPr/>
        </p:nvSpPr>
        <p:spPr>
          <a:xfrm flipV="1">
            <a:off x="1752480" y="23619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2" name=""/>
          <p:cNvSpPr/>
          <p:nvPr/>
        </p:nvSpPr>
        <p:spPr>
          <a:xfrm>
            <a:off x="2434680" y="1954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5944680" y="3824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792000" y="43578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2" name=""/>
          <p:cNvSpPr/>
          <p:nvPr/>
        </p:nvSpPr>
        <p:spPr>
          <a:xfrm>
            <a:off x="388620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3" name=""/>
          <p:cNvSpPr/>
          <p:nvPr/>
        </p:nvSpPr>
        <p:spPr>
          <a:xfrm>
            <a:off x="5197320" y="1600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4" name=""/>
          <p:cNvSpPr/>
          <p:nvPr/>
        </p:nvSpPr>
        <p:spPr>
          <a:xfrm>
            <a:off x="4113360" y="1432080"/>
            <a:ext cx="119988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5" name=""/>
          <p:cNvSpPr/>
          <p:nvPr/>
        </p:nvSpPr>
        <p:spPr>
          <a:xfrm>
            <a:off x="7238880" y="15955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6" name=""/>
          <p:cNvSpPr/>
          <p:nvPr/>
        </p:nvSpPr>
        <p:spPr>
          <a:xfrm>
            <a:off x="598212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7" name=""/>
          <p:cNvSpPr/>
          <p:nvPr/>
        </p:nvSpPr>
        <p:spPr>
          <a:xfrm>
            <a:off x="51973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>
            <a:off x="7653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>
            <a:off x="708480" y="28940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>
            <a:off x="5982120" y="1523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>
            <a:off x="522540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>
            <a:off x="171360" y="190440"/>
            <a:ext cx="255276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>
            <a:off x="266400" y="291960"/>
            <a:ext cx="2048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a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5" name=""/>
          <p:cNvGrpSpPr/>
          <p:nvPr/>
        </p:nvGrpSpPr>
        <p:grpSpPr>
          <a:xfrm>
            <a:off x="2846520" y="4421160"/>
            <a:ext cx="1216800" cy="914040"/>
            <a:chOff x="2846520" y="4421160"/>
            <a:chExt cx="1216800" cy="914040"/>
          </a:xfrm>
        </p:grpSpPr>
        <p:sp>
          <p:nvSpPr>
            <p:cNvPr id="13696" name=""/>
            <p:cNvSpPr/>
            <p:nvPr/>
          </p:nvSpPr>
          <p:spPr>
            <a:xfrm>
              <a:off x="3489840" y="4479840"/>
              <a:ext cx="26064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7" name=""/>
            <p:cNvSpPr/>
            <p:nvPr/>
          </p:nvSpPr>
          <p:spPr>
            <a:xfrm>
              <a:off x="2846520" y="4495680"/>
              <a:ext cx="335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8" name=""/>
            <p:cNvSpPr/>
            <p:nvPr/>
          </p:nvSpPr>
          <p:spPr>
            <a:xfrm>
              <a:off x="3151080" y="4421160"/>
              <a:ext cx="3358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9" name=""/>
            <p:cNvSpPr/>
            <p:nvPr/>
          </p:nvSpPr>
          <p:spPr>
            <a:xfrm>
              <a:off x="2860560" y="4737960"/>
              <a:ext cx="334080" cy="26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3041640" y="4942800"/>
              <a:ext cx="3362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1" name=""/>
            <p:cNvSpPr/>
            <p:nvPr/>
          </p:nvSpPr>
          <p:spPr>
            <a:xfrm>
              <a:off x="3335400" y="5069520"/>
              <a:ext cx="335520" cy="26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2" name=""/>
            <p:cNvSpPr/>
            <p:nvPr/>
          </p:nvSpPr>
          <p:spPr>
            <a:xfrm>
              <a:off x="3656520" y="4960800"/>
              <a:ext cx="33516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3" name=""/>
            <p:cNvSpPr/>
            <p:nvPr/>
          </p:nvSpPr>
          <p:spPr>
            <a:xfrm>
              <a:off x="3693600" y="4595760"/>
              <a:ext cx="369720" cy="37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4" name=""/>
          <p:cNvSpPr/>
          <p:nvPr/>
        </p:nvSpPr>
        <p:spPr>
          <a:xfrm>
            <a:off x="2327400" y="5133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5" name=""/>
          <p:cNvSpPr/>
          <p:nvPr/>
        </p:nvSpPr>
        <p:spPr>
          <a:xfrm flipH="1" flipV="1">
            <a:off x="2133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6" name=""/>
          <p:cNvSpPr/>
          <p:nvPr/>
        </p:nvSpPr>
        <p:spPr>
          <a:xfrm>
            <a:off x="2819520" y="4602240"/>
            <a:ext cx="13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 xxxx xx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7" name=""/>
          <p:cNvSpPr/>
          <p:nvPr/>
        </p:nvSpPr>
        <p:spPr>
          <a:xfrm>
            <a:off x="4419720" y="4800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istribution Ct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8" name=""/>
          <p:cNvSpPr/>
          <p:nvPr/>
        </p:nvSpPr>
        <p:spPr>
          <a:xfrm>
            <a:off x="2133720" y="4952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9" name=""/>
          <p:cNvSpPr/>
          <p:nvPr/>
        </p:nvSpPr>
        <p:spPr>
          <a:xfrm>
            <a:off x="311040" y="473076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0" name=""/>
          <p:cNvSpPr/>
          <p:nvPr/>
        </p:nvSpPr>
        <p:spPr>
          <a:xfrm>
            <a:off x="248040" y="473868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1" name=""/>
          <p:cNvSpPr/>
          <p:nvPr/>
        </p:nvSpPr>
        <p:spPr>
          <a:xfrm>
            <a:off x="914400" y="4648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2" name=""/>
          <p:cNvSpPr/>
          <p:nvPr/>
        </p:nvSpPr>
        <p:spPr>
          <a:xfrm>
            <a:off x="12193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3" name=""/>
          <p:cNvSpPr/>
          <p:nvPr/>
        </p:nvSpPr>
        <p:spPr>
          <a:xfrm flipH="1">
            <a:off x="914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>
            <a:off x="2364480" y="218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>
            <a:off x="7239240" y="310824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>
            <a:off x="521496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>
            <a:off x="5982120" y="1930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>
            <a:off x="7238880" y="27273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>
            <a:off x="7238880" y="197640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>
            <a:off x="5181480" y="20066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>
            <a:off x="597456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>
            <a:off x="5945760" y="36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>
            <a:off x="1832040" y="2895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>
            <a:off x="521640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6" name=""/>
          <p:cNvSpPr/>
          <p:nvPr/>
        </p:nvSpPr>
        <p:spPr>
          <a:xfrm flipH="1" flipV="1">
            <a:off x="72388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7" name=""/>
          <p:cNvSpPr/>
          <p:nvPr/>
        </p:nvSpPr>
        <p:spPr>
          <a:xfrm>
            <a:off x="7238160" y="3505320"/>
            <a:ext cx="87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8" name=""/>
          <p:cNvSpPr/>
          <p:nvPr/>
        </p:nvSpPr>
        <p:spPr>
          <a:xfrm>
            <a:off x="689400" y="3808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9" name=""/>
          <p:cNvSpPr/>
          <p:nvPr/>
        </p:nvSpPr>
        <p:spPr>
          <a:xfrm>
            <a:off x="59788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>
            <a:off x="6019920" y="2133720"/>
            <a:ext cx="114300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>
            <a:off x="5867280" y="28954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>
            <a:off x="579132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>
            <a:off x="57913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>
            <a:off x="598212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>
            <a:off x="7238880" y="234648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>
            <a:off x="5209560" y="23763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>
            <a:off x="60199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>
            <a:off x="59436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>
            <a:off x="1405080" y="1905120"/>
            <a:ext cx="633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>
            <a:off x="1370880" y="196524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>
            <a:off x="20574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>
            <a:off x="76536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54D-5DF6-46BE-B2F3-D0CA4CA3A3B3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ABB8D-173E-4A05-A4E4-5AA5CCDC4F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Cany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5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71360" y="190440"/>
            <a:ext cx="24973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“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 Mezzatta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lifornia  945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558-8548…Randy Tard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38080" y="577548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5280" y="5181480"/>
            <a:ext cx="104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merican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476760" y="3427560"/>
            <a:ext cx="106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erican Cany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9268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091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934320" y="6526080"/>
            <a:ext cx="18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52F-8A65-4F2A-974E-602111068BF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F628B-A9BE-40F8-BA7A-5B3146E1E5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7" name=""/>
          <p:cNvSpPr/>
          <p:nvPr/>
        </p:nvSpPr>
        <p:spPr>
          <a:xfrm>
            <a:off x="228600" y="1522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le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>
            <a:off x="6474240" y="236052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1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3" name=""/>
          <p:cNvGrpSpPr/>
          <p:nvPr/>
        </p:nvGrpSpPr>
        <p:grpSpPr>
          <a:xfrm>
            <a:off x="457200" y="1295280"/>
            <a:ext cx="2437560" cy="1295280"/>
            <a:chOff x="457200" y="1295280"/>
            <a:chExt cx="2437560" cy="1295280"/>
          </a:xfrm>
        </p:grpSpPr>
        <p:sp>
          <p:nvSpPr>
            <p:cNvPr id="13764" name=""/>
            <p:cNvSpPr/>
            <p:nvPr/>
          </p:nvSpPr>
          <p:spPr>
            <a:xfrm>
              <a:off x="1744920" y="1377360"/>
              <a:ext cx="5184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5" name=""/>
            <p:cNvSpPr/>
            <p:nvPr/>
          </p:nvSpPr>
          <p:spPr>
            <a:xfrm>
              <a:off x="457200" y="1397520"/>
              <a:ext cx="66960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6" name=""/>
            <p:cNvSpPr/>
            <p:nvPr/>
          </p:nvSpPr>
          <p:spPr>
            <a:xfrm>
              <a:off x="1070280" y="1295280"/>
              <a:ext cx="6735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7" name=""/>
            <p:cNvSpPr/>
            <p:nvPr/>
          </p:nvSpPr>
          <p:spPr>
            <a:xfrm>
              <a:off x="487440" y="1744560"/>
              <a:ext cx="67284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8" name=""/>
            <p:cNvSpPr/>
            <p:nvPr/>
          </p:nvSpPr>
          <p:spPr>
            <a:xfrm>
              <a:off x="855360" y="2035800"/>
              <a:ext cx="66888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9" name=""/>
            <p:cNvSpPr/>
            <p:nvPr/>
          </p:nvSpPr>
          <p:spPr>
            <a:xfrm>
              <a:off x="1437480" y="2214360"/>
              <a:ext cx="67176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0" name=""/>
            <p:cNvSpPr/>
            <p:nvPr/>
          </p:nvSpPr>
          <p:spPr>
            <a:xfrm>
              <a:off x="2079720" y="2058840"/>
              <a:ext cx="671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1" name=""/>
            <p:cNvSpPr/>
            <p:nvPr/>
          </p:nvSpPr>
          <p:spPr>
            <a:xfrm>
              <a:off x="2153880" y="1544760"/>
              <a:ext cx="74088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2" name=""/>
          <p:cNvSpPr/>
          <p:nvPr/>
        </p:nvSpPr>
        <p:spPr>
          <a:xfrm>
            <a:off x="7009200" y="4038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/>
          <p:cNvSpPr/>
          <p:nvPr/>
        </p:nvSpPr>
        <p:spPr>
          <a:xfrm>
            <a:off x="609480" y="16002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-Tel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chita Falls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40) 767-7873 x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7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778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9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129.171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0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11.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1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2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3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4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5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6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7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2817720" y="18288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7008840" y="20574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72572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277-A931-4197-80B4-75469A9D843D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71EA0-6BAC-469D-9154-6BB1DA1FF01D}" type="datetime1">
              <a:rPr lang="en-US"/>
              <a:t>07/29/26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ming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8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2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31 West E.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lifornia  907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830-0250…Tiffany Rob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2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1FE-E03B-48F2-899C-44930D210600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37B40-2018-4D0B-AD09-46588DDA0A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7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291-5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0 Firestone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  278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234-5252…Bob Cheever x-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204336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348768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49356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399960" y="51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C79-0357-48B4-B4B7-20CF7033251E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34CB6-63A5-4886-9028-2978AE23EF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Uniso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29400" y="6526080"/>
            <a:ext cx="21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Unis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s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 Hat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294-3206…Garry Holl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93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151560" y="5113440"/>
            <a:ext cx="12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NTER_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5927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3AE-6A47-46D3-B64A-C89522CE06FD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2D027-6314-4B9A-B687-2A605888E3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98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6324480" y="6507000"/>
            <a:ext cx="251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171360" y="228600"/>
            <a:ext cx="255276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 River Warehous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00 Recker High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x) xxx-xxxx…Kevin He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5080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389240" y="4732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DD6-808E-4C61-B092-31EEEB200BEC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A32DF-C0F5-434E-998F-6E86490410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2177640" y="5973840"/>
            <a:ext cx="145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3138120" y="144000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5943600" y="1371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5791320" y="1600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7432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tario (DLCI 6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7432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74320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ren (DLCI 140 @  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152280" y="3040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point (DLCI 1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4040" y="2362320"/>
            <a:ext cx="26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esville (DLCI 80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7432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1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27432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ville (DLCI 46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138240" y="4282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enville (DLCI 560 @   153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274320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ton (DLCI 6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58760" y="1447920"/>
            <a:ext cx="5397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620120" y="1384200"/>
            <a:ext cx="7617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646400" y="143352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152280" y="1668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erdeen (DLCI 65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306720" y="2133720"/>
            <a:ext cx="251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erton (DLCI 7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15228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algo (DLCI 7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152280" y="1905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wnsville (DLCI 78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27432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DLCI 78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274320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 (DLCI 151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152280" y="2819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ilton (DLCI 12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272880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apolis (DLCI 920 @  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7432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97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0" y="2606760"/>
            <a:ext cx="283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apids (DLCI 74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152280" y="40543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123720" y="403848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2805120" y="4267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stol (DLCI 560 91 @   25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152280" y="4892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vingston (DLCI 36 @  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152280" y="4664160"/>
            <a:ext cx="539748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3123720" y="464832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2805120" y="4937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9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5562720" y="418932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5943600" y="3975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5791320" y="420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7620120" y="40384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7646400" y="403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562720" y="478296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943600" y="45687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5791320" y="47973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7620120" y="464832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7646400" y="46306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5562720" y="1598760"/>
            <a:ext cx="205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38240" y="5089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ulus (DLCI 565 @   640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6680" y="54259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3207960" y="541008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2819520" y="569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den (DLCI 13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5576760" y="5545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5958000" y="53308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5805360" y="55594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986963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7693560" y="5392800"/>
            <a:ext cx="6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7620120" y="54100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975-6494-40D6-8E87-1E9D495F90F9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72623-4B08-44F4-95AC-D353694C6E4B}" type="datetime1">
              <a:rPr lang="en-US"/>
              <a:t>07/29/26</a:t>
            </a:fld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0" name=""/>
          <p:cNvSpPr/>
          <p:nvPr/>
        </p:nvSpPr>
        <p:spPr>
          <a:xfrm>
            <a:off x="2198520" y="4572000"/>
            <a:ext cx="140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3222360" y="189720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6400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2552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>
            <a:off x="2819520" y="3733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>
            <a:off x="281952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gara Falls (DLCI 1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>
            <a:off x="281952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Hampton (DLCI 1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280512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sville (DLCI 1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281952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winigan (DLCI 3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158760" y="1758960"/>
            <a:ext cx="539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4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4125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6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7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8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9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0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1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2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3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280512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925 @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281952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yphant (DLCI 6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280512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pawa (DLCI 3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2819520" y="396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79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DD8-A069-48FD-9B31-2C8A10F74856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17737-7028-45B6-81FD-376F619D03B9}" type="datetime1">
              <a:rPr lang="en-US"/>
              <a:t>07/29/26</a:t>
            </a:fld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6" name=""/>
          <p:cNvSpPr/>
          <p:nvPr/>
        </p:nvSpPr>
        <p:spPr>
          <a:xfrm>
            <a:off x="3678120" y="5973840"/>
            <a:ext cx="173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838080" y="3430440"/>
            <a:ext cx="749520" cy="61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220968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838080" y="1982880"/>
            <a:ext cx="214020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59984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212840" y="26686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2590920" y="26686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420920" y="2820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289548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H="1" flipV="1">
            <a:off x="2666880" y="274464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H="1" flipV="1">
            <a:off x="128880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33752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H="1" flipV="1">
            <a:off x="710856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6019920" y="1951200"/>
            <a:ext cx="213984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678132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4495680" y="2211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4495680" y="1982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 flipH="1">
            <a:off x="3047760" y="22114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971800" y="244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 flipV="1">
            <a:off x="5791320" y="22874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3279240" y="195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4955400" y="23320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1373040" y="16304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651360" y="1600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236232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62940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67816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72388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7010280" y="2637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5651640" y="4737240"/>
            <a:ext cx="105408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5898960" y="47926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2298600" y="4730760"/>
            <a:ext cx="10540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2417040" y="48690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2590920" y="44956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5492880" y="5029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780800" y="47689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3352680" y="4876920"/>
            <a:ext cx="11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44956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3446280" y="4557600"/>
            <a:ext cx="66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H="1">
            <a:off x="335880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5850720" y="54864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2819520" y="36892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495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1771560" y="434340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743-1591-4716-805F-DAB2D0137413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CE14A-6AD4-4CA2-AC01-6B4DFD7AFBA1}" type="datetime1">
              <a:rPr lang="en-US"/>
              <a:t>07/29/26</a:t>
            </a:fld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Abrasive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6" name=""/>
          <p:cNvSpPr/>
          <p:nvPr/>
        </p:nvSpPr>
        <p:spPr>
          <a:xfrm>
            <a:off x="171360" y="247680"/>
            <a:ext cx="23432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060…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488…Steve Jenn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497…Bob Chys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2685960" y="3016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113000" y="335268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2742480" y="3886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3581280" y="1981080"/>
            <a:ext cx="198144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2133720" y="3048120"/>
            <a:ext cx="3045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532800" y="3184560"/>
            <a:ext cx="14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Token-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438280" y="422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2438280" y="3994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 flipH="1">
            <a:off x="2285640" y="437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 flipH="1">
            <a:off x="2285640" y="4070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24000" y="4054320"/>
            <a:ext cx="161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eramic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5562720" y="2209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5556240" y="2500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5562720" y="2805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6826680" y="225576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6858720" y="2576520"/>
            <a:ext cx="104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6858360" y="288144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5562720" y="34146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6856560" y="349092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556272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856560" y="3809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6856560" y="4114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6858360" y="441972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6857280" y="472428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556272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5562720" y="4343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5562360" y="464832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5562360" y="49528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6857280" y="502920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5561640" y="525780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6856560" y="5303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5562720" y="31100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6858360" y="318600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>
            <a:off x="55627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>
            <a:off x="55627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>
            <a:off x="55627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>
            <a:off x="55627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>
            <a:off x="556272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>
            <a:off x="556272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>
            <a:off x="5562720" y="4267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>
            <a:off x="5562720" y="4572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>
            <a:off x="5562720" y="4876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651-2308-4669-B6BA-8942B897C4BC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9DC41-AB6C-4CC6-AF48-C360881367CC}" type="datetime1">
              <a:rPr lang="en-US"/>
              <a:t>07/29/26</a:t>
            </a:fld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Ceramic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3" name=""/>
          <p:cNvSpPr/>
          <p:nvPr/>
        </p:nvSpPr>
        <p:spPr>
          <a:xfrm>
            <a:off x="171360" y="247680"/>
            <a:ext cx="234324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037…Archie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68-5459…Archie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922…Jeff 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954-5241…Jeff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113000" y="320040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2742480" y="2971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3581280" y="1981080"/>
            <a:ext cx="1981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2438280" y="3308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2438280" y="3079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H="1">
            <a:off x="2285640" y="346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H="1">
            <a:off x="2285640" y="3156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303840" y="3139920"/>
            <a:ext cx="163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Abrasive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55627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55627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5562720" y="2300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6826320" y="2346480"/>
            <a:ext cx="123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6856920" y="2666880"/>
            <a:ext cx="1142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boro (672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55627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6856560" y="2971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5562720" y="321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6857280" y="420516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55627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556272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55627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556272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>
            <a:off x="5562720" y="3519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>
            <a:off x="5562720" y="38242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>
            <a:off x="5562360" y="412920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>
            <a:off x="5562360" y="443376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>
            <a:off x="55627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>
            <a:off x="5561640" y="473868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5562720" y="2604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>
            <a:off x="6856560" y="3260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>
            <a:off x="6856560" y="356544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>
            <a:off x="6856560" y="38703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>
            <a:off x="6856560" y="47847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6857280" y="447984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527-17F7-4DFD-B70F-630D5CC6EFE9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B7391-8398-482E-9A90-624192DB2D81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hers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29000" y="1143000"/>
            <a:ext cx="2208960" cy="3199680"/>
            <a:chOff x="3429000" y="1143000"/>
            <a:chExt cx="2208960" cy="3199680"/>
          </a:xfrm>
        </p:grpSpPr>
        <p:sp>
          <p:nvSpPr>
            <p:cNvPr id="1628" name=""/>
            <p:cNvSpPr/>
            <p:nvPr/>
          </p:nvSpPr>
          <p:spPr>
            <a:xfrm>
              <a:off x="4596120" y="13474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29000" y="14011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82680" y="11430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55280" y="22528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5760" y="29721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16760" y="34153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897080" y="30301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966560" y="17604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618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her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71360" y="190440"/>
            <a:ext cx="33908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0920" y="291960"/>
            <a:ext cx="3330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Boron Nitrid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8 Creeksid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  14228-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91-2039…Cathy McCormick (BN Amher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552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5480" y="1965240"/>
            <a:ext cx="1386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 T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HCGL 193117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EA5-0022-47AA-BD68-2EF46D0E979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41104-583C-48F4-B51B-BB273F6511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0" name=""/>
          <p:cNvSpPr/>
          <p:nvPr/>
        </p:nvSpPr>
        <p:spPr>
          <a:xfrm>
            <a:off x="171360" y="343080"/>
            <a:ext cx="201924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155520" y="399960"/>
            <a:ext cx="213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6534360" y="18270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2057400" y="2057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6472080" y="1752480"/>
            <a:ext cx="10670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6945480" y="23623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1.154.88.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5701320" y="1812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2056680" y="2041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912960" y="1752480"/>
            <a:ext cx="104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00) 475-78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7010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1" name=""/>
          <p:cNvGrpSpPr/>
          <p:nvPr/>
        </p:nvGrpSpPr>
        <p:grpSpPr>
          <a:xfrm>
            <a:off x="685800" y="1523880"/>
            <a:ext cx="1447560" cy="1066320"/>
            <a:chOff x="685800" y="1523880"/>
            <a:chExt cx="1447560" cy="1066320"/>
          </a:xfrm>
        </p:grpSpPr>
        <p:sp>
          <p:nvSpPr>
            <p:cNvPr id="14312" name=""/>
            <p:cNvSpPr/>
            <p:nvPr/>
          </p:nvSpPr>
          <p:spPr>
            <a:xfrm>
              <a:off x="1450800" y="1591560"/>
              <a:ext cx="307440" cy="2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3" name=""/>
            <p:cNvSpPr/>
            <p:nvPr/>
          </p:nvSpPr>
          <p:spPr>
            <a:xfrm>
              <a:off x="685800" y="1608120"/>
              <a:ext cx="3974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1049760" y="1523880"/>
              <a:ext cx="3996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5" name=""/>
            <p:cNvSpPr/>
            <p:nvPr/>
          </p:nvSpPr>
          <p:spPr>
            <a:xfrm>
              <a:off x="703800" y="1893960"/>
              <a:ext cx="399600" cy="30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6" name=""/>
            <p:cNvSpPr/>
            <p:nvPr/>
          </p:nvSpPr>
          <p:spPr>
            <a:xfrm>
              <a:off x="921960" y="2133720"/>
              <a:ext cx="397080" cy="30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7" name=""/>
            <p:cNvSpPr/>
            <p:nvPr/>
          </p:nvSpPr>
          <p:spPr>
            <a:xfrm>
              <a:off x="1267920" y="2280960"/>
              <a:ext cx="3985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8" name=""/>
            <p:cNvSpPr/>
            <p:nvPr/>
          </p:nvSpPr>
          <p:spPr>
            <a:xfrm>
              <a:off x="1649160" y="2152800"/>
              <a:ext cx="3981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9" name=""/>
            <p:cNvSpPr/>
            <p:nvPr/>
          </p:nvSpPr>
          <p:spPr>
            <a:xfrm>
              <a:off x="1693440" y="1729440"/>
              <a:ext cx="43992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0" name=""/>
          <p:cNvSpPr/>
          <p:nvPr/>
        </p:nvSpPr>
        <p:spPr>
          <a:xfrm>
            <a:off x="3659400" y="1828800"/>
            <a:ext cx="121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5.HFGJ.583314 (T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5638680" y="3581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63244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63244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625968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57150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57913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624744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5748480" y="3200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67824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4" name=""/>
          <p:cNvGrpSpPr/>
          <p:nvPr/>
        </p:nvGrpSpPr>
        <p:grpSpPr>
          <a:xfrm>
            <a:off x="228600" y="3809880"/>
            <a:ext cx="3429000" cy="2433600"/>
            <a:chOff x="228600" y="3809880"/>
            <a:chExt cx="3429000" cy="2433600"/>
          </a:xfrm>
        </p:grpSpPr>
        <p:sp>
          <p:nvSpPr>
            <p:cNvPr id="14335" name=""/>
            <p:cNvSpPr/>
            <p:nvPr/>
          </p:nvSpPr>
          <p:spPr>
            <a:xfrm>
              <a:off x="2140560" y="502920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1151640" y="502920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228600" y="502920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2140560" y="5271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1151640" y="5271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228600" y="5271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2140560" y="5514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2" name=""/>
            <p:cNvSpPr/>
            <p:nvPr/>
          </p:nvSpPr>
          <p:spPr>
            <a:xfrm>
              <a:off x="1151640" y="5514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3" name=""/>
            <p:cNvSpPr/>
            <p:nvPr/>
          </p:nvSpPr>
          <p:spPr>
            <a:xfrm>
              <a:off x="228600" y="5514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2140560" y="575784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1151640" y="575784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228600" y="575784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2140560" y="60004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- Sap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1151640" y="60004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228600" y="60004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6.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2140560" y="4781520"/>
              <a:ext cx="151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1" name=""/>
            <p:cNvSpPr/>
            <p:nvPr/>
          </p:nvSpPr>
          <p:spPr>
            <a:xfrm>
              <a:off x="1151640" y="4781520"/>
              <a:ext cx="988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2" name=""/>
            <p:cNvSpPr/>
            <p:nvPr/>
          </p:nvSpPr>
          <p:spPr>
            <a:xfrm>
              <a:off x="228600" y="4781520"/>
              <a:ext cx="923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3" name=""/>
            <p:cNvSpPr/>
            <p:nvPr/>
          </p:nvSpPr>
          <p:spPr>
            <a:xfrm>
              <a:off x="2140560" y="4538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4" name=""/>
            <p:cNvSpPr/>
            <p:nvPr/>
          </p:nvSpPr>
          <p:spPr>
            <a:xfrm>
              <a:off x="1151640" y="4538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5" name=""/>
            <p:cNvSpPr/>
            <p:nvPr/>
          </p:nvSpPr>
          <p:spPr>
            <a:xfrm>
              <a:off x="228600" y="4538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6" name=""/>
            <p:cNvSpPr/>
            <p:nvPr/>
          </p:nvSpPr>
          <p:spPr>
            <a:xfrm>
              <a:off x="2140560" y="4295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7" name=""/>
            <p:cNvSpPr/>
            <p:nvPr/>
          </p:nvSpPr>
          <p:spPr>
            <a:xfrm>
              <a:off x="1151640" y="4295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8" name=""/>
            <p:cNvSpPr/>
            <p:nvPr/>
          </p:nvSpPr>
          <p:spPr>
            <a:xfrm>
              <a:off x="228600" y="4295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9" name=""/>
            <p:cNvSpPr/>
            <p:nvPr/>
          </p:nvSpPr>
          <p:spPr>
            <a:xfrm>
              <a:off x="2140560" y="405288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0" name=""/>
            <p:cNvSpPr/>
            <p:nvPr/>
          </p:nvSpPr>
          <p:spPr>
            <a:xfrm>
              <a:off x="1151640" y="405288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1" name=""/>
            <p:cNvSpPr/>
            <p:nvPr/>
          </p:nvSpPr>
          <p:spPr>
            <a:xfrm>
              <a:off x="228600" y="405288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2" name=""/>
            <p:cNvSpPr/>
            <p:nvPr/>
          </p:nvSpPr>
          <p:spPr>
            <a:xfrm>
              <a:off x="2140560" y="38098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3" name=""/>
            <p:cNvSpPr/>
            <p:nvPr/>
          </p:nvSpPr>
          <p:spPr>
            <a:xfrm>
              <a:off x="1151640" y="38098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4" name=""/>
            <p:cNvSpPr/>
            <p:nvPr/>
          </p:nvSpPr>
          <p:spPr>
            <a:xfrm>
              <a:off x="228600" y="38098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5" name=""/>
            <p:cNvSpPr/>
            <p:nvPr/>
          </p:nvSpPr>
          <p:spPr>
            <a:xfrm>
              <a:off x="228600" y="38098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6" name=""/>
            <p:cNvSpPr/>
            <p:nvPr/>
          </p:nvSpPr>
          <p:spPr>
            <a:xfrm>
              <a:off x="228600" y="40528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7" name=""/>
            <p:cNvSpPr/>
            <p:nvPr/>
          </p:nvSpPr>
          <p:spPr>
            <a:xfrm>
              <a:off x="228600" y="4295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8" name=""/>
            <p:cNvSpPr/>
            <p:nvPr/>
          </p:nvSpPr>
          <p:spPr>
            <a:xfrm>
              <a:off x="228600" y="4538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9" name=""/>
            <p:cNvSpPr/>
            <p:nvPr/>
          </p:nvSpPr>
          <p:spPr>
            <a:xfrm>
              <a:off x="228600" y="4781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0" name=""/>
            <p:cNvSpPr/>
            <p:nvPr/>
          </p:nvSpPr>
          <p:spPr>
            <a:xfrm>
              <a:off x="228600" y="50292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1" name=""/>
            <p:cNvSpPr/>
            <p:nvPr/>
          </p:nvSpPr>
          <p:spPr>
            <a:xfrm>
              <a:off x="228600" y="62434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2" name=""/>
            <p:cNvSpPr/>
            <p:nvPr/>
          </p:nvSpPr>
          <p:spPr>
            <a:xfrm>
              <a:off x="228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3" name=""/>
            <p:cNvSpPr/>
            <p:nvPr/>
          </p:nvSpPr>
          <p:spPr>
            <a:xfrm>
              <a:off x="115164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4" name=""/>
            <p:cNvSpPr/>
            <p:nvPr/>
          </p:nvSpPr>
          <p:spPr>
            <a:xfrm>
              <a:off x="214056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5" name=""/>
            <p:cNvSpPr/>
            <p:nvPr/>
          </p:nvSpPr>
          <p:spPr>
            <a:xfrm>
              <a:off x="3657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6" name=""/>
            <p:cNvSpPr/>
            <p:nvPr/>
          </p:nvSpPr>
          <p:spPr>
            <a:xfrm>
              <a:off x="228600" y="60004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7" name=""/>
            <p:cNvSpPr/>
            <p:nvPr/>
          </p:nvSpPr>
          <p:spPr>
            <a:xfrm>
              <a:off x="228600" y="5757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28600" y="5514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9" name=""/>
            <p:cNvSpPr/>
            <p:nvPr/>
          </p:nvSpPr>
          <p:spPr>
            <a:xfrm>
              <a:off x="228600" y="5271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0" name=""/>
          <p:cNvSpPr/>
          <p:nvPr/>
        </p:nvSpPr>
        <p:spPr>
          <a:xfrm>
            <a:off x="36576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35053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>
            <a:off x="364032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>
            <a:off x="495180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>
            <a:off x="533412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>
            <a:off x="3767400" y="2057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>
            <a:off x="7772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>
            <a:off x="77724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>
            <a:off x="770760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>
            <a:off x="7238880" y="43434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>
            <a:off x="723888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>
            <a:off x="769500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3F4-86AC-437E-967C-F2AF1B42A370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F00CB-73E0-40F7-BEAA-6E79D52A8F96}" type="datetime1">
              <a:rPr lang="en-US"/>
              <a:t>07/29/26</a:t>
            </a:fld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5" name=""/>
          <p:cNvSpPr/>
          <p:nvPr/>
        </p:nvSpPr>
        <p:spPr>
          <a:xfrm>
            <a:off x="7922520" y="651204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>
            <a:off x="2139840" y="1828800"/>
            <a:ext cx="15922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4654440" y="2597040"/>
            <a:ext cx="74952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>
            <a:off x="4695480" y="433548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>
            <a:off x="3062880" y="3276720"/>
            <a:ext cx="68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>
            <a:off x="3028320" y="3048120"/>
            <a:ext cx="7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>
            <a:off x="37339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3968640" y="30542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3968640" y="3282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>
            <a:off x="37339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44197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968640" y="54928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7339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968640" y="57214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2825640" y="54928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2952360" y="547848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135600" y="5707080"/>
            <a:ext cx="61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6" name=""/>
          <p:cNvGrpSpPr/>
          <p:nvPr/>
        </p:nvGrpSpPr>
        <p:grpSpPr>
          <a:xfrm>
            <a:off x="6608880" y="3811680"/>
            <a:ext cx="1683720" cy="2209320"/>
            <a:chOff x="6608880" y="3811680"/>
            <a:chExt cx="1683720" cy="2209320"/>
          </a:xfrm>
        </p:grpSpPr>
        <p:sp>
          <p:nvSpPr>
            <p:cNvPr id="14417" name=""/>
            <p:cNvSpPr/>
            <p:nvPr/>
          </p:nvSpPr>
          <p:spPr>
            <a:xfrm>
              <a:off x="7497000" y="3956040"/>
              <a:ext cx="362520" cy="5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" y="8156"/>
                  </a:moveTo>
                  <a:arcTo wR="10800" hR="10800" stAng="-9949588" swAng="1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" y="8156"/>
                  </a:moveTo>
                  <a:arcTo wR="10800" hR="10800" stAng="-9949588" swAng="1120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8" name=""/>
            <p:cNvSpPr/>
            <p:nvPr/>
          </p:nvSpPr>
          <p:spPr>
            <a:xfrm>
              <a:off x="6608880" y="3989520"/>
              <a:ext cx="46260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4" y="20709"/>
                  </a:moveTo>
                  <a:arcTo wR="10800" hR="10800" stAng="6806404" swAng="1244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4" y="20709"/>
                  </a:moveTo>
                  <a:arcTo wR="10800" hR="10800" stAng="6806404" swAng="124434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9" name=""/>
            <p:cNvSpPr/>
            <p:nvPr/>
          </p:nvSpPr>
          <p:spPr>
            <a:xfrm>
              <a:off x="7032600" y="3811680"/>
              <a:ext cx="46476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081" swAng="10645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081" swAng="10645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0" name=""/>
            <p:cNvSpPr/>
            <p:nvPr/>
          </p:nvSpPr>
          <p:spPr>
            <a:xfrm>
              <a:off x="6629400" y="4579200"/>
              <a:ext cx="465120" cy="63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2" y="21206"/>
                  </a:moveTo>
                  <a:arcTo wR="10800" hR="10800" stAng="4468049" swAng="10162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2" y="21206"/>
                  </a:moveTo>
                  <a:arcTo wR="10800" hR="10800" stAng="4468049" swAng="101622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1" name=""/>
            <p:cNvSpPr/>
            <p:nvPr/>
          </p:nvSpPr>
          <p:spPr>
            <a:xfrm>
              <a:off x="6881760" y="5074560"/>
              <a:ext cx="462240" cy="6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4" y="17418"/>
                  </a:moveTo>
                  <a:arcTo wR="10800" hR="10800" stAng="2267610" swAng="10634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4" y="17418"/>
                  </a:moveTo>
                  <a:arcTo wR="10800" hR="10800" stAng="2267610" swAng="106347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2" name=""/>
            <p:cNvSpPr/>
            <p:nvPr/>
          </p:nvSpPr>
          <p:spPr>
            <a:xfrm>
              <a:off x="7284960" y="5379120"/>
              <a:ext cx="464760" cy="64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3" y="5649"/>
                  </a:moveTo>
                  <a:arcTo wR="10800" hR="10800" stAng="-1709036" swAng="13066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3" y="5649"/>
                  </a:moveTo>
                  <a:arcTo wR="10800" hR="10800" stAng="-1709036" swAng="130662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3" name=""/>
            <p:cNvSpPr/>
            <p:nvPr/>
          </p:nvSpPr>
          <p:spPr>
            <a:xfrm>
              <a:off x="7729200" y="5110920"/>
              <a:ext cx="4636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410"/>
                  </a:moveTo>
                  <a:arcTo wR="10800" hR="10800" stAng="-4449500" swAng="13768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410"/>
                  </a:moveTo>
                  <a:arcTo wR="10800" hR="10800" stAng="-4449500" swAng="137683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4" name=""/>
            <p:cNvSpPr/>
            <p:nvPr/>
          </p:nvSpPr>
          <p:spPr>
            <a:xfrm>
              <a:off x="7780680" y="4237200"/>
              <a:ext cx="511920" cy="9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5" name=""/>
          <p:cNvSpPr/>
          <p:nvPr/>
        </p:nvSpPr>
        <p:spPr>
          <a:xfrm>
            <a:off x="541008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215120" y="4869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2219040" y="563076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1395720" y="274320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3848760" y="14940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3911760" y="236232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3987720" y="30481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3987720" y="32767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3987720" y="54864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3987720" y="57150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27920" y="2354400"/>
            <a:ext cx="122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3733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44197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396864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715000" y="24382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571500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62720" y="3886200"/>
            <a:ext cx="11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0) 560-09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5356080" y="4724280"/>
            <a:ext cx="142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61722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5" name=""/>
          <p:cNvGrpSpPr/>
          <p:nvPr/>
        </p:nvGrpSpPr>
        <p:grpSpPr>
          <a:xfrm>
            <a:off x="6607080" y="2592360"/>
            <a:ext cx="1685520" cy="684000"/>
            <a:chOff x="6607080" y="2592360"/>
            <a:chExt cx="1685520" cy="684000"/>
          </a:xfrm>
        </p:grpSpPr>
        <p:sp>
          <p:nvSpPr>
            <p:cNvPr id="14446" name=""/>
            <p:cNvSpPr/>
            <p:nvPr/>
          </p:nvSpPr>
          <p:spPr>
            <a:xfrm>
              <a:off x="7497000" y="2637000"/>
              <a:ext cx="362520" cy="18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6607080" y="264636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7032600" y="2592360"/>
              <a:ext cx="46476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627960" y="2830320"/>
              <a:ext cx="463680" cy="1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6880320" y="2984040"/>
              <a:ext cx="46296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7284960" y="3077280"/>
              <a:ext cx="46476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29560" y="299520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7781040" y="2724120"/>
              <a:ext cx="511560" cy="28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7015320" y="273528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838600" y="21258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3968640" y="2139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73392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3886200" y="2133720"/>
            <a:ext cx="584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4197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61722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 flipV="1">
            <a:off x="6400800" y="297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58525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57891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F72-F2F1-4ED0-A2EF-E505411BE308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D5825-365F-40D2-8417-830ED3EB2C3E}" type="datetime1">
              <a:rPr lang="en-US"/>
              <a:t>07/29/26</a:t>
            </a:fld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WAITING FOR INSTALLATION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98C-63B7-4760-8833-93F3F5B8D579}" type="slidenum">
              <a:t>2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C599F-8EAD-4BD1-84B7-A7FFD8F91B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iz, Oh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473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4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5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6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7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8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9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0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78120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6877080" y="4343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029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  43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942-4442…Tom Hug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856-35EF-4EC7-808F-6C86900D8F11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08B9B-EE94-4C01-8DDB-A326C80E53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gary, Alberta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5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26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7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8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9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0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1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2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3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40M - 80th Avenue S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  T2C 2J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3) 279-6009…Paula DeFrus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67B-4526-4CDE-9082-A48CA60A1B0B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6CAD7-FF2A-4391-B5E3-CE810C4299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rill, Wisconsi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8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79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0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1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2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3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4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5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6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9 West Taylo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  54452-0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5) 539-0003…Dave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6AB-A54E-40F3-B718-8C7AF61D6DE8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3F7DA-2646-4B45-A625-8360AB65E8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1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32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7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8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6821280" y="3505320"/>
            <a:ext cx="95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2241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22118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3C9-DFFF-4AC1-971B-FD198F8F3B36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252E5-45EA-42B3-8F04-5042F387A3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7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88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9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0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1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2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3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4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5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6663240" y="350532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22410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221184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171360" y="228600"/>
            <a:ext cx="21909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B80-B08A-4F1C-978E-2CB5E9321D53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9B7E8-E483-4830-B2BE-A28166BED1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 Forg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xxxxxx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d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pont Distributing &amp; Tru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Moosic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  18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547-6645…Joe Tala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815-B44B-4EDF-8976-1045E77963F2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37B78-131F-4E49-9C2B-D8F1054C3B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co, Washing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0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801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90 East Ainswor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  99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9) 547-7997…Eileen Cord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547-7997…Janet Darv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55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509) 542-929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61756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509-543-7177 / 509-543-7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118-F027-4665-9183-F53BED371918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2F99F-1DA6-46D2-B20C-724F7701A5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d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67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47440" y="2895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38960" y="787320"/>
            <a:ext cx="130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52480" y="365760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775520" y="3048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72280" y="34434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42480" y="3672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986963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1360" y="171360"/>
            <a:ext cx="31813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2286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Diamond Tool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 Be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 NC 287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11…John McF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09…Nola Sta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52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179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28) 654-88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3048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01000" y="1600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23760" y="28195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2600" y="306216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88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46560" y="496728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828-684-4485  / 828-684-4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23D-3DF9-494E-A976-ACFDC214A9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80E20-BD30-4010-9ADD-89CE3C2FCE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3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854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685296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449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4E4-FD73-4B1C-8478-01F5B904BFAF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9713B-A3AA-45C9-BAB6-8B5FD7EAF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n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90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314280" y="406728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2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6257880" y="467676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40 West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7-4228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433-16AC-4958-BA35-11EAE3A630BB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92CCC-4095-46B0-8741-B0CC13050A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Apollinaire, Quebec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6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967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8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9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0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1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2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3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4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838080" y="609588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8B, Rang Gas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  G0S 2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8) 881-2613…Gilles Gr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4D6-CFC2-4743-95E0-53C080DAE563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A270F-DA6D-4585-8867-79441A345E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on, Ontar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9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15020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1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2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3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4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5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6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7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8" name=""/>
          <p:cNvSpPr/>
          <p:nvPr/>
        </p:nvSpPr>
        <p:spPr>
          <a:xfrm>
            <a:off x="75240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1752480" y="2971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 flipV="1">
            <a:off x="1600200" y="21333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35053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6541920" y="609480"/>
            <a:ext cx="64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613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7705800" y="609480"/>
            <a:ext cx="563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6315120" y="589284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6909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1756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2460600" y="44197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2445120" y="51195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6909120" y="1496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8052120" y="1498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808056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5433480" y="589284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5766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1752480" y="350352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171360" y="171360"/>
            <a:ext cx="2876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Barmac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  M9I 2X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6) 746-0662…Gur Bayk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ston (Bay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419440" y="609480"/>
            <a:ext cx="52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61308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433960" y="487692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433960" y="53481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19810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1219320" y="448632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123552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1219320" y="4714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304-C61A-4197-B846-0D9A60404ABD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7BCAB-57EE-4098-9FB1-1276193DB6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CANCELLED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F43-9CB6-4712-B5A6-41840E3CBBE6}" type="slidenum">
              <a:t>2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46970-3C9E-4187-8CFC-F676C6BE4C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heim, Californi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4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15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6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7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8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9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0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1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2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3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ahei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48400" y="223920"/>
            <a:ext cx="1992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01 East La Palma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  928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970-3000…Rhonda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1982880" y="2730600"/>
            <a:ext cx="143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NA96-457307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CF6-F595-4F63-ABB0-656B86BAE73D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E12CF-A1ED-4C24-B585-79515FB47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on Rouge, Louisian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9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80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1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2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3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4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5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6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7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6329160" y="4344840"/>
            <a:ext cx="84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aton Rou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on Ro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28600" y="152280"/>
            <a:ext cx="2400480" cy="133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47680" y="223920"/>
            <a:ext cx="2306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37 South Sherwood Forest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  708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Joi Spears x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...Larry Breeting x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Don Hackney x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1982520" y="2681280"/>
            <a:ext cx="142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AT96-45729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6553080" y="685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ING MARCH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6553080" y="533520"/>
            <a:ext cx="2133720" cy="533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8AC-065C-4001-9561-F29351307422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7BB5B-4818-4B49-9AC9-D93A5DDEE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24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5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Daren Campbell x-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0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1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484-8C22-4F6A-972C-DE926798087B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8B287-FA22-4FEE-8891-6213099F10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30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6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0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y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9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0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1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Cor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ew Jersey  08810-15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355-1560…Ray Gabr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0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5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2744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918-D53F-45E5-94F5-F958D4F6FE63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D603D-5F7C-4672-A8B2-95E0618B0B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k Grove, Illinois (clos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3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k G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2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1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6" name=""/>
          <p:cNvSpPr/>
          <p:nvPr/>
        </p:nvSpPr>
        <p:spPr>
          <a:xfrm>
            <a:off x="2069640" y="306216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6059 (T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k Gro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171360" y="190440"/>
            <a:ext cx="247644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237240" y="216000"/>
            <a:ext cx="2294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Gaylo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  60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72-2710…Sandra Co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740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9423…router cons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>
            <a:off x="20260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3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>
            <a:off x="6553080" y="5936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Aurora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Wayn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>
            <a:off x="6553080" y="5335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950-9531-48D2-8FDC-10CD36687C3F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164F2-E67C-4614-A539-43D0FBE609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lingto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4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9920" y="5113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01680" y="42958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599840" y="4419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360" y="216000"/>
            <a:ext cx="233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40 West I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exas  76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7) 483-4299…Billie Mow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66040" y="24685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37280" y="596916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8296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7738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0A1-F088-4223-8971-F016206587F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C3103-38E3-4836-AE9F-2D67472D1F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alg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41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la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3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6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mmy Santo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2 High-Low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  78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7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9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5181480" y="974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circuit to 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518148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C93-D0D2-4A16-85A0-5EF169159533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CD4C7-69DB-40B3-AA2C-840F52FB99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land, Florida (closing April 18t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48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518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171360" y="19044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190440" y="216000"/>
            <a:ext cx="201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18 Water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orida  33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667-2032…Al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7999200" y="6526080"/>
            <a:ext cx="84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475200" y="5189400"/>
            <a:ext cx="95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15A-9270-4E9B-B68F-ABEC18262D3F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54AC-716F-4423-AAD4-2D6C035D3D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s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54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s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1 Las Positias 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7434…Valerie Goh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8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299-2BF3-456E-A39F-D89CF08325FC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37FE5-E613-4F5B-B1BE-0DD858F2A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61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 I &amp;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02 Patterson Pass Roa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5130…Dennis Duflo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12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24E-959A-4F2F-B91A-948C4C2DB78B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AD16B-95FB-48A6-BBF2-059B0795E2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---O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6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3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4BF-D356-4DA7-94D4-2D52AC25CEF9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4F342-6830-405B-8707-36D7253BD6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 Pocono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7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547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 Poco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us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  18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839-6233…Basil Barbac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Poc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6591240" y="91440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February 6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6400800" y="83808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26D-6DEB-40A1-B358-569AF26E2642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42982-B172-4B08-AC3A-8CF02BF3B4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 (old 56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0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801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88640" y="216000"/>
            <a:ext cx="225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eie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5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6550200" y="106668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56k Cance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A16-260F-4C95-B7B6-4B61FD3B6E3A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58804-59AB-4421-861A-96789CFF40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8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466560" y="511344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LACEN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36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cent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1 Kimberl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72-1210…Irene Lock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518-BAF9-4582-AD50-C4FF9EE3866F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0E0E3-30EA-41D0-A474-329216BE4B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 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65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71360" y="19044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8640" y="216000"/>
            <a:ext cx="23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x-33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AED-F9CE-4202-BB54-0B7222A50C33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2E7CA-3181-44ED-9492-2AAB7928A2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gate, California (cancelled on 4/01/20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9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01 S. Gar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lifornia  90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952-8800…Bill Thompson x-8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1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BAC-840A-4C28-BD8A-F9E3A4F0B654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54DD0-78D9-4186-92AC-1D1568A67C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s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9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016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8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the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89000" y="216000"/>
            <a:ext cx="249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5 Athen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a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eorgia  306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6) 546-9005…Ben Alexenberg x-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152560" y="65260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0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96F-5872-4CFE-9ABF-BBE21770F6C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66B08-0DD5-4E10-8BA7-4399DA0C5E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05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1905120" y="32767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721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 flipH="1">
            <a:off x="1218960" y="42670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H="1">
            <a:off x="7162560" y="487692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962-A72B-4332-8DB0-4E55140EDD97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9F84C-D5E5-4F29-9D70-B1B532D9EE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Michigan (Sekur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7391520" y="650700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Sekur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71360" y="190440"/>
            <a:ext cx="27241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kurit Saint-Gobain USA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1 West Big Beaver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chigan  480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816-0060…Ed D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1301760" y="249408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1249200" y="248760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5562720" y="286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 flipV="1">
            <a:off x="76201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6281640" y="4495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4935600" y="273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2209680" y="5103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2043360" y="265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0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5867280" y="26049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5715000" y="28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615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0" name=""/>
          <p:cNvSpPr/>
          <p:nvPr/>
        </p:nvSpPr>
        <p:spPr>
          <a:xfrm>
            <a:off x="35053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391356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47B-A516-4607-A208-4096E55DC695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2754D-F34A-4E68-8272-3FC4C0629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16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9236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B71-B113-4A2F-9A7B-7DC9B3A9C47C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B89AD-41F4-46F5-952A-6E1B6387EB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xom, Michigan (Fashon Wal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22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x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X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0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x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228600" y="152280"/>
            <a:ext cx="262908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239760" y="249120"/>
            <a:ext cx="2655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hon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755 Bec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chig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960-9300…Lynn Lindquist x-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449-7266…Lynn Lindquist (ho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07F-ADC2-4DA3-9618-52389DB2FCFC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97662-26EC-4B74-99F2-343B7C2861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8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U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bu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53640" y="652608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1360" y="190440"/>
            <a:ext cx="29336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0440" y="216000"/>
            <a:ext cx="3009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n, Washington 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 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2976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8226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100960" y="32767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3345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9AE9-5F49-43A9-8FA1-03D94495B6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1B130-DAC5-4253-9562-EDD74B7034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shington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55200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09560" y="19810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4267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42670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34120" y="5486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23880" y="1371600"/>
            <a:ext cx="1523520" cy="990000"/>
            <a:chOff x="1523880" y="1371600"/>
            <a:chExt cx="1523520" cy="990000"/>
          </a:xfrm>
        </p:grpSpPr>
        <p:sp>
          <p:nvSpPr>
            <p:cNvPr id="1938" name=""/>
            <p:cNvSpPr/>
            <p:nvPr/>
          </p:nvSpPr>
          <p:spPr>
            <a:xfrm>
              <a:off x="2328840" y="1434240"/>
              <a:ext cx="32400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23880" y="1449720"/>
              <a:ext cx="418320" cy="28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6920" y="1371600"/>
              <a:ext cx="420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42600" y="1715040"/>
              <a:ext cx="42048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72640" y="1937880"/>
              <a:ext cx="4179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36600" y="2074320"/>
              <a:ext cx="419760" cy="28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38360" y="1955880"/>
              <a:ext cx="4190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84800" y="1562400"/>
              <a:ext cx="462600" cy="40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7009560" y="39625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009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095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457200"/>
            <a:ext cx="7621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958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93120" y="53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560920" y="19051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ran T-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3360" y="1143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47040" y="18288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28080" y="160020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&amp;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80880" y="5257800"/>
            <a:ext cx="3733920" cy="485640"/>
            <a:chOff x="380880" y="5257800"/>
            <a:chExt cx="3733920" cy="485640"/>
          </a:xfrm>
        </p:grpSpPr>
        <p:sp>
          <p:nvSpPr>
            <p:cNvPr id="1961" name=""/>
            <p:cNvSpPr/>
            <p:nvPr/>
          </p:nvSpPr>
          <p:spPr>
            <a:xfrm>
              <a:off x="2590920" y="5500800"/>
              <a:ext cx="152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bur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23880" y="55008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.18.128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0880" y="55008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98.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90920" y="5257800"/>
              <a:ext cx="152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23880" y="52578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0880" y="52578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0880" y="525780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0880" y="550080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0880" y="574344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388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9092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148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90684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CC3-EBBE-43AC-937D-A36E542026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6501B-911C-4027-990D-F3736D082005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(SGPP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3505320" y="1754280"/>
            <a:ext cx="2133000" cy="3503160"/>
            <a:chOff x="3505320" y="1754280"/>
            <a:chExt cx="2133000" cy="3503160"/>
          </a:xfrm>
        </p:grpSpPr>
        <p:sp>
          <p:nvSpPr>
            <p:cNvPr id="1983" name=""/>
            <p:cNvSpPr/>
            <p:nvPr/>
          </p:nvSpPr>
          <p:spPr>
            <a:xfrm>
              <a:off x="463212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505320" y="2036880"/>
              <a:ext cx="586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40280" y="1754280"/>
              <a:ext cx="590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052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49840" y="3756960"/>
              <a:ext cx="587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62480" y="4242240"/>
              <a:ext cx="587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23360" y="3819960"/>
              <a:ext cx="586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960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5080" y="5113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16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25440" y="3048120"/>
            <a:ext cx="75564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8108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10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2236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622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056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390800" y="594360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578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38680" y="32767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550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91040" y="3184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8487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722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199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1366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E49-0A7C-46CB-97E6-073AAE3B73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217FF-04EB-48E8-9CF9-6916CA0621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3800" y="320040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CHAND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335268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35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6640" y="190512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1040" y="13716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809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9720" y="3429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13800" y="380988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0120" y="4565520"/>
          <a:ext cx="24120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56552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850160" y="4405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9640" y="44053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0120" y="51436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5143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257800" y="52196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0160" y="4983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0360" y="49831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099-5926-496C-B517-A7C4DF3608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10121-1FAA-4A22-A665-D6012F7F2467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2029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99160" y="5592600"/>
            <a:ext cx="68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476000" y="220176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94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99800" y="2438280"/>
            <a:ext cx="1824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ron (DLCI 2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824840" y="378612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venna (DLCI 2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247400" y="3328920"/>
            <a:ext cx="257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k Grove (DLCI 20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227960" y="2887560"/>
            <a:ext cx="259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373760" y="3557520"/>
            <a:ext cx="24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ville (DLCI 1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21080" y="4479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95560" y="3108240"/>
            <a:ext cx="26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dgewater (DLCI 6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53640" y="4251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697040" y="4022640"/>
            <a:ext cx="21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boro (DLCI 9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DA2-3786-4E83-BBA7-4EE666B6EE1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5B94C-0624-4237-AC5C-728C6945D672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06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624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ve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19 US Route 250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io  44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Tom Gwynn x-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Jeff Kendra x-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848720" y="6526080"/>
            <a:ext cx="101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0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8B8-8903-4982-AEC4-2E2325D99CF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1F877-CD9B-4E78-AD50-55DECCFAAB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verton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12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v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106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7031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av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71360" y="190440"/>
            <a:ext cx="201924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52360" y="216000"/>
            <a:ext cx="1957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  486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9533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8221…Rick La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944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7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9F6-FC64-4448-A1BC-FCEAB855EDE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6ABCA-1121-462C-95C3-27101FF0E2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sen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33392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94340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53360" y="787320"/>
            <a:ext cx="83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980680" y="1676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858000" y="1599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389720" y="787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89400" y="167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848720" y="15998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467480" y="1150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77120" y="1149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680" y="216000"/>
            <a:ext cx="220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4 O’Leary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linois  60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0) 238-3300 x-215…Doug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s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77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412960" y="32767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19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584880" y="129528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47440" y="22096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52480" y="2286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63920" y="2149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7432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33720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0) 595-4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0600" y="27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84960" y="2741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52480" y="22860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110680" y="20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3080" y="5256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02920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90764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447440" y="36100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55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1055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32040" y="5927760"/>
            <a:ext cx="105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96844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5800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060280" y="2286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92160" y="26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0120" y="2819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77760" y="3533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63000" y="37479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92160" y="213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66240" y="2333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737080" y="49356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30-350-2971- / 630-350-48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1337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77E-357F-40F6-A4F7-A063539EB30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4D5C1-A9D5-46A1-8467-CF385CAAD3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26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irmingh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7 Eri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abama  35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5) 785-1145…Don Fitts x-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97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36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13000" y="489276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37040" y="4876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480" y="4968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48C-A3D4-4DC5-805E-5AB7C26652E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2E823-84C6-4B38-AF97-B1873B34B0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omington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31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3960" y="5103720"/>
            <a:ext cx="118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LOOM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.18.20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oo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9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5 East 78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  55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2) 703-5620…Tim Mc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B6B-CCA6-4B52-B3F5-0AC96302E4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732F3-F4B1-4F34-97E4-0FA0555F74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 Bel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1840" y="5149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 flipV="1">
            <a:off x="5560920" y="152388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549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25920" y="1981080"/>
            <a:ext cx="2498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7924680" y="19810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4716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2468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50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799160" y="18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61760" y="2023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76480" y="51814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 flipV="1">
            <a:off x="19047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301760" y="2368440"/>
            <a:ext cx="5968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376640" y="24382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2360" y="216000"/>
            <a:ext cx="22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0 Union Meeting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ennsylvania  194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6253…Ken Lew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637240" y="17524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84960" y="19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86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170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882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6480" y="2604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65646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167652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4120" y="365760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4120" y="304812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425920" y="2590920"/>
            <a:ext cx="150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268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96640" y="265284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99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3200400" y="990720"/>
            <a:ext cx="2284200" cy="3199680"/>
            <a:chOff x="3200400" y="990720"/>
            <a:chExt cx="2284200" cy="3199680"/>
          </a:xfrm>
        </p:grpSpPr>
        <p:sp>
          <p:nvSpPr>
            <p:cNvPr id="2429" name=""/>
            <p:cNvSpPr/>
            <p:nvPr/>
          </p:nvSpPr>
          <p:spPr>
            <a:xfrm>
              <a:off x="4409280" y="1195560"/>
              <a:ext cx="48636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1249920"/>
              <a:ext cx="627840" cy="9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74960" y="990720"/>
              <a:ext cx="63324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227400" y="2098440"/>
              <a:ext cx="63396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1920" y="2820240"/>
              <a:ext cx="627840" cy="9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19480" y="3264480"/>
              <a:ext cx="628560" cy="92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21040" y="2878920"/>
              <a:ext cx="62856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90520" y="1609200"/>
              <a:ext cx="69408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659760" y="160020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34000" y="52592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12620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9343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92964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AB3-55E7-48C1-874C-F53B9264671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96CBD-F51B-419B-A457-A6B959BC82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44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1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2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655632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04560" y="518148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5520" y="403848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64848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as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3EB-582D-4F8E-A4BB-C90597B7846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A321D-4BF4-4346-8B57-F06E1DCA05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50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3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03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655632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560" y="522612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648480" y="3429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ehouse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399-05C7-458B-8CBA-21F0650C5AC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17EFA-7465-42DD-93D1-2EE7E0C6F7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p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56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y M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Holtb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  L6X 2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456-3394…Craig Samu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 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12F-A368-4C21-A49B-69F9A16AB32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BA7E6-F4D7-4AFF-9D7C-90E1322FA0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3276720"/>
            <a:ext cx="77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256/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LOUISVI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0120" y="34290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04480" y="21477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 (25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6400" y="161460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962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P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5600" y="39625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0120" y="41227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22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H="1">
            <a:off x="5334120" y="4191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4520" y="46483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0120" y="48085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808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5257800" y="48848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50160" y="4648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EED-9698-455B-9FA1-0E842A0D7D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21BBA-B269-453B-900C-5952E371AEDC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sto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24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9444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510960" y="15224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85080" y="481500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215-788-6940 / 215-788-74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196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26080" y="28051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1360" y="190440"/>
            <a:ext cx="27241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" y="216000"/>
            <a:ext cx="2666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Whar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ennsylvania  19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Walt Baumbach x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Ed Lusher x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924680" y="655488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s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90052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5) 781-94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00624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4180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19C-FEE4-4AC0-B069-D1B5BC752BD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E4515-EC17-4BE1-A654-07F99021B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ns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96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8320" y="32767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99800" y="44956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913560" y="21337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8864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542-2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150280" y="2577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116800" y="2806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25440" y="2411280"/>
            <a:ext cx="75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195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297080" y="157320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201680" y="251460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op/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19240" y="209520"/>
            <a:ext cx="2428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2160" y="236520"/>
            <a:ext cx="23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5 Morningsid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 78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41-5285…Luis Morrison x-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847280" y="650880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03920" y="3884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81080" y="2819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58000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288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091560" y="2362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89560" y="53352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77840" y="15224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6201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52180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56-982-2274 / 956-982-2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441-55BC-4805-873D-5336D9368A6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8702E-FA03-4DA6-A234-8927DE34C3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nswick, Ma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962520" y="990720"/>
            <a:ext cx="1904400" cy="3503160"/>
            <a:chOff x="3962520" y="990720"/>
            <a:chExt cx="1904400" cy="3503160"/>
          </a:xfrm>
        </p:grpSpPr>
        <p:sp>
          <p:nvSpPr>
            <p:cNvPr id="2768" name=""/>
            <p:cNvSpPr/>
            <p:nvPr/>
          </p:nvSpPr>
          <p:spPr>
            <a:xfrm>
              <a:off x="4968360" y="1214640"/>
              <a:ext cx="40644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62520" y="1273320"/>
              <a:ext cx="523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439880" y="990720"/>
              <a:ext cx="52668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8484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69960" y="2993400"/>
              <a:ext cx="52416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7520" y="3478680"/>
              <a:ext cx="524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28640" y="3056400"/>
              <a:ext cx="523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87680" y="1666800"/>
              <a:ext cx="57924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29480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2920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2920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18160" y="787320"/>
            <a:ext cx="8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81200" y="3579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75248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9974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1200" y="4114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7) 725-5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571464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571464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204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8804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07-798-6688 / 207-798-66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0199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87320" y="2654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50600" y="290988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71360" y="171360"/>
            <a:ext cx="234324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9760" y="249120"/>
            <a:ext cx="219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 Bibber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aine  04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Mark 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Phil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193400" y="25146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066680" y="2514600"/>
            <a:ext cx="1359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433880" y="291456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265400" y="312912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36640" y="2518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765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9907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9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438280" y="2743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66680" y="3124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06668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4C3-BF80-4C04-9805-2B20E176BA0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1ED89-0B68-4E11-BF17-6E70B99A45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ya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36760" y="487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y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71360" y="190440"/>
            <a:ext cx="249552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8400" y="223920"/>
            <a:ext cx="232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Independen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  77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…Mike Roberts x-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...John Covey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65548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y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55000" y="29862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RY99-1680109 (384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98288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168005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31280" y="45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79-691-8673 /  979-691-28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2859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00400" y="4146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8916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4375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45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9) 775-2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0D1-E988-4E29-BCE6-D6EC0D0BF06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5C13D-D238-4009-AA07-7D7622499D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ckhannon, West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89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14240" y="5265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04) 472-04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71360" y="190440"/>
            <a:ext cx="24955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8600" y="2286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way 33 W Rout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est Virginia  262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2-400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96…Steve 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6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370680" y="49528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04-472-8985 /  304-472-89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51720" y="27576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7165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2B0-4CC6-4529-AFBE-404F1FB7F3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2525B-C53E-41DE-94AC-7CCB85F1EF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96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Joe Pointkowski - 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32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BD5-B813-4690-B9FC-71F85E8303D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CE389-91C1-4A83-AAA8-60EECDBE3A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lington, Wiscons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63-68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5 South McHen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WI  53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) 763-9161…Karen Reily x-3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7440" y="40384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28600" y="513396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497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E5E-B878-4107-A75E-8D3691EA8B5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219B3-203F-4414-8DCC-EE7B5B717F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teret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8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2) 969-38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inue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  07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969-1400…Peter Lens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t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45880" y="415908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80160" y="518004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83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rter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F2D-50F4-437F-B75E-78B72419664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A13D0-9309-4DC9-9693-E5001FF668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dler, Ari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3276720" y="685800"/>
            <a:ext cx="2133000" cy="3885480"/>
            <a:chOff x="3276720" y="685800"/>
            <a:chExt cx="2133000" cy="3885480"/>
          </a:xfrm>
        </p:grpSpPr>
        <p:sp>
          <p:nvSpPr>
            <p:cNvPr id="3141" name=""/>
            <p:cNvSpPr/>
            <p:nvPr/>
          </p:nvSpPr>
          <p:spPr>
            <a:xfrm>
              <a:off x="4403520" y="93384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276720" y="99900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811680" y="68580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01920" y="203364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621240" y="290664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33880" y="344556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94760" y="297684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761000" y="143568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1600200" y="2133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33412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665600" y="31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253920" y="60948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6858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665600" y="2209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2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12000" y="2971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6560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533000" y="60948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683240" y="36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456240" y="58928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08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858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755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3196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3716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0600" y="45100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480) 785-499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8108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457360" y="47102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   480-763-8106 / 480-763-81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8001000" y="1422000"/>
            <a:ext cx="0" cy="9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800100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5257800" y="2819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9051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8288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908040" y="1496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051040" y="1498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0798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311440" y="589284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65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53341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446200" y="4952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   480-785-3926 / 480-785-39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446200" y="5195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   480-785-3946 / 480-785-39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71360" y="171360"/>
            <a:ext cx="24955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145 West Detroi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rizona  85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2) 793-7966…Denni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765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676520" y="2147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2355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5248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46200" y="54244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3   480-785-3958 / 480-785-39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5248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765-0790-4711-A4B3-B292EB171B4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C0CF9-E2A9-42BC-B607-828392484A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71360" y="190440"/>
            <a:ext cx="2705040" cy="9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3229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940040" y="207324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 4228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23600" y="6508800"/>
            <a:ext cx="98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5702400" y="1873080"/>
            <a:ext cx="1120680" cy="959040"/>
            <a:chOff x="5702400" y="1873080"/>
            <a:chExt cx="1120680" cy="959040"/>
          </a:xfrm>
        </p:grpSpPr>
        <p:sp>
          <p:nvSpPr>
            <p:cNvPr id="3241" name=""/>
            <p:cNvSpPr/>
            <p:nvPr/>
          </p:nvSpPr>
          <p:spPr>
            <a:xfrm>
              <a:off x="5739480" y="1940040"/>
              <a:ext cx="1038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1  Multiplex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lot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S0 Channel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&amp;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HEC 416516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702400" y="1873080"/>
              <a:ext cx="1120680" cy="95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931000" y="52642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969920" y="5807160"/>
            <a:ext cx="84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845680" y="576432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248520" y="4172040"/>
            <a:ext cx="0" cy="10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44080" y="216000"/>
            <a:ext cx="2625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on and Bar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64 Azale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 29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745-2477…Lee Edenfield (syste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554-9550…Bob Nelson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854360" y="5273640"/>
            <a:ext cx="1110960" cy="43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eron &amp; Bar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867-8C3C-4EBC-BC9C-34198576B70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58F5D-A377-4436-A32B-286A8AE03770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7760" y="13096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736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4118040"/>
            <a:ext cx="121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498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4879800"/>
            <a:ext cx="133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9120" y="6110280"/>
            <a:ext cx="81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z Br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6099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560700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6200" y="6099120"/>
            <a:ext cx="121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257800"/>
            <a:ext cx="12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6099120"/>
            <a:ext cx="121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099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60958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505320" y="1905120"/>
          <a:ext cx="2286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00800" y="59436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30481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371600" y="34290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V="1">
            <a:off x="1600200" y="3962520"/>
            <a:ext cx="22096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00200" y="4191120"/>
            <a:ext cx="2286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5943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90920" y="59436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43800" y="41911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43800" y="57150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162920" y="594360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43800" y="5334120"/>
          <a:ext cx="24120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438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43800" y="4952880"/>
          <a:ext cx="24120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543800" y="4572000"/>
          <a:ext cx="24120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438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228600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00200" y="441936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0200" y="45720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4724280"/>
            <a:ext cx="2514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57400" y="4876560"/>
            <a:ext cx="20574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4952880"/>
            <a:ext cx="8384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02920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952880"/>
            <a:ext cx="12952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200520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4080" y="3192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6483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22860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2100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114800"/>
            <a:ext cx="2057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562360" y="3963960"/>
            <a:ext cx="1981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638680" y="3733560"/>
            <a:ext cx="1905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43800" y="19051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438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438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04812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438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371600" y="2666880"/>
          <a:ext cx="241200" cy="98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71600" y="2666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419720" y="1068480"/>
          <a:ext cx="469800" cy="172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19720" y="1068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3360" y="1752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rlington, 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905120"/>
          <a:ext cx="241200" cy="98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3716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00200" y="3505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543800" y="1523880"/>
          <a:ext cx="24120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543800" y="1523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600200" y="31240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9051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40972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1981080"/>
            <a:ext cx="19810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8680" y="2362320"/>
            <a:ext cx="1905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2743200"/>
            <a:ext cx="1905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680" y="3124080"/>
            <a:ext cx="1905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599840" y="3733920"/>
            <a:ext cx="2133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485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7440" y="40384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816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5816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160" y="51195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5816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2360" y="56530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80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159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6824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8240" y="50436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824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824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2529000"/>
            <a:ext cx="92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824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824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824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68240" y="1843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8240" y="1461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352680" y="5943600"/>
          <a:ext cx="24156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52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44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876920" y="5943600"/>
          <a:ext cx="241200" cy="98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876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24280" y="5105520"/>
            <a:ext cx="152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60" y="2133720"/>
            <a:ext cx="128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743200"/>
            <a:ext cx="1981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MUN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3809880"/>
          <a:ext cx="241200" cy="98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3716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63360" y="3657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360" y="2514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60" y="2895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60" y="4083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3623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60" y="4464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360" y="4844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60" y="5226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60" y="5607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Monte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560" y="6064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6095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638680" y="5943600"/>
          <a:ext cx="24156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38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H="1">
            <a:off x="4343040" y="510552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43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2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9528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3716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371600" y="533412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3716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371600" y="571500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3716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848720" y="3355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975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2212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1832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ss-M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543800" y="1143000"/>
          <a:ext cx="241200" cy="982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43800" y="1143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543800" y="3429000"/>
          <a:ext cx="241200" cy="982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75438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68240" y="1081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069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114800" y="594360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114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391520" y="2668680"/>
          <a:ext cx="469800" cy="1728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391520" y="26686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848720" y="2593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543800" y="380988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75438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68240" y="3367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58160" y="1766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5816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160" y="2604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816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58160" y="32907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5816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19520" y="49528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824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334120" y="1219320"/>
            <a:ext cx="220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48720" y="1386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39F-34CE-4673-A22E-B77F4844FE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19337-5393-44FF-B8C8-4A35D9F5DCBF}" type="datetime1">
              <a:rPr lang="en-US"/>
              <a:t>07/29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 South Carolin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262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0 B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outh Carolina  29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3) 744-7451…Paul Evangelist x-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014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C2D-4A50-4D77-9298-154B88E56EEF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D814C-37FD-4A01-8DCE-C07F6A81A9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ott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696080" y="6526080"/>
            <a:ext cx="11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S Warehous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01-E Southern Pine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orth Carolina  28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521-3241…John Finkbeiner x-17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3333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36600" y="43448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38040" y="36100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01760" y="26733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71240" y="2735280"/>
            <a:ext cx="45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16002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1447920" y="32763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7920" y="3276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905120" y="3048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104920" y="2833560"/>
            <a:ext cx="110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 SGC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121896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28164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rlot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21600" y="566424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7391520" y="3276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2524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4748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93280" y="45990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716256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43B-8299-469B-9C9B-171370068111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51D44-84C5-46DF-91E4-6A7350BF4F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37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71360" y="171360"/>
            <a:ext cx="226692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28600" y="289080"/>
            <a:ext cx="213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 W. Fro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ennsylvania  19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874-5222…Ed Co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57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F7A-D954-4F33-AE16-1A3918BE0FF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517AA-0080-47B6-A5D2-2C868602F9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field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43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Chesterfield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issouri  63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8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94…Aaron Hopk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162920" y="655488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51920" y="522612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ESTE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2856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64848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1576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334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973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8160" y="2743200"/>
            <a:ext cx="121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 91553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20932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2E5-0D22-44F9-AC18-D6E38A29A692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2C9DC-CF0A-482E-8471-EDFD720E17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pawa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3502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958040" y="2522520"/>
            <a:ext cx="116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352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ippaw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974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160020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1360" y="190440"/>
            <a:ext cx="2857680" cy="91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14200" y="326880"/>
            <a:ext cx="278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 of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1 Dal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  L2G 6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295-4311...Jim Davis x-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72400" y="6526080"/>
            <a:ext cx="111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p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1592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38712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624852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140-4587-4D0B-AF9D-4BEB7BF2C7C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0CE7F-225F-4F15-A1A5-5ED8513661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5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112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922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2208600" y="5362560"/>
            <a:ext cx="111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7331040" y="6526080"/>
            <a:ext cx="150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93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66760" y="21600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75 Avenue 23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4831…Rick Goddard x-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C75-7D3D-4009-9303-36772F68F18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6DE44-2BA8-4A4C-A7AA-90C08716AA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3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5604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19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296840" y="6526080"/>
            <a:ext cx="154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le Distribu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05 Ave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3716…Brenda Ha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1B5-DCE5-4588-A52C-0DD6851595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4B549-1BEC-43AD-A53D-954DEFDEF4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477120" y="6507000"/>
            <a:ext cx="23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(Cal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9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?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788960" y="4905360"/>
            <a:ext cx="104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1_FR_WOR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80680" y="306216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818115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74800" y="4205160"/>
            <a:ext cx="58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3120" y="46767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ty of Indust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923640" y="2590920"/>
            <a:ext cx="1070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I/Worl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80-96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71360" y="457200"/>
            <a:ext cx="24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66760" y="48276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633…Suzi Fl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172240" y="304812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19395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D26-0B1E-46FA-8ACC-021C3638C3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670DD-4ACB-436B-9943-F95B8E7EFC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152280"/>
            <a:ext cx="2209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15228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55524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5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41008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376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008840" y="4038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748480" y="356544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066680" y="15238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49640" y="47242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288320" y="4572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612400" y="45720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304920" y="5105520"/>
            <a:ext cx="3276360" cy="728640"/>
            <a:chOff x="304920" y="5105520"/>
            <a:chExt cx="3276360" cy="728640"/>
          </a:xfrm>
        </p:grpSpPr>
        <p:sp>
          <p:nvSpPr>
            <p:cNvPr id="3780" name=""/>
            <p:cNvSpPr/>
            <p:nvPr/>
          </p:nvSpPr>
          <p:spPr>
            <a:xfrm>
              <a:off x="2590920" y="5591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04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2.168.10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90920" y="5348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47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4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69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590920" y="5105520"/>
              <a:ext cx="99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4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04920" y="51055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04920" y="5348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4920" y="5591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920" y="583416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492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447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90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58128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7" name=""/>
          <p:cNvSpPr/>
          <p:nvPr/>
        </p:nvSpPr>
        <p:spPr>
          <a:xfrm>
            <a:off x="4649400" y="1752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I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D27-9A20-4428-84DE-63BBA1BB46E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7AB99-0AA4-4A6C-9AF9-871D6D998593}" type="datetime1">
              <a:rPr lang="en-US"/>
              <a:t>07/29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ton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80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28164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9461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ven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10 South 2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owa  527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9) 242-3554…Randy McB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772400" y="647712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B78-EF46-4C99-AF92-849B4FD248FE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C2F66-7B47-4FA6-A84B-D31ED2383D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3800" y="25909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620120" y="2743200"/>
          <a:ext cx="24120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432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4480" y="129528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79320" y="76212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erma-Glas Mes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2819520"/>
            <a:ext cx="221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144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0120" y="3360600"/>
          <a:ext cx="24120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360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flipH="1">
            <a:off x="5638680" y="3429000"/>
            <a:ext cx="198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0120" y="3956040"/>
          <a:ext cx="24120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5604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785016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 Mi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9640" y="37958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0120" y="4572000"/>
          <a:ext cx="24120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5720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85016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9640" y="43736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562360" y="4038480"/>
            <a:ext cx="2057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9720" y="4646520"/>
            <a:ext cx="221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62480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480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854840" y="4997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9975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181480" y="5256360"/>
            <a:ext cx="2438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792-A894-4518-9344-A402FF8958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A4C65-037F-4D95-922D-FD3D0CCB09E9}" type="datetime1">
              <a:rPr lang="en-US"/>
              <a:t>07/29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47600" y="200160"/>
            <a:ext cx="2138400" cy="8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3320" y="277920"/>
            <a:ext cx="200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8-8980…ask for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290-5959…Sean Weish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606600" y="1754280"/>
            <a:ext cx="1683720" cy="3808080"/>
            <a:chOff x="606600" y="1754280"/>
            <a:chExt cx="1683720" cy="3808080"/>
          </a:xfrm>
        </p:grpSpPr>
        <p:sp>
          <p:nvSpPr>
            <p:cNvPr id="3879" name=""/>
            <p:cNvSpPr/>
            <p:nvPr/>
          </p:nvSpPr>
          <p:spPr>
            <a:xfrm>
              <a:off x="1495080" y="1998720"/>
              <a:ext cx="361800" cy="10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6"/>
                  </a:moveTo>
                  <a:arcTo wR="10800" hR="10800" stAng="-9959550" swAng="1121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6"/>
                  </a:moveTo>
                  <a:arcTo wR="10800" hR="10800" stAng="-9959550" swAng="112180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06600" y="2060640"/>
              <a:ext cx="462600" cy="111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9" y="20715"/>
                  </a:moveTo>
                  <a:arcTo wR="10800" hR="10800" stAng="6801294" swAng="12446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9" y="20715"/>
                  </a:moveTo>
                  <a:arcTo wR="10800" hR="10800" stAng="6801294" swAng="12446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30320" y="1754280"/>
              <a:ext cx="464760" cy="11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3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27120" y="3072240"/>
              <a:ext cx="465120" cy="11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0" y="21206"/>
                  </a:moveTo>
                  <a:arcTo wR="10800" hR="10800" stAng="4468583" swAng="10158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0" y="21206"/>
                  </a:moveTo>
                  <a:arcTo wR="10800" hR="10800" stAng="4468583" swAng="101583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879480" y="3933720"/>
              <a:ext cx="462600" cy="110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7" y="17428"/>
                  </a:moveTo>
                  <a:arcTo wR="10800" hR="10800" stAng="2271602" swAng="10627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7" y="17428"/>
                  </a:moveTo>
                  <a:arcTo wR="10800" hR="10800" stAng="2271602" swAng="106272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82680" y="4457880"/>
              <a:ext cx="464760" cy="11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5" y="5673"/>
                  </a:moveTo>
                  <a:arcTo wR="10800" hR="10800" stAng="-1700484" swAng="13041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5" y="5673"/>
                  </a:moveTo>
                  <a:arcTo wR="10800" hR="10800" stAng="-1700484" swAng="130411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6560" y="4000320"/>
              <a:ext cx="46224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6" y="413"/>
                  </a:moveTo>
                  <a:arcTo wR="10800" hR="10800" stAng="-4446805" swAng="13754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6" y="413"/>
                  </a:moveTo>
                  <a:arcTo wR="10800" hR="10800" stAng="-4446805" swAng="137541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778040" y="2486160"/>
              <a:ext cx="51228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7" y="3051"/>
                  </a:moveTo>
                  <a:arcTo wR="10800" hR="10800" stAng="-8049279" swAng="13470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7" y="3051"/>
                  </a:moveTo>
                  <a:arcTo wR="10800" hR="10800" stAng="-8049279" swAng="1347056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056960" y="3510000"/>
            <a:ext cx="91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2360" y="23684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321000" y="2630520"/>
            <a:ext cx="52092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2286000" y="2895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16320" y="3306600"/>
            <a:ext cx="5205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22860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747880" y="4219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25680" y="43498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2133360" y="48006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2360" y="41972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9840" y="477360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70760" y="300348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25680" y="50356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 flipV="1">
            <a:off x="2133360" y="426672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747880" y="4905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47880" y="3305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747880" y="26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5257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6705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00400" y="1523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098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324480" y="137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962520" y="1752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324480" y="1600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32448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070760" y="160020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6705720" y="172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V="1">
            <a:off x="2133720" y="175248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AA32-1A17-40E4-9C9B-1526111FDCB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5BD21-F5DA-4E84-820C-0970469E6017}" type="datetime1">
              <a:rPr lang="en-US"/>
              <a:t>07/29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ington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315200" y="655488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417600" y="511344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OV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58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120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v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GD G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41 Technology Drive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eorgia  3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385-3824…Larry Bow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0EC-95E5-43BA-9DAF-AF060D31CE90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58198-C32B-451B-AF99-7A6C24941B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Airv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78160" y="1066680"/>
            <a:ext cx="2284200" cy="3732120"/>
            <a:chOff x="3278160" y="1066680"/>
            <a:chExt cx="2284200" cy="3732120"/>
          </a:xfrm>
        </p:grpSpPr>
        <p:sp>
          <p:nvSpPr>
            <p:cNvPr id="3980" name=""/>
            <p:cNvSpPr/>
            <p:nvPr/>
          </p:nvSpPr>
          <p:spPr>
            <a:xfrm>
              <a:off x="4485960" y="130500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78160" y="136692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852720" y="106668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05160" y="236124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649680" y="319968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197240" y="371736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798800" y="326772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868280" y="178740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7156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H="1" flipV="1">
            <a:off x="5790960" y="34286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5334120" y="35053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 flipV="1">
            <a:off x="7848720" y="35053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5635080" y="3290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71720" y="35193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7943760" y="4572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782960" y="3367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573680" y="63504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943760" y="1523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7848720" y="1447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78296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5260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05344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25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410080" y="40384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78296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42000" y="5816520"/>
            <a:ext cx="6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V="1">
            <a:off x="6934320" y="403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946840" y="4570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3676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346920" y="472428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0 West 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4) 589-7221…June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7010280" y="650700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Venti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625000" y="382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625000" y="27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756080" y="3733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530760" y="635040"/>
            <a:ext cx="83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5642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889960" y="1523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6934320" y="1447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8006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642280" y="22240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56272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0419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315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1FE-EB75-45CB-8D5C-F9E240AF8D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A070D-B3A6-4BF2-AB56-B22AAB0876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0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00 Monfor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35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661-1406…Laura Bache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7238880" y="6526080"/>
            <a:ext cx="16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3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824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5AE-E385-4B03-8D8E-2BA072FBCC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2F8B1-CAA8-4B69-A01F-1A3F6BE476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awar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11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73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10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696080" y="650700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71360" y="171360"/>
            <a:ext cx="232272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6 Pittsburgh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io  43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63-1086…Tara Ku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76200" y="5226120"/>
            <a:ext cx="99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ELA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lawa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62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930-A515-4620-AF3E-73A23E6577EE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D9EA9-EE9D-4D89-A764-4EB9847ACA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16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71360" y="171360"/>
            <a:ext cx="21909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695 E. 39th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lorado  8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3) 576-8433…David Dib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63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89040" y="5334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9CE-D3B8-42FE-82A2-9F6E25A130D7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57D52-EA49-4D15-8DF4-E18B838955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lto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23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7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5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71360" y="171360"/>
            <a:ext cx="26481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50 Cottage Grove Avenu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  60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8) 849-1500…Milt Penenger x-3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53000" y="4038480"/>
            <a:ext cx="85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47628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C8B-70F0-4E41-BF99-32D799C845A8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889BB-B1E8-4D66-9318-B2C02A9008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ver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29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71360" y="171360"/>
            <a:ext cx="31813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39760" y="249120"/>
            <a:ext cx="31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Perma Glas-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3 West Broadwa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  446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343-4441…Larry Embrey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7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744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997440" y="51055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85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FBD-0EA3-49DC-8223-954D98415A68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C17E9-63E1-45E3-A123-E7F54CC695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nkirk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36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51036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68-63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51900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71360" y="171360"/>
            <a:ext cx="24195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4 E.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diana  47336-1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68-7891…Kim Pr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nki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unki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55520" y="3809880"/>
            <a:ext cx="892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8448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0AF-D099-4F4B-94B0-8B800272988F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DFFCC-67EE-45BA-9A36-B96CEA52DE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onte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4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3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0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0 N. Arde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Monte, California  91731-1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82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5440" y="403848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80880" y="522612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 Mon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59F-779F-4BA5-A722-B1357AE2DB13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B0E8C-BF3D-4225-98EE-AF12E32F7E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9600" y="169056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tructural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ton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1960" y="21477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16146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oron Nit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594560" y="16765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6765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029200" y="22860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7600" y="16002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20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icroelectron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594560" y="2209680"/>
          <a:ext cx="2667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4560" y="2209680"/>
                    <a:ext cx="2667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029200" y="1752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640" y="20718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041-D0AF-441B-A313-E1367F2A8F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59D5C-BCF1-4AD8-812C-F01CB2734256}" type="datetime1">
              <a:rPr lang="en-US"/>
              <a:t>07/29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nis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4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1 N. Kaufma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exas  75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875-9661…Adell Fou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6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875-47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864-442F-44EE-9DB1-109958DC94C8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D1670-B019-4035-A682-B7C1695EA4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562720" y="6526080"/>
            <a:ext cx="325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odus (Ceramics Web Ho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095360" y="31986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4114800" y="3200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11212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1109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12248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893880" y="31986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97776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6858000" y="3259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eramics/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92460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11284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008680" y="3429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96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74674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70545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70866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046400" y="41148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114440" y="411300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046400" y="592776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113000" y="592596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6168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720240" y="25909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216320" y="21319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4157640" y="213372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551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55160" y="3946680"/>
            <a:ext cx="142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GC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559280" y="403848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369520" y="17524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Ex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8" name=""/>
          <p:cNvGraphicFramePr/>
          <p:nvPr/>
        </p:nvGraphicFramePr>
        <p:xfrm>
          <a:off x="4094280" y="1447920"/>
          <a:ext cx="990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4280" y="144792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0" name=""/>
          <p:cNvSpPr/>
          <p:nvPr/>
        </p:nvSpPr>
        <p:spPr>
          <a:xfrm>
            <a:off x="4248720" y="1523880"/>
            <a:ext cx="62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5514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893880" y="13698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977760" y="13716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112840" y="167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579680" y="1828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023120" y="25750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e      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32200" y="4038480"/>
            <a:ext cx="10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1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927160" y="6080040"/>
            <a:ext cx="10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25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6552000" y="365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5195880" y="419112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0-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180040" y="60642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4-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858000" y="2131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6942240" y="213372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467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0574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0574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59056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590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>
            <a:off x="259056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553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553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>
            <a:off x="51814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518148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553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743200" y="50292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877480" y="50274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878720" y="464832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Backkup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40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72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65652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4570920" y="56991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95400" y="152280"/>
            <a:ext cx="280008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71360" y="173160"/>
            <a:ext cx="26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 IDC - BO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 Winter Street (corner First A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tham, 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:  BO2, cage 607, colo 2, rack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er ID: 069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7) 393-7878…Response Ct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162320" y="50274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1148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8862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568160" y="365760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29 (gateway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30 (admi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EB4-6E3F-40F5-8E91-30FEA12DBEE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52566-9ACF-4294-BBFD-5A2193F94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rfiel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95 Fermi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lifornia  94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863-4063…Cindy Stee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216520" y="24526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0213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8492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51039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80520" y="5256360"/>
            <a:ext cx="94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AI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2209320" y="2666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8508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0500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ai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80E-CD9C-496C-A936-DDB526D3A7B2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2EB94-3E99-443F-9E32-796129428C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mont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68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0 Stephens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lifornia  94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0) 490-0890…Frank Pickar x-2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3076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522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5019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68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510-657-4748 / 510--657-48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E0C-4153-4CFE-BE0A-5489930EF6DC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0D0D2-5406-471F-9113-5994CB7A8D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sn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RES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20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s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46080" y="6526080"/>
            <a:ext cx="69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50 South Wi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lifornia  9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265-4200…Shirley N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019-254F-4365-98D9-AF1A8B8A4A6B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D6A75-2D66-4BD1-A84A-6C2447CD8B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. Collins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80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30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53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20 Weic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  805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0) 493-6101…Ken White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t. Coll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05280" y="522612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T_COLL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3BE-4477-4B14-9E6B-176A69D0A46A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39897-233A-4806-9F3B-27567C469B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er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8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ull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171360" y="190440"/>
            <a:ext cx="257184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27160" y="228600"/>
            <a:ext cx="246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nhall Diamon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45 South Acac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 926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Marietta Finney x-2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Doug Wade x-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54-3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96080" y="6508800"/>
            <a:ext cx="118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42C-CB35-4C7F-A6B3-91B064D1E27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567BE-6E2A-4A83-A06C-2B49522249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e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84800" y="3732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1600200" y="32763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42800" y="44942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aine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965-8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e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1456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293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102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277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171360" y="17136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39760" y="22536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00 Cantre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owery Branch, GA 305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967-3954…Michael Durbin x-2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e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161520" y="487692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70-844-9305 / 770-844-9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2211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BB5-545D-480B-9ECA-3F3A80727BB9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0790D-5D96-4C0B-BA2E-C14DDD1FAC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7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317600" y="3032280"/>
            <a:ext cx="57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72840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71360" y="41904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39760" y="49680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IS Brook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47 West 16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io  441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6) 362-5614…John Karpin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CO (Brook Pa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123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2952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819520" y="1828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31720" y="167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78320" y="3778200"/>
            <a:ext cx="72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914040" y="464832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29528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219320" y="54687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6765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27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47.174.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 flipV="1">
            <a:off x="14475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CC6-A76D-41D9-90FF-E0BB900C1962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B3D6A-505B-468D-BA03-685B3D9682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mon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7277040" y="58928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589680" y="40384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6095880" y="3276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 flipV="1">
            <a:off x="1294920" y="426672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6609600" y="47228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 flipV="1">
            <a:off x="73911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4" name=""/>
          <p:cNvGrpSpPr/>
          <p:nvPr/>
        </p:nvGrpSpPr>
        <p:grpSpPr>
          <a:xfrm>
            <a:off x="3430440" y="2211480"/>
            <a:ext cx="2742840" cy="2055240"/>
            <a:chOff x="3430440" y="2211480"/>
            <a:chExt cx="2742840" cy="2055240"/>
          </a:xfrm>
        </p:grpSpPr>
        <p:sp>
          <p:nvSpPr>
            <p:cNvPr id="5075" name=""/>
            <p:cNvSpPr/>
            <p:nvPr/>
          </p:nvSpPr>
          <p:spPr>
            <a:xfrm>
              <a:off x="4879440" y="2343240"/>
              <a:ext cx="58284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" y="8149"/>
                  </a:moveTo>
                  <a:arcTo wR="10800" hR="10800" stAng="-9947431" swAng="1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" y="8149"/>
                  </a:moveTo>
                  <a:arcTo wR="10800" hR="10800" stAng="-9947431" swAng="11191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30440" y="2378160"/>
              <a:ext cx="75384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03" swAng="1245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03" swAng="12450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119480" y="2211480"/>
              <a:ext cx="758520" cy="59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1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1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462480" y="2923560"/>
              <a:ext cx="7599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3" y="21189"/>
                  </a:moveTo>
                  <a:arcTo wR="10800" hR="10800" stAng="4448044" swAng="1018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3" y="21189"/>
                  </a:moveTo>
                  <a:arcTo wR="10800" hR="10800" stAng="4448044" swAng="101835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875040" y="3385440"/>
              <a:ext cx="7527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1" y="17462"/>
                  </a:moveTo>
                  <a:arcTo wR="10800" hR="10800" stAng="2285136" swAng="1061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1" y="17462"/>
                  </a:moveTo>
                  <a:arcTo wR="10800" hR="10800" stAng="2285136" swAng="106116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533840" y="3670920"/>
              <a:ext cx="753840" cy="59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1" y="5683"/>
                  </a:moveTo>
                  <a:arcTo wR="10800" hR="10800" stAng="-1696707" swAng="13044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1" y="5683"/>
                  </a:moveTo>
                  <a:arcTo wR="10800" hR="10800" stAng="-1696707" swAng="130440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253840" y="3424320"/>
              <a:ext cx="754560" cy="5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173" swAng="13774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173" swAng="137746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339880" y="2610000"/>
              <a:ext cx="833400" cy="84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4" y="3025"/>
                  </a:moveTo>
                  <a:arcTo wR="10800" hR="10800" stAng="-8037025" swAng="13450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4" y="3025"/>
                  </a:moveTo>
                  <a:arcTo wR="10800" hR="10800" stAng="-8037025" swAng="134501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3" name=""/>
          <p:cNvSpPr/>
          <p:nvPr/>
        </p:nvSpPr>
        <p:spPr>
          <a:xfrm>
            <a:off x="3741840" y="2651040"/>
            <a:ext cx="2354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 XHGL 210664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uble Reporting: 518-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620120" y="6507000"/>
            <a:ext cx="12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71360" y="190440"/>
            <a:ext cx="23432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Engineered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Wemp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ew York  120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26-3150…Mat Coon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377-FBF2-42A7-BA6E-22D9E282A90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23D53-ED98-4BA9-B232-2EB0E186A1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18080" y="1766880"/>
            <a:ext cx="63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34960" y="441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41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417920" y="2057400"/>
          <a:ext cx="47160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2057400"/>
                    <a:ext cx="4716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0" y="4281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ST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0440" y="42051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06640" y="23763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33526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204080" y="41832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4267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543800" y="44197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4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6915960" y="38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733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43800" y="38862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3886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915240" y="466236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43800" y="49309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914880" y="5119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8720" y="5302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43800" y="546408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3800" y="54640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434664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768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800600" y="21337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69320" y="19191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19843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543800" y="20574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20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. &amp; O. Plast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24415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543800" y="25909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25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7543800" y="150984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1509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 flipH="1">
            <a:off x="5257800" y="2666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1640" y="237636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9320" y="13716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39625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724280"/>
            <a:ext cx="1981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952880"/>
            <a:ext cx="2133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209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209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578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57800" y="1600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E9D-87B3-4452-A321-E40D6AA9DF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AB8AD-1A93-4EAE-A568-D82AF20AE2B8}" type="datetime1">
              <a:rPr lang="en-US"/>
              <a:t>07/29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wood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09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y. 27  &amp; Hwy. 8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kansas  719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0) 356-3423…Butch Cow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70) 356-46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4812-165B-42CA-AF98-BA35CCED260D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287BD-3EE4-4981-BA60-6B4AA9FD87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 Rapid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1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1219320" y="5638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296400" y="4676760"/>
            <a:ext cx="87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and Rapi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70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286884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9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901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Ra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09520" y="244440"/>
            <a:ext cx="236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a Softwar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60 Corporate Grove Boulevard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  49512-5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974-8558…Kevin Kn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285-3311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423216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079880" y="464832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156200" y="466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ushah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3355200" y="510552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 flipH="1">
            <a:off x="4536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514656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8420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V="1">
            <a:off x="468936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49942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953960" y="5105520"/>
            <a:ext cx="718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.224.1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407988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 flipV="1">
            <a:off x="484164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051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209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962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657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7DD-1F02-431E-B071-8AEFB9AD9529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4C151-4963-4930-9AA0-4DAC654DD6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nnell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2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inn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GRI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0534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306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inn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inyl Build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ustria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owa  50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5) 236-7505…Dave Chizek x-3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0232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5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4A8-3DF3-400B-8276-CD38C6704247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5EAFB-C195-48CD-9BBF-AA066DE2B6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erstown, Mary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30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gerstow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gers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0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71360" y="190440"/>
            <a:ext cx="23241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0440" y="216000"/>
            <a:ext cx="2324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or Lane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state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aryland  217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1) 223-7900…Bill Fischer x-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7880" y="518148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AGERS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0FA-C722-4923-9C12-8B30112AF8EB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9AE4A-4596-4AA5-A1ED-DE3860E5AF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536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961280" y="2522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BYNN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538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71360" y="190440"/>
            <a:ext cx="24764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14560" y="206280"/>
            <a:ext cx="241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Beach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  L8L 7Y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Devlin x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John Richards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Spencer x-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i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6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93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6462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39900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E58-F2E0-4108-9183-E112E388AB69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084B3-2707-4CCA-AD38-DE97CD4E70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mond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43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0 Shef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diana  46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9) 937-2650…Mike Rags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C5C-DF52-46F9-8D1D-88EA24D82408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8912C-F67E-42EA-B42F-A9F9878052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nder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550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430-8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421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nder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28600" y="525636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5000" y="4191120"/>
            <a:ext cx="10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Facet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  27536-5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430-3614…Jack He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9EC-A50C-46B0-9C5E-E1D1555B6BBD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7B96B-1EC3-4919-B50D-889C72ED6E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itage, Tennessee - cancelled 4/30/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7543800" y="6507000"/>
            <a:ext cx="12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171360" y="190440"/>
            <a:ext cx="24004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90440" y="216000"/>
            <a:ext cx="240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16 Central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ennessee  37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89-2673…Kathy K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74-9170…Sandra Bennet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2811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427680" y="511344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1301760" y="2590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1375200" y="26528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043360" y="28335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009920" y="5936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7296120" y="9507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666200" y="1447920"/>
            <a:ext cx="1825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354480" y="1677960"/>
            <a:ext cx="2133000" cy="2742840"/>
            <a:chOff x="3354480" y="1677960"/>
            <a:chExt cx="2133000" cy="2742840"/>
          </a:xfrm>
        </p:grpSpPr>
        <p:sp>
          <p:nvSpPr>
            <p:cNvPr id="5600" name=""/>
            <p:cNvSpPr/>
            <p:nvPr/>
          </p:nvSpPr>
          <p:spPr>
            <a:xfrm>
              <a:off x="4480920" y="1852560"/>
              <a:ext cx="45576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354480" y="1898640"/>
              <a:ext cx="586440" cy="80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889440" y="1677960"/>
              <a:ext cx="5900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379680" y="2628360"/>
              <a:ext cx="58968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699000" y="3245760"/>
              <a:ext cx="5875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211640" y="3627000"/>
              <a:ext cx="5871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773240" y="3293640"/>
              <a:ext cx="587520" cy="79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8400" y="2206800"/>
              <a:ext cx="649080" cy="11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5410080" y="26668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41136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7070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08360" y="2087640"/>
            <a:ext cx="12002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6210720" y="1676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7620120" y="1371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70700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H="1">
            <a:off x="5334120" y="32004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2400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H="1">
            <a:off x="716256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93964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878080" y="26668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7772400" y="161460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867280" y="31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601596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98536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24D-3AA4-456A-B79C-E73D3ADAEB1B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27EB5-C410-4DA2-B98E-3769D113B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point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3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H="1">
            <a:off x="175212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poi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7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8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11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08440" y="244440"/>
            <a:ext cx="231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1 Brev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 27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94…Bob Lodding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84…Brenda Drig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E50-9406-4FC7-B64F-3A1FDC131501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4A5DE-7F93-4CB5-AE0E-0773D3F58C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9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339920" y="2895480"/>
            <a:ext cx="52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515640" y="365616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96332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1360" y="419040"/>
            <a:ext cx="25527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9760" y="49680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55 Paces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eorgia  30339-4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Kevin Hsiao x-113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network ops x-825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5867280" y="6554880"/>
            <a:ext cx="29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 (The Home De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02428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.3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2952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895480" y="1828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30240" y="16765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1656360" y="38098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53352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3352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roduc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9907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16640" y="519588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4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H="1" flipV="1">
            <a:off x="8380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09480" y="5029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10699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5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 flipH="1" flipV="1">
            <a:off x="19047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205740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2212200" y="5195880"/>
            <a:ext cx="83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0.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 flipH="1" flipV="1">
            <a:off x="299052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14316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68596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68596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60020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523880" y="5468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A9B-4DCC-47C7-8B57-4A7404D1925C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CF3E6-C873-4D85-B474-E368604744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1680" y="3016080"/>
            <a:ext cx="13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320" y="1981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top, P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240" y="6095880"/>
            <a:ext cx="18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quehoning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595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 (Molded 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5653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Molded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4797360"/>
          <a:ext cx="241560" cy="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973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81080" y="388296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29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81080" y="4187880"/>
          <a:ext cx="24156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878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20968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4800240"/>
            <a:ext cx="198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6934320" y="44928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492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934320" y="571176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711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934320" y="54072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407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934320" y="510228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5102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934320" y="479736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4797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V="1">
            <a:off x="2209680" y="4952520"/>
            <a:ext cx="198144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09680" y="5105160"/>
            <a:ext cx="20574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09680" y="5181120"/>
            <a:ext cx="213372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5181480"/>
            <a:ext cx="19814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105520"/>
            <a:ext cx="198144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4952880"/>
            <a:ext cx="18288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181120" y="4800240"/>
            <a:ext cx="17528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81120" y="4568760"/>
            <a:ext cx="1752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181120" y="4264200"/>
            <a:ext cx="17528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34320" y="35784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578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295128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29512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457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hens, G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nton, IA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3959280"/>
            <a:ext cx="190512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029200" y="3654360"/>
            <a:ext cx="190512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30481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209680" y="4264200"/>
            <a:ext cx="19051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23880" y="43736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35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35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83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3400" y="5715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10080" y="57387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97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9720" y="46782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9720" y="38401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9720" y="4419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657600" y="5407200"/>
            <a:ext cx="990720" cy="6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Bay Networ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981080" y="4492800"/>
          <a:ext cx="24156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4492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3360" y="4433760"/>
            <a:ext cx="1841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las, TX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320" y="7761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981080" y="5407200"/>
          <a:ext cx="241560" cy="9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5407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981080" y="571176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57117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968480" y="601992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6848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238880" y="56386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centia, C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53341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chmond, V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41148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934320" y="298944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2989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934320" y="3882960"/>
          <a:ext cx="24120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3882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7238880" y="38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co, TX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81080" y="2057400"/>
          <a:ext cx="24156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2057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7238880" y="47242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934320" y="4187880"/>
          <a:ext cx="24120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34320" y="41878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6309720" y="4114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3880" y="38401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9720" y="46782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09680" y="160020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3800" y="5745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097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82120" y="31384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3824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ffalo, NY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24840" y="59403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oria, IL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981080" y="2362320"/>
          <a:ext cx="24156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2362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6320" y="47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, KS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61102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 (S-G Gla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416400" y="5999040"/>
          <a:ext cx="46980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16400" y="599904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876920" y="5334120"/>
            <a:ext cx="205740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097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5029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eoville, IL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981080" y="1752480"/>
          <a:ext cx="24156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17524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423520" y="2011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5043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ke Charles, LA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34320" y="601668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6016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6309720" y="3581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5053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09680" y="1447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09680" y="533376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8480" y="3807000"/>
          <a:ext cx="1219320" cy="17524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038480" y="38070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204080" y="4332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84960" y="2863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32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105520" y="3959280"/>
            <a:ext cx="182880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29098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Ann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57280" y="268128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6760" y="5715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24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800600" y="990720"/>
          <a:ext cx="1219320" cy="1066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800600" y="990720"/>
                    <a:ext cx="1219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 flipH="1">
            <a:off x="4724280" y="1981080"/>
            <a:ext cx="6098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98720" y="1139760"/>
          <a:ext cx="241200" cy="98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1998720" y="1139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98720" y="530280"/>
          <a:ext cx="241200" cy="98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998720" y="530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2209680" y="914400"/>
            <a:ext cx="1905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998720" y="144468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998720" y="1444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51600" y="206856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951600" y="206856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6934320" y="1461960"/>
          <a:ext cx="241200" cy="9864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934320" y="1461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51600" y="2678040"/>
          <a:ext cx="241200" cy="986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51600" y="26780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951600" y="237348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951600" y="2373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 flipV="1">
            <a:off x="2227320" y="1294920"/>
            <a:ext cx="19810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371600"/>
            <a:ext cx="990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67280" y="1219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90960" y="91440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714640" y="6094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209680" y="609480"/>
            <a:ext cx="152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15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15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41160" y="1066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7360" y="2239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7720" y="10666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77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998720" y="835200"/>
          <a:ext cx="241200" cy="982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98720" y="835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256520" y="26193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ks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7049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951600" y="176364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951600" y="17636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3277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2040" y="1706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676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 (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56520" y="231444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320" y="2590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8384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6520" y="20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Tech Ce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67920" y="26812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1080" y="2666880"/>
          <a:ext cx="241560" cy="986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981080" y="2666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17640" y="29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Unis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8320" y="54864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81080" y="2971800"/>
          <a:ext cx="241560" cy="982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981080" y="2971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4920" y="2286000"/>
            <a:ext cx="187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Kansas City, MO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38880" y="44337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473800" y="6019920"/>
          <a:ext cx="241200" cy="9828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47380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76320" y="108108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138600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sno (I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56520" y="13860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6934320" y="1157400"/>
          <a:ext cx="241200" cy="9828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6934320" y="11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7256520" y="10810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ggerstown, MD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934320" y="852480"/>
          <a:ext cx="241200" cy="9828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934320" y="852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7256520" y="7761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innell, Io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6934320" y="533520"/>
          <a:ext cx="241200" cy="9828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6934320" y="533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7256520" y="457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burn, 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76720" y="990720"/>
          <a:ext cx="1218960" cy="10666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76720" y="990720"/>
                    <a:ext cx="1218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353592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82880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024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09680" y="1752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33720" y="19051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33720" y="1904760"/>
            <a:ext cx="167616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93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9360" y="1477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39360" y="2286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9360" y="2514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55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15238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866920" y="16765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714640" y="1752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638320" y="182880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5920" y="19810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25920" y="17524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920" y="1523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231-2D40-41A6-B2A5-04007DA344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099CA-AD48-4BB3-A3FA-5B6AFF0CF0D0}" type="datetime1">
              <a:rPr lang="en-US"/>
              <a:t>07/29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ton, Texas (cancelled 4/24/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68508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09120" y="492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27880" y="4164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3) 840-89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7848720" y="650700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71360" y="190440"/>
            <a:ext cx="240048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248040" y="223920"/>
            <a:ext cx="220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20 Wood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 770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627-7667…Judy Webb x-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608…Judy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815…Rodney 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768…Tom Po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612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50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313128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3-843-9094 / 713-843-90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755000" y="2986200"/>
            <a:ext cx="150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HST00-3203509 (12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579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C9D-584E-42DB-830B-38B5A2F6A80E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6BDC7-9067-4C98-ADD0-3EEA640D14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ersvill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5825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ile 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te 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Commerce Cent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, North Carolina  280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875-7277…Valerie Jack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70F-CB4A-4C63-A030-0E022896E0EC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5982E-DD65-42D0-ACAC-6BE9CED4C4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s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5892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0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208960" y="5027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 Cap Adki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  35803-97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883-5000 x-224…Scott Jezior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09268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6194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1980720" y="4876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3165480" y="4738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256) 880-94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165480" y="4495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256) 880-50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FA8-684B-4402-8EEA-C83E1E882A08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0F65E-AE9F-460E-B8E0-384E0D9FCA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anapolis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1" name=""/>
          <p:cNvGrpSpPr/>
          <p:nvPr/>
        </p:nvGrpSpPr>
        <p:grpSpPr>
          <a:xfrm>
            <a:off x="3657600" y="1295280"/>
            <a:ext cx="1905840" cy="2895120"/>
            <a:chOff x="3657600" y="1295280"/>
            <a:chExt cx="1905840" cy="2895120"/>
          </a:xfrm>
        </p:grpSpPr>
        <p:sp>
          <p:nvSpPr>
            <p:cNvPr id="5952" name=""/>
            <p:cNvSpPr/>
            <p:nvPr/>
          </p:nvSpPr>
          <p:spPr>
            <a:xfrm>
              <a:off x="466452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760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13568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67992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96540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42332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2480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384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98988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72428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48640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7242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410080" y="3276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7543800" y="787320"/>
            <a:ext cx="88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37688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38098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733920" y="4387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33720" y="4952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 flipV="1">
            <a:off x="2971800" y="4952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7762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7132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171360" y="171360"/>
            <a:ext cx="2552760" cy="135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239760" y="212760"/>
            <a:ext cx="250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P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diana  46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20…Steve Brad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09…Neil Culpe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03-6974…Steve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79-4259…Neil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4197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7) 839-19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3817440" y="4800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17-839-6857 / 317-839-68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17-839-8214 / 317-839-8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355200" y="5257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49948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47068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7808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75208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06668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0695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116000" y="254628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165204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1116000" y="2851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172548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1116000" y="3079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142164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40256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236232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 flipV="1">
            <a:off x="144792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1A1-68FA-49AA-BC6E-86DC8DA46ADE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3D86F-F380-4FB1-B350-71D468F114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Quartz Interna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03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Quartz Interna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80 Tr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323-0442…Sharon 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9-15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3365280" y="49672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972) 929-9887 / 972-929-44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187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24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FE5-2E53-40C7-98EF-E82CCA2F1416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22ED3-2403-485B-AE12-B6EF8D5AA9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67480" y="6512040"/>
            <a:ext cx="135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860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13372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5024 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71360" y="399960"/>
            <a:ext cx="24004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1840" y="453960"/>
            <a:ext cx="2282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25 N, MacArthur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5…Barry Deram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3…Wesley 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715000" y="1066680"/>
            <a:ext cx="288288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5956200" y="11271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8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205704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880240" y="1828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5880240" y="2133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880240" y="1371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880240" y="1523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88024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80240" y="1981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410080" y="30481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5410080" y="3336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410080" y="3489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5638680" y="228600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410080" y="32004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8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0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6141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988440" y="1812960"/>
            <a:ext cx="11894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399680" y="2362320"/>
            <a:ext cx="71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6910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13696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359160" y="495288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2-756-9616 / 972--756-95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7E4-D37A-4239-9C37-F2BAEFF78EBE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E45EB-140F-42FB-957B-FECFF14CD3CF}" type="datetime1">
              <a:rPr lang="en-US"/>
              <a:t>07/29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1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57200" y="5181480"/>
            <a:ext cx="9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1_JACK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87F-455B-4FCF-B981-5B3F4EAF343E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CFDBB-E151-41B9-A825-9745BE9CD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22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82080" y="4067280"/>
            <a:ext cx="114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4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06816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34320" y="6526080"/>
            <a:ext cx="19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171360" y="190440"/>
            <a:ext cx="23241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04200" y="5181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TECH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900-A4C4-433C-B811-186C6057CCBD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000C3-3492-48B3-9E2D-E0E5AD2BA5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ville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280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4) 413-56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7238880" y="652608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838080" y="585144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28600" y="52578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JACKSONV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2032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43 Canad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orida  32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4) 757-9600…Jan Mi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024-770B-4998-B0B9-430F75F01BF0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7D9FA-A000-4620-8479-766A454B91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3278160" y="1373040"/>
            <a:ext cx="2284200" cy="3350880"/>
            <a:chOff x="3278160" y="1373040"/>
            <a:chExt cx="2284200" cy="3350880"/>
          </a:xfrm>
        </p:grpSpPr>
        <p:sp>
          <p:nvSpPr>
            <p:cNvPr id="6336" name=""/>
            <p:cNvSpPr/>
            <p:nvPr/>
          </p:nvSpPr>
          <p:spPr>
            <a:xfrm>
              <a:off x="4487040" y="1587600"/>
              <a:ext cx="486360" cy="8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278160" y="1644480"/>
              <a:ext cx="627840" cy="9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852720" y="1373040"/>
              <a:ext cx="633240" cy="9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305160" y="2533320"/>
              <a:ext cx="633960" cy="97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49680" y="3288600"/>
              <a:ext cx="627840" cy="9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197240" y="3754080"/>
              <a:ext cx="628560" cy="96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798800" y="3350520"/>
              <a:ext cx="628560" cy="97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868280" y="2021040"/>
              <a:ext cx="694080" cy="137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4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09440" y="399096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124200" y="5342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flipH="1">
            <a:off x="990720" y="50292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905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272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7848720" y="2666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5635080" y="24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571720" y="26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118720" y="41432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78487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41136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478296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71360" y="190440"/>
            <a:ext cx="26290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52360" y="216000"/>
            <a:ext cx="256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 Funs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ansas  66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3) 342-6624…Richard Charles x-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19440" y="338148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5410080" y="3200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635080" y="2986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604480" y="326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78296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6934320" y="3200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5691600" y="4219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12976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11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0977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5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4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3866040" y="20113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FAF-49D5-4D46-819F-3AEE2E24243D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BB7D5-583B-40CB-8DF4-FD59778177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38:45Z</dcterms:created>
  <dc:creator>Jerry Cormier</dc:creator>
  <dc:description/>
  <dc:language>en-US</dc:language>
  <cp:lastModifiedBy>Jerry Cormier</cp:lastModifiedBy>
  <cp:lastPrinted>2000-04-11T13:09:50Z</cp:lastPrinted>
  <dcterms:modified xsi:type="dcterms:W3CDTF">2001-04-20T13:30:42Z</dcterms:modified>
  <cp:revision>487</cp:revision>
  <dc:subject>Network Schematics</dc:subject>
  <dc:title>Network Hub - BENSENVILLE</dc:title>
</cp:coreProperties>
</file>