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D09-77C1-4E9D-AD35-52C634CE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7D7-D0CB-4006-88F6-751F9CB7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4CB-0664-4657-8030-9C275C1F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A31-CAC0-48F9-84BA-078F6211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597-BBB2-4570-802F-999C003D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291-823A-4E83-848F-0C705CD9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17A-E927-4897-A390-1516D43A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6AC-6474-41F5-95B4-BBDC39FE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8C4-EC7B-467C-997E-A75F686B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298-28AC-4F7E-8743-C7C16B5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29A-2385-49FC-984C-C51586C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717-5B45-49EE-B8A6-8B80C0E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49C9-34FA-42C2-99B0-3C663C36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0"/>
          <a:ext cx="7543800" cy="66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54380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5141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05740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463 et pr0n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lancher dev/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n ti mot des intéressé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hacking</a:t>
            </a:r>
            <a:br>
              <a:rPr sz="4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( sploits and sec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2057400"/>
            <a:ext cx="723888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obablement à la st-valentin 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(cut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rrection individuelle (pas l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u moins 70%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aintenant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concurrent : madquebec, LJNB: dead, essayer de remplacer en bouffant les articles via L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; design : 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diffé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 aboutus database exploits products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projects services doors ju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: submis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WiL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edied      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BSD, speed++, P3 500, 2 NS (NT+B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membres enh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Cas pyrof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438280"/>
            <a:ext cx="7620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xemple IGA / TSA (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as juste Mulder pis Patoff ( Nuclear, TheDamned pis un autre (si on aurait pas défacé le site on l’aurait su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Section phreak déficiante du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oyen d’aller chercher ça ailleu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321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13372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oublie la sod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e sont pas des f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T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va aller les voir pis les j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Times New Roman"/>
              </a:rPr>
              <a:t>T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643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r Wyzeman et LastCall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3" name="happy2003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h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as pyrofreak (fusio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mi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uxième eZine sept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roisième eZine déc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ext eZine ??? DEM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05740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HE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509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4048200"/>
            <a:ext cx="397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22860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41960" y="4624560"/>
            <a:ext cx="3902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92468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246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4800600"/>
            <a:ext cx="3824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3-01-18T19:40:58Z</dcterms:modified>
  <cp:revision>24</cp:revision>
  <dc:subject/>
  <dc:title>Présentation PowerPoint</dc:title>
</cp:coreProperties>
</file>